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2CB6-3D62-43F7-A2C4-704533FF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D429-68BB-49A1-BC93-75E064FE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D9C-FE17-4D05-9B75-173BFF20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3878-5D61-41FA-8DD0-AAFD975B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873A-41B0-4339-AF9E-B89DB4CE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F21D-9766-41C9-B4EF-4F75591B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526D-275C-40B0-BAF1-7C2021A3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CC02-9D51-44B3-9991-0F995E5C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435F-2D5C-4684-9A38-B4CFDB4A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6902-61A5-4C2B-80D2-2A43409C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694E-EBA8-45E5-A0E4-0382A088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57B9-75C5-4203-A1E3-E7468528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5679-F39F-4816-A8FB-1BAFF6E74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54360" y="423720"/>
            <a:ext cx="52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 Egységes Integrált Információs Ren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6680" y="981000"/>
            <a:ext cx="8377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améter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1303200"/>
            <a:ext cx="151128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gosultság kezel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1592280"/>
            <a:ext cx="151128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aplózások lekérdezé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6320" y="2046240"/>
            <a:ext cx="5907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2335320"/>
            <a:ext cx="13687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ódszótá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47640" y="2611440"/>
            <a:ext cx="13687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használó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47640" y="3284640"/>
            <a:ext cx="13687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ner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3560760"/>
            <a:ext cx="13687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atlan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47640" y="3836880"/>
            <a:ext cx="13687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pület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47640" y="4111560"/>
            <a:ext cx="13687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kás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4386240"/>
            <a:ext cx="13687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m lakás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4995720"/>
            <a:ext cx="13687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Mozgásnem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5589720"/>
            <a:ext cx="13687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ru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57360" y="6215040"/>
            <a:ext cx="13683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zonylat típus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5931000"/>
            <a:ext cx="13687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ra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50880" y="6486480"/>
            <a:ext cx="13557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kumentum sablon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14920" y="981000"/>
            <a:ext cx="230508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m lakás szerződések, megállapodás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268280"/>
            <a:ext cx="157140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előkészí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02280" y="2173320"/>
            <a:ext cx="15843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02280" y="2462040"/>
            <a:ext cx="15717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módosí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02280" y="2778120"/>
            <a:ext cx="15843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felmond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6000" y="4645080"/>
            <a:ext cx="157140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resí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17800" y="4630680"/>
            <a:ext cx="13525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adás számlázásho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02280" y="3397320"/>
            <a:ext cx="15843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yiség bőví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02280" y="4030560"/>
            <a:ext cx="1584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gcím nélküli helyiség használ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2000" y="3078000"/>
            <a:ext cx="15843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bérletezte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47640" y="5300640"/>
            <a:ext cx="13687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rucso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47640" y="2922480"/>
            <a:ext cx="13687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vezeti egysé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02280" y="3706920"/>
            <a:ext cx="15843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gyedi megállapodás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157140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szignál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1844640"/>
            <a:ext cx="157140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aláír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54360" y="423720"/>
            <a:ext cx="52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 Egységes Integrált Információs Ren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1125360"/>
            <a:ext cx="151128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6560" y="1433520"/>
            <a:ext cx="15843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2560" y="1754280"/>
            <a:ext cx="15843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ókönyv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2560" y="2076480"/>
            <a:ext cx="15843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állítás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08000" y="2421000"/>
            <a:ext cx="15843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jövő ir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4000" y="2781360"/>
            <a:ext cx="15843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kezte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3068640"/>
            <a:ext cx="15843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8000" y="3429000"/>
            <a:ext cx="15843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menő ir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08000" y="3789360"/>
            <a:ext cx="15843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lső ir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8000" y="4127400"/>
            <a:ext cx="15843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állalkozási szerződé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1280" y="90792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43280" y="476280"/>
            <a:ext cx="95544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améter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24360" y="476280"/>
            <a:ext cx="718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16360" y="476280"/>
            <a:ext cx="93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kás szerződé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34080" y="476280"/>
            <a:ext cx="955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m lakás szerződé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8560" y="2811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12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12440" y="1262160"/>
            <a:ext cx="174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gosultságok lekérdezé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20160" y="1262160"/>
            <a:ext cx="16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aplózások lekérdezé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47640" y="981000"/>
            <a:ext cx="3745080" cy="1008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4920" y="476280"/>
            <a:ext cx="955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adás számlázásho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90792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76280"/>
            <a:ext cx="95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améter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24360" y="476280"/>
            <a:ext cx="718920" cy="368280"/>
          </a:xfrm>
          <a:prstGeom prst="rect">
            <a:avLst/>
          </a:prstGeom>
          <a:solidFill>
            <a:srgbClr val="ffcc00">
              <a:alpha val="7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16360" y="476280"/>
            <a:ext cx="93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kás szerződé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34080" y="476280"/>
            <a:ext cx="955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m lakás szerződé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9280" y="28116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OW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92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9360" y="1052640"/>
            <a:ext cx="8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ódszótá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65240" y="1046160"/>
            <a:ext cx="8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ner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58760" y="1303200"/>
            <a:ext cx="10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használó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4440" y="981000"/>
            <a:ext cx="2448000" cy="1008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7120" y="1303200"/>
            <a:ext cx="14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vezeti egység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0664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60080" y="1060560"/>
            <a:ext cx="8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atlan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85960" y="1054080"/>
            <a:ext cx="7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pület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58280" y="1305000"/>
            <a:ext cx="7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kás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95320" y="1305000"/>
            <a:ext cx="10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m lakás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35160" y="988920"/>
            <a:ext cx="2448000" cy="1008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3640" y="1052640"/>
            <a:ext cx="109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Mozgásnem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92720" y="1046160"/>
            <a:ext cx="90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rucso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30040" y="1297080"/>
            <a:ext cx="12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zonylat típus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80840" y="152244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ra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981000"/>
            <a:ext cx="2879640" cy="1008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30760" y="1527120"/>
            <a:ext cx="15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kumentum sablon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0092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32720" y="476280"/>
            <a:ext cx="95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adás számlázásho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93800" y="130032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ru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11280" y="90792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476280"/>
            <a:ext cx="95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améter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476280"/>
            <a:ext cx="718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16360" y="476280"/>
            <a:ext cx="93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kás szerződé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34080" y="476280"/>
            <a:ext cx="95580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m lakás szerződé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8560" y="2811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6280" y="936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6960" y="1052640"/>
            <a:ext cx="15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előkészí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200" y="1413000"/>
            <a:ext cx="12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aláír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98320" y="1042920"/>
            <a:ext cx="14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módosí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981000"/>
            <a:ext cx="2808360" cy="1008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0092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84920" y="476280"/>
            <a:ext cx="955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adás számlázásho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89960" y="1403280"/>
            <a:ext cx="14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felmond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15000" y="933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2920" y="1039680"/>
            <a:ext cx="89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720" y="1052640"/>
            <a:ext cx="13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lyiség bővítés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érbeszámítá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32000" y="981000"/>
            <a:ext cx="2519640" cy="1008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68920" y="933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2600" y="1477800"/>
            <a:ext cx="13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gcím nélkül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lyiség használ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62160" y="1042920"/>
            <a:ext cx="11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bérleteztet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55640" y="1050840"/>
            <a:ext cx="14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szignál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24360" y="981000"/>
            <a:ext cx="2519640" cy="1008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3840" y="1484280"/>
            <a:ext cx="1179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gyed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gállapodás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3T14:52:30Z</dcterms:created>
  <dc:creator>B--e--n</dc:creator>
  <dc:description/>
  <dc:language>en-US</dc:language>
  <cp:lastModifiedBy>Mariann</cp:lastModifiedBy>
  <dcterms:modified xsi:type="dcterms:W3CDTF">2013-09-20T01:40:47Z</dcterms:modified>
  <cp:revision>26</cp:revision>
  <dc:subject/>
  <dc:title>1. dia</dc:title>
</cp:coreProperties>
</file>