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32BD-16E2-4E4B-93AE-7076BF104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05BE-802D-42A7-B6F3-5D9136BC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42DC-849C-4DAA-8D0B-A93F89212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4B28-3FFC-43E6-85C1-160794DF3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30B2-C017-4750-92E3-19466367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DB03-466E-46D2-B3E8-73D6DC54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2E25-0D14-445D-9578-44C77D93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CA64-CEC0-43BF-95C8-727275F4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7138-6A0D-4B5B-AADD-3371202A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5AD9-0B76-4E52-AC4F-5F62C614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8DE3-2DB1-43D1-9440-69A84BA0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71DC-DFD3-41FE-985D-03D6E35F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0B31-565C-41FF-BA3B-9377A063E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115920"/>
            <a:ext cx="9114840" cy="3431520"/>
            <a:chOff x="0" y="115920"/>
            <a:chExt cx="9114840" cy="3431520"/>
          </a:xfrm>
        </p:grpSpPr>
        <p:sp>
          <p:nvSpPr>
            <p:cNvPr id="42" name=""/>
            <p:cNvSpPr/>
            <p:nvPr/>
          </p:nvSpPr>
          <p:spPr>
            <a:xfrm>
              <a:off x="480960" y="907920"/>
              <a:ext cx="813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97080" y="455760"/>
              <a:ext cx="5954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708520" y="457200"/>
              <a:ext cx="792360" cy="368280"/>
            </a:xfrm>
            <a:prstGeom prst="rect">
              <a:avLst/>
            </a:prstGeom>
            <a:solidFill>
              <a:srgbClr val="ff9900">
                <a:alpha val="7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em lakás adato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763800" y="455760"/>
              <a:ext cx="5954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21160" y="460440"/>
              <a:ext cx="5954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068800" y="457200"/>
              <a:ext cx="5954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553080" y="455760"/>
              <a:ext cx="5954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202520" y="455760"/>
              <a:ext cx="5954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35280" y="1235160"/>
              <a:ext cx="545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Övez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23960" y="1522440"/>
              <a:ext cx="743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örzsszá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33720" y="1803240"/>
              <a:ext cx="1288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elyiség rendeltetés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>
              <a:hlinkClick r:id="" action="ppaction://hlinkshowjump?jump=previousslide"/>
            </p:cNvPr>
            <p:cNvSpPr/>
            <p:nvPr/>
          </p:nvSpPr>
          <p:spPr>
            <a:xfrm rot="16200000">
              <a:off x="3061440" y="1787760"/>
              <a:ext cx="215640" cy="287280"/>
            </a:xfrm>
            <a:custGeom>
              <a:avLst/>
              <a:gdLst>
                <a:gd name="textAreaLeft" fmla="*/ 13680 w 215640"/>
                <a:gd name="textAreaRight" fmla="*/ 201960 w 215640"/>
                <a:gd name="textAreaTop" fmla="*/ 13680 h 287280"/>
                <a:gd name="textAreaBottom" fmla="*/ 273600 h 287280"/>
              </a:gdLst>
              <a:ahLst/>
              <a:rect l="textAreaLeft" t="textAreaTop" r="textAreaRight" b="textAreaBottom"/>
              <a:pathLst>
                <a:path w="21600" h="28764">
                  <a:moveTo>
                    <a:pt x="0" y="0"/>
                  </a:moveTo>
                  <a:lnTo>
                    <a:pt x="21600" y="0"/>
                  </a:lnTo>
                  <a:lnTo>
                    <a:pt x="21600" y="28764"/>
                  </a:lnTo>
                  <a:lnTo>
                    <a:pt x="0" y="28764"/>
                  </a:lnTo>
                  <a:close/>
                </a:path>
                <a:path fill="lightenLess" w="21600" h="28764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8764">
                  <a:moveTo>
                    <a:pt x="21600" y="0"/>
                  </a:moveTo>
                  <a:lnTo>
                    <a:pt x="21600" y="28764"/>
                  </a:lnTo>
                  <a:lnTo>
                    <a:pt x="20200" y="27364"/>
                  </a:lnTo>
                  <a:lnTo>
                    <a:pt x="20200" y="1400"/>
                  </a:lnTo>
                  <a:close/>
                </a:path>
                <a:path fill="darkenLess" w="21600" h="28764">
                  <a:moveTo>
                    <a:pt x="21600" y="28764"/>
                  </a:moveTo>
                  <a:lnTo>
                    <a:pt x="0" y="28764"/>
                  </a:lnTo>
                  <a:lnTo>
                    <a:pt x="1400" y="27364"/>
                  </a:lnTo>
                  <a:lnTo>
                    <a:pt x="20200" y="27364"/>
                  </a:lnTo>
                  <a:close/>
                </a:path>
                <a:path fill="lighten" w="21600" h="28764">
                  <a:moveTo>
                    <a:pt x="0" y="28764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7364"/>
                  </a:lnTo>
                  <a:close/>
                </a:path>
                <a:path fill="darken" w="21600" h="28764">
                  <a:moveTo>
                    <a:pt x="3794" y="14382"/>
                  </a:moveTo>
                  <a:lnTo>
                    <a:pt x="17806" y="7376"/>
                  </a:lnTo>
                  <a:lnTo>
                    <a:pt x="17806" y="21388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89040" y="1258920"/>
              <a:ext cx="1440000" cy="23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Lb_korzet_id/korzet_kod</a:t>
              </a:r>
              <a:r>
                <a:rPr b="0" lang="hu-HU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Q449,kodmegne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85800" y="1536840"/>
              <a:ext cx="144000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albetet/lb_torzssza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560600" y="1844640"/>
              <a:ext cx="143964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albetet/lb_rendeltetes_ko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Q44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>
              <a:hlinkClick r:id="" action="ppaction://hlinkshowjump?jump=previousslide"/>
            </p:cNvPr>
            <p:cNvSpPr/>
            <p:nvPr/>
          </p:nvSpPr>
          <p:spPr>
            <a:xfrm rot="16200000">
              <a:off x="5798160" y="1496160"/>
              <a:ext cx="216000" cy="287280"/>
            </a:xfrm>
            <a:custGeom>
              <a:avLst/>
              <a:gdLst>
                <a:gd name="textAreaLeft" fmla="*/ 13680 w 216000"/>
                <a:gd name="textAreaRight" fmla="*/ 202320 w 216000"/>
                <a:gd name="textAreaTop" fmla="*/ 13680 h 287280"/>
                <a:gd name="textAreaBottom" fmla="*/ 273600 h 287280"/>
              </a:gdLst>
              <a:ahLst/>
              <a:rect l="textAreaLeft" t="textAreaTop" r="textAreaRight" b="textAreaBottom"/>
              <a:pathLst>
                <a:path w="21600" h="28716">
                  <a:moveTo>
                    <a:pt x="0" y="0"/>
                  </a:moveTo>
                  <a:lnTo>
                    <a:pt x="21600" y="0"/>
                  </a:lnTo>
                  <a:lnTo>
                    <a:pt x="21600" y="28716"/>
                  </a:lnTo>
                  <a:lnTo>
                    <a:pt x="0" y="28716"/>
                  </a:lnTo>
                  <a:close/>
                </a:path>
                <a:path fill="lightenLess" w="21600" h="2871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8716">
                  <a:moveTo>
                    <a:pt x="21600" y="0"/>
                  </a:moveTo>
                  <a:lnTo>
                    <a:pt x="21600" y="28716"/>
                  </a:lnTo>
                  <a:lnTo>
                    <a:pt x="20200" y="27316"/>
                  </a:lnTo>
                  <a:lnTo>
                    <a:pt x="20200" y="1400"/>
                  </a:lnTo>
                  <a:close/>
                </a:path>
                <a:path fill="darkenLess" w="21600" h="28716">
                  <a:moveTo>
                    <a:pt x="21600" y="28716"/>
                  </a:moveTo>
                  <a:lnTo>
                    <a:pt x="0" y="28716"/>
                  </a:lnTo>
                  <a:lnTo>
                    <a:pt x="1400" y="27316"/>
                  </a:lnTo>
                  <a:lnTo>
                    <a:pt x="20200" y="27316"/>
                  </a:lnTo>
                  <a:close/>
                </a:path>
                <a:path fill="lighten" w="21600" h="28716">
                  <a:moveTo>
                    <a:pt x="0" y="2871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7316"/>
                  </a:lnTo>
                  <a:close/>
                </a:path>
                <a:path fill="darken" w="21600" h="28716">
                  <a:moveTo>
                    <a:pt x="3794" y="14358"/>
                  </a:moveTo>
                  <a:lnTo>
                    <a:pt x="17806" y="7352"/>
                  </a:lnTo>
                  <a:lnTo>
                    <a:pt x="17806" y="2136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330800" y="1222200"/>
              <a:ext cx="1719000" cy="236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albetet/lb_utc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322880" y="1531800"/>
              <a:ext cx="143964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albetet/lb_tulajdonv_ko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Q43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69200" y="1222200"/>
              <a:ext cx="389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í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58080" y="1522440"/>
              <a:ext cx="1008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ulajdonviszon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711600" y="1878120"/>
              <a:ext cx="672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Üresítve?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>
              <a:hlinkClick r:id="" action="ppaction://hlinkshowjump?jump=previousslide"/>
            </p:cNvPr>
            <p:cNvSpPr/>
            <p:nvPr/>
          </p:nvSpPr>
          <p:spPr>
            <a:xfrm rot="16200000">
              <a:off x="8725680" y="1521720"/>
              <a:ext cx="216000" cy="287280"/>
            </a:xfrm>
            <a:custGeom>
              <a:avLst/>
              <a:gdLst>
                <a:gd name="textAreaLeft" fmla="*/ 13680 w 216000"/>
                <a:gd name="textAreaRight" fmla="*/ 202320 w 216000"/>
                <a:gd name="textAreaTop" fmla="*/ 13680 h 287280"/>
                <a:gd name="textAreaBottom" fmla="*/ 273600 h 287280"/>
              </a:gdLst>
              <a:ahLst/>
              <a:rect l="textAreaLeft" t="textAreaTop" r="textAreaRight" b="textAreaBottom"/>
              <a:pathLst>
                <a:path w="21600" h="28716">
                  <a:moveTo>
                    <a:pt x="0" y="0"/>
                  </a:moveTo>
                  <a:lnTo>
                    <a:pt x="21600" y="0"/>
                  </a:lnTo>
                  <a:lnTo>
                    <a:pt x="21600" y="28716"/>
                  </a:lnTo>
                  <a:lnTo>
                    <a:pt x="0" y="28716"/>
                  </a:lnTo>
                  <a:close/>
                </a:path>
                <a:path fill="lightenLess" w="21600" h="2871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8716">
                  <a:moveTo>
                    <a:pt x="21600" y="0"/>
                  </a:moveTo>
                  <a:lnTo>
                    <a:pt x="21600" y="28716"/>
                  </a:lnTo>
                  <a:lnTo>
                    <a:pt x="20200" y="27316"/>
                  </a:lnTo>
                  <a:lnTo>
                    <a:pt x="20200" y="1400"/>
                  </a:lnTo>
                  <a:close/>
                </a:path>
                <a:path fill="darkenLess" w="21600" h="28716">
                  <a:moveTo>
                    <a:pt x="21600" y="28716"/>
                  </a:moveTo>
                  <a:lnTo>
                    <a:pt x="0" y="28716"/>
                  </a:lnTo>
                  <a:lnTo>
                    <a:pt x="1400" y="27316"/>
                  </a:lnTo>
                  <a:lnTo>
                    <a:pt x="20200" y="27316"/>
                  </a:lnTo>
                  <a:close/>
                </a:path>
                <a:path fill="lighten" w="21600" h="28716">
                  <a:moveTo>
                    <a:pt x="0" y="2871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7316"/>
                  </a:lnTo>
                  <a:close/>
                </a:path>
                <a:path fill="darken" w="21600" h="28716">
                  <a:moveTo>
                    <a:pt x="3794" y="14358"/>
                  </a:moveTo>
                  <a:lnTo>
                    <a:pt x="17806" y="7352"/>
                  </a:lnTo>
                  <a:lnTo>
                    <a:pt x="17806" y="2136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6960" y="1557360"/>
              <a:ext cx="151128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albetet/lb_nemlakhaszn_j_ko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Q44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73120" y="1522440"/>
              <a:ext cx="12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em lakás használa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jogcím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9760" y="2255760"/>
              <a:ext cx="813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94040" y="2340000"/>
              <a:ext cx="1266840" cy="23112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ulajdon viszon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4760" y="2330280"/>
              <a:ext cx="1871640" cy="23112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í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032600" y="1197000"/>
              <a:ext cx="1719360" cy="23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albetet/lb_berlemeny_tipus</a:t>
              </a:r>
              <a:r>
                <a:rPr b="0" lang="hu-HU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Q4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84000" y="1216080"/>
              <a:ext cx="1011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érlemény típ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24160" y="2349360"/>
              <a:ext cx="1224000" cy="23112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ulajdoni lapszá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400720" y="2349360"/>
              <a:ext cx="963720" cy="23112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lapterül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73480" y="2349360"/>
              <a:ext cx="792000" cy="23112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örzsszá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41560" y="2708280"/>
              <a:ext cx="1224000" cy="2311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lb_tulajdonv_ko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600" y="2708280"/>
              <a:ext cx="1979640" cy="21564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lb_utca + lb_hsz + lb_emelet + lb_ajt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157640" y="2708280"/>
              <a:ext cx="1224000" cy="21564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lb_tullapsz_elej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457600" y="2708280"/>
              <a:ext cx="1032480" cy="2311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lb_alapter_okira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890120" y="2708280"/>
              <a:ext cx="1224720" cy="2311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Lb_muszaki_all_ko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13640" y="115920"/>
              <a:ext cx="105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KV EI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381840" y="168120"/>
              <a:ext cx="2256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Nem lakás adatok… (Nemlakas, view    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>
              <a:hlinkClick r:id="" action="ppaction://hlinkshowjump?jump=previousslide"/>
            </p:cNvPr>
            <p:cNvSpPr/>
            <p:nvPr/>
          </p:nvSpPr>
          <p:spPr>
            <a:xfrm rot="16200000">
              <a:off x="3107520" y="1232640"/>
              <a:ext cx="216000" cy="287280"/>
            </a:xfrm>
            <a:custGeom>
              <a:avLst/>
              <a:gdLst>
                <a:gd name="textAreaLeft" fmla="*/ 13680 w 216000"/>
                <a:gd name="textAreaRight" fmla="*/ 202320 w 216000"/>
                <a:gd name="textAreaTop" fmla="*/ 13680 h 287280"/>
                <a:gd name="textAreaBottom" fmla="*/ 273600 h 287280"/>
              </a:gdLst>
              <a:ahLst/>
              <a:rect l="textAreaLeft" t="textAreaTop" r="textAreaRight" b="textAreaBottom"/>
              <a:pathLst>
                <a:path w="21600" h="28716">
                  <a:moveTo>
                    <a:pt x="0" y="0"/>
                  </a:moveTo>
                  <a:lnTo>
                    <a:pt x="21600" y="0"/>
                  </a:lnTo>
                  <a:lnTo>
                    <a:pt x="21600" y="28716"/>
                  </a:lnTo>
                  <a:lnTo>
                    <a:pt x="0" y="28716"/>
                  </a:lnTo>
                  <a:close/>
                </a:path>
                <a:path fill="lightenLess" w="21600" h="2871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8716">
                  <a:moveTo>
                    <a:pt x="21600" y="0"/>
                  </a:moveTo>
                  <a:lnTo>
                    <a:pt x="21600" y="28716"/>
                  </a:lnTo>
                  <a:lnTo>
                    <a:pt x="20200" y="27316"/>
                  </a:lnTo>
                  <a:lnTo>
                    <a:pt x="20200" y="1400"/>
                  </a:lnTo>
                  <a:close/>
                </a:path>
                <a:path fill="darkenLess" w="21600" h="28716">
                  <a:moveTo>
                    <a:pt x="21600" y="28716"/>
                  </a:moveTo>
                  <a:lnTo>
                    <a:pt x="0" y="28716"/>
                  </a:lnTo>
                  <a:lnTo>
                    <a:pt x="1400" y="27316"/>
                  </a:lnTo>
                  <a:lnTo>
                    <a:pt x="20200" y="27316"/>
                  </a:lnTo>
                  <a:close/>
                </a:path>
                <a:path fill="lighten" w="21600" h="28716">
                  <a:moveTo>
                    <a:pt x="0" y="2871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7316"/>
                  </a:lnTo>
                  <a:close/>
                </a:path>
                <a:path fill="darken" w="21600" h="28716">
                  <a:moveTo>
                    <a:pt x="3794" y="14358"/>
                  </a:moveTo>
                  <a:lnTo>
                    <a:pt x="17806" y="7352"/>
                  </a:lnTo>
                  <a:lnTo>
                    <a:pt x="17806" y="2136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440240" y="1916280"/>
              <a:ext cx="142920" cy="144360"/>
              <a:chOff x="4440240" y="1916280"/>
              <a:chExt cx="142920" cy="144360"/>
            </a:xfrm>
          </p:grpSpPr>
          <p:sp>
            <p:nvSpPr>
              <p:cNvPr id="83" name=""/>
              <p:cNvSpPr/>
              <p:nvPr/>
            </p:nvSpPr>
            <p:spPr>
              <a:xfrm>
                <a:off x="4440240" y="1916280"/>
                <a:ext cx="142920" cy="144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475160" y="194472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4568400" y="1868400"/>
              <a:ext cx="849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albetet/lb_ur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287520" y="2708280"/>
              <a:ext cx="784080" cy="21564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lb_torzssza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773840" y="2349360"/>
              <a:ext cx="1132200" cy="23112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űszaki állapo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>
              <a:hlinkClick r:id="" action="ppaction://hlinkshowjump?jump=previousslide"/>
            </p:cNvPr>
            <p:cNvSpPr/>
            <p:nvPr/>
          </p:nvSpPr>
          <p:spPr>
            <a:xfrm rot="16200000">
              <a:off x="8725680" y="1161360"/>
              <a:ext cx="216000" cy="287280"/>
            </a:xfrm>
            <a:custGeom>
              <a:avLst/>
              <a:gdLst>
                <a:gd name="textAreaLeft" fmla="*/ 13680 w 216000"/>
                <a:gd name="textAreaRight" fmla="*/ 202320 w 216000"/>
                <a:gd name="textAreaTop" fmla="*/ 13680 h 287280"/>
                <a:gd name="textAreaBottom" fmla="*/ 273600 h 287280"/>
              </a:gdLst>
              <a:ahLst/>
              <a:rect l="textAreaLeft" t="textAreaTop" r="textAreaRight" b="textAreaBottom"/>
              <a:pathLst>
                <a:path w="21600" h="28716">
                  <a:moveTo>
                    <a:pt x="0" y="0"/>
                  </a:moveTo>
                  <a:lnTo>
                    <a:pt x="21600" y="0"/>
                  </a:lnTo>
                  <a:lnTo>
                    <a:pt x="21600" y="28716"/>
                  </a:lnTo>
                  <a:lnTo>
                    <a:pt x="0" y="28716"/>
                  </a:lnTo>
                  <a:close/>
                </a:path>
                <a:path fill="lightenLess" w="21600" h="2871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8716">
                  <a:moveTo>
                    <a:pt x="21600" y="0"/>
                  </a:moveTo>
                  <a:lnTo>
                    <a:pt x="21600" y="28716"/>
                  </a:lnTo>
                  <a:lnTo>
                    <a:pt x="20200" y="27316"/>
                  </a:lnTo>
                  <a:lnTo>
                    <a:pt x="20200" y="1400"/>
                  </a:lnTo>
                  <a:close/>
                </a:path>
                <a:path fill="darkenLess" w="21600" h="28716">
                  <a:moveTo>
                    <a:pt x="21600" y="28716"/>
                  </a:moveTo>
                  <a:lnTo>
                    <a:pt x="0" y="28716"/>
                  </a:lnTo>
                  <a:lnTo>
                    <a:pt x="1400" y="27316"/>
                  </a:lnTo>
                  <a:lnTo>
                    <a:pt x="20200" y="27316"/>
                  </a:lnTo>
                  <a:close/>
                </a:path>
                <a:path fill="lighten" w="21600" h="28716">
                  <a:moveTo>
                    <a:pt x="0" y="2871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7316"/>
                  </a:lnTo>
                  <a:close/>
                </a:path>
                <a:path fill="darken" w="21600" h="28716">
                  <a:moveTo>
                    <a:pt x="3794" y="14358"/>
                  </a:moveTo>
                  <a:lnTo>
                    <a:pt x="17806" y="7352"/>
                  </a:lnTo>
                  <a:lnTo>
                    <a:pt x="17806" y="2136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502320" y="2359080"/>
              <a:ext cx="1224000" cy="21564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lyiség rendelteté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53080" y="2708280"/>
              <a:ext cx="1260720" cy="2311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Lb_rendeltetes_ko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33640" y="3008160"/>
              <a:ext cx="1224000" cy="2311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lb_tulajdonv_ko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80" y="3008160"/>
              <a:ext cx="1979640" cy="21564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lb_utca + lb_hsz + lb_emelet + lb_ajt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149720" y="3008160"/>
              <a:ext cx="1224000" cy="21564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lb_tullapsz_elej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49680" y="3008160"/>
              <a:ext cx="1032480" cy="2311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lb_alapter_okira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882200" y="3008160"/>
              <a:ext cx="1224720" cy="2311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Lb_muszaki_all_ko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79600" y="3008160"/>
              <a:ext cx="784080" cy="21564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lb_torzssza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545160" y="3008160"/>
              <a:ext cx="1260720" cy="2311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Lb_rendeltetes_ko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28960" y="3316320"/>
              <a:ext cx="1224000" cy="2311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lb_tulajdonv_ko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3316320"/>
              <a:ext cx="1979640" cy="21564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lb_utca + lb_hsz + lb_emelet + lb_ajt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45040" y="3316320"/>
              <a:ext cx="1224000" cy="21564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lb_tullapsz_elej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44640" y="3316320"/>
              <a:ext cx="1032480" cy="2311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lb_alapter_okira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877520" y="3316320"/>
              <a:ext cx="1224720" cy="2311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Lb_muszaki_all_ko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74920" y="3316320"/>
              <a:ext cx="784080" cy="21564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lb_torzssza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540480" y="3316320"/>
              <a:ext cx="1260360" cy="2311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Lb_rendeltetes_ko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20200" y="11592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KV EI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05480" y="3852720"/>
            <a:ext cx="172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tulajdonv_ko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38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76360" y="6206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33440" y="612720"/>
            <a:ext cx="648000" cy="216000"/>
          </a:xfrm>
          <a:custGeom>
            <a:avLst/>
            <a:gdLst>
              <a:gd name="textAreaLeft" fmla="*/ 13680 w 648000"/>
              <a:gd name="textAreaRight" fmla="*/ 634320 w 648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728" h="21600">
                <a:moveTo>
                  <a:pt x="0" y="0"/>
                </a:moveTo>
                <a:lnTo>
                  <a:pt x="64728" y="0"/>
                </a:lnTo>
                <a:lnTo>
                  <a:pt x="64728" y="21600"/>
                </a:lnTo>
                <a:lnTo>
                  <a:pt x="0" y="21600"/>
                </a:lnTo>
                <a:close/>
              </a:path>
              <a:path fill="lightenLess" w="64728" h="21600">
                <a:moveTo>
                  <a:pt x="0" y="0"/>
                </a:moveTo>
                <a:lnTo>
                  <a:pt x="64728" y="0"/>
                </a:lnTo>
                <a:lnTo>
                  <a:pt x="63328" y="1400"/>
                </a:lnTo>
                <a:lnTo>
                  <a:pt x="1400" y="1400"/>
                </a:lnTo>
                <a:close/>
              </a:path>
              <a:path fill="darken" w="64728" h="21600">
                <a:moveTo>
                  <a:pt x="64728" y="0"/>
                </a:moveTo>
                <a:lnTo>
                  <a:pt x="64728" y="21600"/>
                </a:lnTo>
                <a:lnTo>
                  <a:pt x="63328" y="20200"/>
                </a:lnTo>
                <a:lnTo>
                  <a:pt x="63328" y="1400"/>
                </a:lnTo>
                <a:close/>
              </a:path>
              <a:path fill="darkenLess" w="64728" h="21600">
                <a:moveTo>
                  <a:pt x="647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8" y="20200"/>
                </a:lnTo>
                <a:close/>
              </a:path>
              <a:path fill="lighten" w="647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db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52720" y="61272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gs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73440" y="61272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örl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65800" y="61272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at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>
            <a:off x="6121440" y="61272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10800"/>
                </a:moveTo>
                <a:lnTo>
                  <a:pt x="28571" y="3794"/>
                </a:lnTo>
                <a:lnTo>
                  <a:pt x="2857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ő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6624720" y="61272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7" y="3794"/>
                </a:moveTo>
                <a:lnTo>
                  <a:pt x="28660" y="10800"/>
                </a:lnTo>
                <a:lnTo>
                  <a:pt x="146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övetke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5616720" y="61272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8065" y="10800"/>
                </a:moveTo>
                <a:lnTo>
                  <a:pt x="28571" y="3794"/>
                </a:lnTo>
                <a:lnTo>
                  <a:pt x="28571" y="17806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16220" y="3794"/>
                </a:lnTo>
                <a:lnTo>
                  <a:pt x="16220" y="17806"/>
                </a:lnTo>
                <a:lnTo>
                  <a:pt x="1455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s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lastslide"/>
          </p:cNvPr>
          <p:cNvSpPr/>
          <p:nvPr/>
        </p:nvSpPr>
        <p:spPr>
          <a:xfrm>
            <a:off x="7129440" y="61272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25153" y="10800"/>
                </a:moveTo>
                <a:lnTo>
                  <a:pt x="14647" y="17806"/>
                </a:lnTo>
                <a:lnTo>
                  <a:pt x="14647" y="3794"/>
                </a:lnTo>
                <a:close/>
              </a:path>
              <a:path fill="darken" w="43308" h="21600">
                <a:moveTo>
                  <a:pt x="26998" y="3794"/>
                </a:moveTo>
                <a:lnTo>
                  <a:pt x="26998" y="17806"/>
                </a:lnTo>
                <a:lnTo>
                  <a:pt x="28660" y="17806"/>
                </a:lnTo>
                <a:lnTo>
                  <a:pt x="28660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tols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20440" y="239760"/>
            <a:ext cx="222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Nem lakás adatok… (Nemlakas, view  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50920" y="3500280"/>
            <a:ext cx="136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tulajdoni_hany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42280" y="1476360"/>
            <a:ext cx="929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lyrajzi 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70360" y="1484280"/>
            <a:ext cx="12952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helyrajzi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4160" y="1031760"/>
            <a:ext cx="1070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zonosító adat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88120" y="1746360"/>
            <a:ext cx="48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ár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05080" y="1771560"/>
            <a:ext cx="1512720" cy="1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var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previousslide"/>
          </p:cNvPr>
          <p:cNvSpPr/>
          <p:nvPr/>
        </p:nvSpPr>
        <p:spPr>
          <a:xfrm rot="16200000">
            <a:off x="2953440" y="170748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657400" y="1752480"/>
            <a:ext cx="416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t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12000" y="1752480"/>
            <a:ext cx="1296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ut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82880" y="1752480"/>
            <a:ext cx="41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sz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740720" y="1762200"/>
            <a:ext cx="5032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ng_hs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8080" y="1738440"/>
            <a:ext cx="51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örz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63880" y="1746360"/>
            <a:ext cx="1513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b-korzet_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korzet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37,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 rot="16200000">
            <a:off x="5464800" y="1710000"/>
            <a:ext cx="215640" cy="28728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64">
                <a:moveTo>
                  <a:pt x="0" y="0"/>
                </a:moveTo>
                <a:lnTo>
                  <a:pt x="21600" y="0"/>
                </a:lnTo>
                <a:lnTo>
                  <a:pt x="21600" y="28764"/>
                </a:lnTo>
                <a:lnTo>
                  <a:pt x="0" y="28764"/>
                </a:lnTo>
                <a:close/>
              </a:path>
              <a:path fill="lightenLess" w="21600" h="28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4">
                <a:moveTo>
                  <a:pt x="21600" y="0"/>
                </a:moveTo>
                <a:lnTo>
                  <a:pt x="21600" y="28764"/>
                </a:lnTo>
                <a:lnTo>
                  <a:pt x="20200" y="27364"/>
                </a:lnTo>
                <a:lnTo>
                  <a:pt x="20200" y="1400"/>
                </a:lnTo>
                <a:close/>
              </a:path>
              <a:path fill="darkenLess" w="21600" h="28764">
                <a:moveTo>
                  <a:pt x="21600" y="28764"/>
                </a:moveTo>
                <a:lnTo>
                  <a:pt x="0" y="28764"/>
                </a:lnTo>
                <a:lnTo>
                  <a:pt x="1400" y="27364"/>
                </a:lnTo>
                <a:lnTo>
                  <a:pt x="20200" y="27364"/>
                </a:lnTo>
                <a:close/>
              </a:path>
              <a:path fill="lighten" w="21600" h="28764">
                <a:moveTo>
                  <a:pt x="0" y="28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4"/>
                </a:lnTo>
                <a:close/>
              </a:path>
              <a:path fill="darken" w="21600" h="28764">
                <a:moveTo>
                  <a:pt x="3794" y="14382"/>
                </a:moveTo>
                <a:lnTo>
                  <a:pt x="17806" y="7376"/>
                </a:lnTo>
                <a:lnTo>
                  <a:pt x="17806" y="2138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3680" y="2031840"/>
            <a:ext cx="738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épcsőhá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2060640"/>
            <a:ext cx="720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lepcsoha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11040" y="2035080"/>
            <a:ext cx="53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mel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29080" y="2060640"/>
            <a:ext cx="9349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emel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1280" y="1471680"/>
            <a:ext cx="74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zs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00040" y="1481040"/>
            <a:ext cx="1513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torzs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79880" y="232092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ulajdoni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apszám elej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97160" y="2394000"/>
            <a:ext cx="151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tullapsz_elej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52000" y="23209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ulajdoni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apszám vé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17800" y="2394000"/>
            <a:ext cx="1513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tullapsz_ve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840" y="3121200"/>
            <a:ext cx="184788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ulajdoni,vagyonkezelési adat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23400" y="3495600"/>
            <a:ext cx="1058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ulajdoni hány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19080" y="3500280"/>
            <a:ext cx="102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ulajdonos ne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34000" y="3835440"/>
            <a:ext cx="84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észtulajd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37440" y="3852720"/>
            <a:ext cx="1008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ulajdonviszo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4162320"/>
            <a:ext cx="149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ulajdonos váltás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41040" y="4508640"/>
            <a:ext cx="1070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ás kezelő szer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94000" y="4537080"/>
            <a:ext cx="135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ás kezelő szerv ne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10160" y="3500280"/>
            <a:ext cx="3313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tulajdonos_ne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50920" y="3860640"/>
            <a:ext cx="136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resztulajd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50920" y="4149720"/>
            <a:ext cx="136872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tulajvalt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00440" y="4508640"/>
            <a:ext cx="3384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maskezelo_ne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089080" y="4581360"/>
            <a:ext cx="142920" cy="144360"/>
            <a:chOff x="2089080" y="4581360"/>
            <a:chExt cx="142920" cy="144360"/>
          </a:xfrm>
        </p:grpSpPr>
        <p:sp>
          <p:nvSpPr>
            <p:cNvPr id="154" name=""/>
            <p:cNvSpPr/>
            <p:nvPr/>
          </p:nvSpPr>
          <p:spPr>
            <a:xfrm>
              <a:off x="2089080" y="4581360"/>
              <a:ext cx="1429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24000" y="460980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94560" y="4537080"/>
            <a:ext cx="884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lb_maskezel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" action="ppaction://hlinkshowjump?jump=previousslide"/>
          </p:cNvPr>
          <p:cNvSpPr/>
          <p:nvPr/>
        </p:nvSpPr>
        <p:spPr>
          <a:xfrm rot="16200000">
            <a:off x="6369840" y="382500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5080" y="2060640"/>
            <a:ext cx="37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j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81520" y="2060640"/>
            <a:ext cx="9349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aj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05480" y="4137120"/>
            <a:ext cx="1728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jogi_rendezett_ko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39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55360" y="4137120"/>
            <a:ext cx="1090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gi rendezettsé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previousslide"/>
          </p:cNvPr>
          <p:cNvSpPr/>
          <p:nvPr/>
        </p:nvSpPr>
        <p:spPr>
          <a:xfrm rot="16200000">
            <a:off x="6369840" y="410940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878120" y="1569960"/>
            <a:ext cx="1224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alapter_okir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78120" y="765000"/>
            <a:ext cx="136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nemlakhaszn_j_ko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41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4520" y="415800"/>
            <a:ext cx="11012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m lakás adat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6960" y="790560"/>
            <a:ext cx="168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m lakás használat jogcí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75240" y="1160640"/>
            <a:ext cx="128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lyiség rendelteté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0160" y="1163520"/>
            <a:ext cx="137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lyiség megnevezé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40" y="1557360"/>
            <a:ext cx="1794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apterület alapító okirat szer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46760" y="1160640"/>
            <a:ext cx="1657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rendeltetes_ko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288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08000" y="1197000"/>
            <a:ext cx="16574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megnevez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previousslide"/>
          </p:cNvPr>
          <p:cNvSpPr/>
          <p:nvPr/>
        </p:nvSpPr>
        <p:spPr>
          <a:xfrm rot="16200000">
            <a:off x="3282120" y="72936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previousslide"/>
          </p:cNvPr>
          <p:cNvSpPr/>
          <p:nvPr/>
        </p:nvSpPr>
        <p:spPr>
          <a:xfrm rot="16200000">
            <a:off x="6658560" y="1122840"/>
            <a:ext cx="216000" cy="287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640"/>
              <a:gd name="textAreaBottom" fmla="*/ 273960 h 287640"/>
            </a:gdLst>
            <a:ahLst/>
            <a:rect l="textAreaLeft" t="textAreaTop" r="textAreaRight" b="textAreaBottom"/>
            <a:pathLst>
              <a:path w="21600" h="28752">
                <a:moveTo>
                  <a:pt x="0" y="0"/>
                </a:moveTo>
                <a:lnTo>
                  <a:pt x="21600" y="0"/>
                </a:lnTo>
                <a:lnTo>
                  <a:pt x="21600" y="28752"/>
                </a:lnTo>
                <a:lnTo>
                  <a:pt x="0" y="28752"/>
                </a:lnTo>
                <a:close/>
              </a:path>
              <a:path fill="lightenLess" w="21600" h="28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52">
                <a:moveTo>
                  <a:pt x="21600" y="0"/>
                </a:moveTo>
                <a:lnTo>
                  <a:pt x="21600" y="28752"/>
                </a:lnTo>
                <a:lnTo>
                  <a:pt x="20200" y="27352"/>
                </a:lnTo>
                <a:lnTo>
                  <a:pt x="20200" y="1400"/>
                </a:lnTo>
                <a:close/>
              </a:path>
              <a:path fill="darkenLess" w="21600" h="28752">
                <a:moveTo>
                  <a:pt x="21600" y="28752"/>
                </a:moveTo>
                <a:lnTo>
                  <a:pt x="0" y="28752"/>
                </a:lnTo>
                <a:lnTo>
                  <a:pt x="1400" y="27352"/>
                </a:lnTo>
                <a:lnTo>
                  <a:pt x="20200" y="27352"/>
                </a:lnTo>
                <a:close/>
              </a:path>
              <a:path fill="lighten" w="21600" h="28752">
                <a:moveTo>
                  <a:pt x="0" y="28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52"/>
                </a:lnTo>
                <a:close/>
              </a:path>
              <a:path fill="darken" w="21600" h="28752">
                <a:moveTo>
                  <a:pt x="3794" y="14376"/>
                </a:moveTo>
                <a:lnTo>
                  <a:pt x="17806" y="7370"/>
                </a:lnTo>
                <a:lnTo>
                  <a:pt x="17806" y="2138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56120" y="1557360"/>
            <a:ext cx="1224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IKV_terul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23080" y="1506600"/>
            <a:ext cx="17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apterület IKV nyilvántartás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r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95920" y="3218040"/>
            <a:ext cx="621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Örzend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854360" y="3257640"/>
            <a:ext cx="142560" cy="144360"/>
            <a:chOff x="1854360" y="3257640"/>
            <a:chExt cx="142560" cy="144360"/>
          </a:xfrm>
        </p:grpSpPr>
        <p:sp>
          <p:nvSpPr>
            <p:cNvPr id="178" name=""/>
            <p:cNvSpPr/>
            <p:nvPr/>
          </p:nvSpPr>
          <p:spPr>
            <a:xfrm>
              <a:off x="1854360" y="3257640"/>
              <a:ext cx="1425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888920" y="328608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1959840" y="3213000"/>
            <a:ext cx="750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lb_orzen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13760" y="3948120"/>
            <a:ext cx="814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idegenít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863720" y="3997440"/>
            <a:ext cx="142920" cy="144360"/>
            <a:chOff x="1863720" y="3997440"/>
            <a:chExt cx="142920" cy="144360"/>
          </a:xfrm>
        </p:grpSpPr>
        <p:sp>
          <p:nvSpPr>
            <p:cNvPr id="183" name=""/>
            <p:cNvSpPr/>
            <p:nvPr/>
          </p:nvSpPr>
          <p:spPr>
            <a:xfrm>
              <a:off x="1863720" y="3997440"/>
              <a:ext cx="1429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898640" y="402588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1968120" y="3952800"/>
            <a:ext cx="950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lb_elidegenit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45680" y="3597120"/>
            <a:ext cx="42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863720" y="3637080"/>
            <a:ext cx="142920" cy="144360"/>
            <a:chOff x="1863720" y="3637080"/>
            <a:chExt cx="142920" cy="144360"/>
          </a:xfrm>
        </p:grpSpPr>
        <p:sp>
          <p:nvSpPr>
            <p:cNvPr id="188" name=""/>
            <p:cNvSpPr/>
            <p:nvPr/>
          </p:nvSpPr>
          <p:spPr>
            <a:xfrm>
              <a:off x="1863720" y="3637080"/>
              <a:ext cx="1429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98640" y="366552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969920" y="3592440"/>
            <a:ext cx="55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lb_u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77920" y="3594240"/>
            <a:ext cx="102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resítés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57560" y="3592440"/>
            <a:ext cx="1295640" cy="2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uresites_dat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37160" y="3962520"/>
            <a:ext cx="117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rtékesítés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76640" y="3995640"/>
            <a:ext cx="1224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eladas_dat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85240" y="3962520"/>
            <a:ext cx="916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rtékesítési á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70560" y="3995640"/>
            <a:ext cx="16574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eladas_ert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2200" y="1984320"/>
            <a:ext cx="140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ő funkció helyiség (db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882800" y="2017800"/>
            <a:ext cx="12952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fofunkcio_h_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43280" y="193212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ő funkció helyisé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apterülete (m2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71960" y="2008080"/>
            <a:ext cx="12956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fofunkcio_h_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12200" y="2311560"/>
            <a:ext cx="1398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iszolgáló helyiség (db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76320" y="2344680"/>
            <a:ext cx="12956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kiszolg_h_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13040" y="226692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iszolgáló helyisé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apterülete (m2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971960" y="2338560"/>
            <a:ext cx="12956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kiszolg_h_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-122400" y="2631960"/>
            <a:ext cx="194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iegészítő helyiség száma (db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74880" y="2684520"/>
            <a:ext cx="12952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kiegter_h_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665880" y="263196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iegészítő helyisé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apterülete (m2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71960" y="2679840"/>
            <a:ext cx="12956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kiegter_h_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123120" y="414360"/>
            <a:ext cx="8559000" cy="2144160"/>
            <a:chOff x="123120" y="414360"/>
            <a:chExt cx="8559000" cy="2144160"/>
          </a:xfrm>
        </p:grpSpPr>
        <p:sp>
          <p:nvSpPr>
            <p:cNvPr id="210" name=""/>
            <p:cNvSpPr/>
            <p:nvPr/>
          </p:nvSpPr>
          <p:spPr>
            <a:xfrm>
              <a:off x="123120" y="1312920"/>
              <a:ext cx="1512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Könyvszerinti bruttó érték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66720" y="1332000"/>
              <a:ext cx="100836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lb_brutto_erte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48440" y="414360"/>
              <a:ext cx="826920" cy="231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Érték adato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680200" y="1328760"/>
              <a:ext cx="960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ruttó érték év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16200" y="1328760"/>
              <a:ext cx="107964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lb_brutto_ertek_ev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690080" y="1332000"/>
              <a:ext cx="878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ecsült érték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08720" y="1335240"/>
              <a:ext cx="10810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lb_becsult_erte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05280" y="1338120"/>
              <a:ext cx="1032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ecsült érték év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594560" y="1341360"/>
              <a:ext cx="108108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lb_becsult_ertek_ev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85520" y="906480"/>
              <a:ext cx="851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Állag mutató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581120" y="912960"/>
              <a:ext cx="10270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lb_allagmuta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626200" y="831960"/>
              <a:ext cx="103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Állagmutató kód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korm.rend.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35280" y="907920"/>
              <a:ext cx="1513080" cy="21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lb_allagmutato_kod</a:t>
              </a:r>
              <a:r>
                <a:rPr b="0" lang="hu-HU" sz="9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Q447 kodenev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>
              <a:hlinkClick r:id="" action="ppaction://hlinkshowjump?jump=previousslide"/>
            </p:cNvPr>
            <p:cNvSpPr/>
            <p:nvPr/>
          </p:nvSpPr>
          <p:spPr>
            <a:xfrm rot="16200000">
              <a:off x="5184000" y="872280"/>
              <a:ext cx="216000" cy="287280"/>
            </a:xfrm>
            <a:custGeom>
              <a:avLst/>
              <a:gdLst>
                <a:gd name="textAreaLeft" fmla="*/ 13680 w 216000"/>
                <a:gd name="textAreaRight" fmla="*/ 202320 w 216000"/>
                <a:gd name="textAreaTop" fmla="*/ 13680 h 287280"/>
                <a:gd name="textAreaBottom" fmla="*/ 273600 h 287280"/>
              </a:gdLst>
              <a:ahLst/>
              <a:rect l="textAreaLeft" t="textAreaTop" r="textAreaRight" b="textAreaBottom"/>
              <a:pathLst>
                <a:path w="21600" h="28716">
                  <a:moveTo>
                    <a:pt x="0" y="0"/>
                  </a:moveTo>
                  <a:lnTo>
                    <a:pt x="21600" y="0"/>
                  </a:lnTo>
                  <a:lnTo>
                    <a:pt x="21600" y="28716"/>
                  </a:lnTo>
                  <a:lnTo>
                    <a:pt x="0" y="28716"/>
                  </a:lnTo>
                  <a:close/>
                </a:path>
                <a:path fill="lightenLess" w="21600" h="2871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8716">
                  <a:moveTo>
                    <a:pt x="21600" y="0"/>
                  </a:moveTo>
                  <a:lnTo>
                    <a:pt x="21600" y="28716"/>
                  </a:lnTo>
                  <a:lnTo>
                    <a:pt x="20200" y="27316"/>
                  </a:lnTo>
                  <a:lnTo>
                    <a:pt x="20200" y="1400"/>
                  </a:lnTo>
                  <a:close/>
                </a:path>
                <a:path fill="darkenLess" w="21600" h="28716">
                  <a:moveTo>
                    <a:pt x="21600" y="28716"/>
                  </a:moveTo>
                  <a:lnTo>
                    <a:pt x="0" y="28716"/>
                  </a:lnTo>
                  <a:lnTo>
                    <a:pt x="1400" y="27316"/>
                  </a:lnTo>
                  <a:lnTo>
                    <a:pt x="20200" y="27316"/>
                  </a:lnTo>
                  <a:close/>
                </a:path>
                <a:path fill="lighten" w="21600" h="28716">
                  <a:moveTo>
                    <a:pt x="0" y="2871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7316"/>
                  </a:lnTo>
                  <a:close/>
                </a:path>
                <a:path fill="darken" w="21600" h="28716">
                  <a:moveTo>
                    <a:pt x="3794" y="14358"/>
                  </a:moveTo>
                  <a:lnTo>
                    <a:pt x="17806" y="7352"/>
                  </a:lnTo>
                  <a:lnTo>
                    <a:pt x="17806" y="2136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9240" y="2092320"/>
              <a:ext cx="794880" cy="231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egjegyzé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1760" y="2327400"/>
              <a:ext cx="8280360" cy="231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lb_megjegyz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71720" y="903240"/>
              <a:ext cx="1223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orgalom képesség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89600" y="907920"/>
              <a:ext cx="1598760" cy="21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lb_forgalomkep_kod</a:t>
              </a:r>
              <a:r>
                <a:rPr b="0" lang="hu-HU" sz="9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Q447 kodenev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>
              <a:hlinkClick r:id="" action="ppaction://hlinkshowjump?jump=previousslide"/>
            </p:cNvPr>
            <p:cNvSpPr/>
            <p:nvPr/>
          </p:nvSpPr>
          <p:spPr>
            <a:xfrm rot="16200000">
              <a:off x="8424000" y="872280"/>
              <a:ext cx="216000" cy="287280"/>
            </a:xfrm>
            <a:custGeom>
              <a:avLst/>
              <a:gdLst>
                <a:gd name="textAreaLeft" fmla="*/ 13680 w 216000"/>
                <a:gd name="textAreaRight" fmla="*/ 202320 w 216000"/>
                <a:gd name="textAreaTop" fmla="*/ 13680 h 287280"/>
                <a:gd name="textAreaBottom" fmla="*/ 273600 h 287280"/>
              </a:gdLst>
              <a:ahLst/>
              <a:rect l="textAreaLeft" t="textAreaTop" r="textAreaRight" b="textAreaBottom"/>
              <a:pathLst>
                <a:path w="21600" h="28716">
                  <a:moveTo>
                    <a:pt x="0" y="0"/>
                  </a:moveTo>
                  <a:lnTo>
                    <a:pt x="21600" y="0"/>
                  </a:lnTo>
                  <a:lnTo>
                    <a:pt x="21600" y="28716"/>
                  </a:lnTo>
                  <a:lnTo>
                    <a:pt x="0" y="28716"/>
                  </a:lnTo>
                  <a:close/>
                </a:path>
                <a:path fill="lightenLess" w="21600" h="2871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8716">
                  <a:moveTo>
                    <a:pt x="21600" y="0"/>
                  </a:moveTo>
                  <a:lnTo>
                    <a:pt x="21600" y="28716"/>
                  </a:lnTo>
                  <a:lnTo>
                    <a:pt x="20200" y="27316"/>
                  </a:lnTo>
                  <a:lnTo>
                    <a:pt x="20200" y="1400"/>
                  </a:lnTo>
                  <a:close/>
                </a:path>
                <a:path fill="darkenLess" w="21600" h="28716">
                  <a:moveTo>
                    <a:pt x="21600" y="28716"/>
                  </a:moveTo>
                  <a:lnTo>
                    <a:pt x="0" y="28716"/>
                  </a:lnTo>
                  <a:lnTo>
                    <a:pt x="1400" y="27316"/>
                  </a:lnTo>
                  <a:lnTo>
                    <a:pt x="20200" y="27316"/>
                  </a:lnTo>
                  <a:close/>
                </a:path>
                <a:path fill="lighten" w="21600" h="28716">
                  <a:moveTo>
                    <a:pt x="0" y="2871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7316"/>
                  </a:lnTo>
                  <a:close/>
                </a:path>
                <a:path fill="darken" w="21600" h="28716">
                  <a:moveTo>
                    <a:pt x="3794" y="14358"/>
                  </a:moveTo>
                  <a:lnTo>
                    <a:pt x="17806" y="7352"/>
                  </a:lnTo>
                  <a:lnTo>
                    <a:pt x="17806" y="2136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2840" y="1681200"/>
              <a:ext cx="947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orgalmi érték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66720" y="1700280"/>
              <a:ext cx="100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lb_forgalmi_erte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80960" y="90792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9708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08520" y="457200"/>
            <a:ext cx="792360" cy="368280"/>
          </a:xfrm>
          <a:prstGeom prst="rect">
            <a:avLst/>
          </a:prstGeom>
          <a:solidFill>
            <a:srgbClr val="ff9900">
              <a:alpha val="7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m lakás adat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76380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21160" y="46044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68800" y="45720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55308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20252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86160" y="1609560"/>
            <a:ext cx="74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zs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48000" y="1623960"/>
            <a:ext cx="1440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lbetet/lb_torzs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580000" y="1608120"/>
            <a:ext cx="1719360" cy="23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lbetet/lb_ut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50160" y="1601640"/>
            <a:ext cx="38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í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9760" y="225576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16160" y="2330280"/>
            <a:ext cx="187164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í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2349360"/>
            <a:ext cx="129528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özmű ellátottsá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8360" y="2349360"/>
            <a:ext cx="140364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űszaki állap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5760" y="2330280"/>
            <a:ext cx="79200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zs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224000" y="2708280"/>
            <a:ext cx="197964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b_utca + lb_hsz + lb_emelet + lb_aj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19480" y="2641680"/>
            <a:ext cx="136836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msz_kozmu_ell_ko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26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662720" y="2641680"/>
            <a:ext cx="13633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bmsz_muszaki_all_ko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44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599960" y="2637000"/>
            <a:ext cx="139104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bmsz_melegviz_ell_ko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43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13640" y="11592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KV EI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377520" y="168120"/>
            <a:ext cx="345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Nem lakás műszaki adatok… (Nemlakas muszaki_adat, view   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69800" y="2689200"/>
            <a:ext cx="78408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b_torzs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596360" y="2349360"/>
            <a:ext cx="129528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leg víz ellá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84720" y="2349360"/>
            <a:ext cx="144000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űtési mó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100920" y="2637000"/>
            <a:ext cx="140328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bmsz_futesi_mod_ko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44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216080" y="3070080"/>
            <a:ext cx="197964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b_utca + lb_hsz + lb_emelet + lb_aj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69800" y="3051000"/>
            <a:ext cx="78408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b_torzs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11400" y="3435480"/>
            <a:ext cx="197964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b_utca + lb_hsz + lb_emelet + lb_aj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69800" y="3427560"/>
            <a:ext cx="78408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b_torzs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22720" y="3011400"/>
            <a:ext cx="136836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msz_kozmu_ell_ko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26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65600" y="3011400"/>
            <a:ext cx="13633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bmsz_muszaki_all_ko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44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602840" y="3006720"/>
            <a:ext cx="139104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bmsz_melegviz_ell_ko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43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103800" y="3006720"/>
            <a:ext cx="140364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bmsz_futesi_mod_ko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44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22720" y="3389400"/>
            <a:ext cx="136836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msz_kozmu_ell_ko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26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65600" y="3389400"/>
            <a:ext cx="13633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bmsz_muszaki_all_ko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44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02840" y="3384720"/>
            <a:ext cx="139104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bmsz_melegviz_ell_ko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43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103800" y="3384720"/>
            <a:ext cx="140364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bmsz_futesi_mod_ko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44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497840" y="1197000"/>
            <a:ext cx="1358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űszaki adatok néze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42800" y="955800"/>
            <a:ext cx="55872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ilép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083960" y="955800"/>
            <a:ext cx="61668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ssít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88480" y="955800"/>
            <a:ext cx="71568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amé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90920" y="955800"/>
            <a:ext cx="50328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148560" y="955800"/>
            <a:ext cx="58932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ódosí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14920" y="955800"/>
            <a:ext cx="57600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l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464000" y="955800"/>
            <a:ext cx="64764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éz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904000" y="955800"/>
            <a:ext cx="79200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imuta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83280" y="955800"/>
            <a:ext cx="64764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is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7640" y="955800"/>
            <a:ext cx="93492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kument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613080" y="1700280"/>
            <a:ext cx="155520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m lakás műszaki adat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81400" y="29923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ízmérővel való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látottsá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647720" y="3108240"/>
            <a:ext cx="142920" cy="144360"/>
            <a:chOff x="1647720" y="3108240"/>
            <a:chExt cx="142920" cy="144360"/>
          </a:xfrm>
        </p:grpSpPr>
        <p:sp>
          <p:nvSpPr>
            <p:cNvPr id="284" name=""/>
            <p:cNvSpPr/>
            <p:nvPr/>
          </p:nvSpPr>
          <p:spPr>
            <a:xfrm>
              <a:off x="1647720" y="3108240"/>
              <a:ext cx="1429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682640" y="313668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1753920" y="3063960"/>
            <a:ext cx="947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lbmsz_vizme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075280" y="2276640"/>
            <a:ext cx="1728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msz_melegviz_ell_ko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43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894840" y="2276640"/>
            <a:ext cx="1230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leg víz ellátottsá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>
            <a:hlinkClick r:id="" action="ppaction://hlinkshowjump?jump=previousslide"/>
          </p:cNvPr>
          <p:cNvSpPr/>
          <p:nvPr/>
        </p:nvSpPr>
        <p:spPr>
          <a:xfrm rot="16200000">
            <a:off x="6839640" y="2240280"/>
            <a:ext cx="215640" cy="28728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64">
                <a:moveTo>
                  <a:pt x="0" y="0"/>
                </a:moveTo>
                <a:lnTo>
                  <a:pt x="21600" y="0"/>
                </a:lnTo>
                <a:lnTo>
                  <a:pt x="21600" y="28764"/>
                </a:lnTo>
                <a:lnTo>
                  <a:pt x="0" y="28764"/>
                </a:lnTo>
                <a:close/>
              </a:path>
              <a:path fill="lightenLess" w="21600" h="28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4">
                <a:moveTo>
                  <a:pt x="21600" y="0"/>
                </a:moveTo>
                <a:lnTo>
                  <a:pt x="21600" y="28764"/>
                </a:lnTo>
                <a:lnTo>
                  <a:pt x="20200" y="27364"/>
                </a:lnTo>
                <a:lnTo>
                  <a:pt x="20200" y="1400"/>
                </a:lnTo>
                <a:close/>
              </a:path>
              <a:path fill="darkenLess" w="21600" h="28764">
                <a:moveTo>
                  <a:pt x="21600" y="28764"/>
                </a:moveTo>
                <a:lnTo>
                  <a:pt x="0" y="28764"/>
                </a:lnTo>
                <a:lnTo>
                  <a:pt x="1400" y="27364"/>
                </a:lnTo>
                <a:lnTo>
                  <a:pt x="20200" y="27364"/>
                </a:lnTo>
                <a:close/>
              </a:path>
              <a:path fill="lighten" w="21600" h="28764">
                <a:moveTo>
                  <a:pt x="0" y="28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4"/>
                </a:lnTo>
                <a:close/>
              </a:path>
              <a:path fill="darken" w="21600" h="28764">
                <a:moveTo>
                  <a:pt x="3794" y="14382"/>
                </a:moveTo>
                <a:lnTo>
                  <a:pt x="17806" y="7376"/>
                </a:lnTo>
                <a:lnTo>
                  <a:pt x="17806" y="2138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2637000"/>
            <a:ext cx="1728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msz_futesi_mod_ko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44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60320" y="2603520"/>
            <a:ext cx="749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űtési mó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previousslide"/>
          </p:cNvPr>
          <p:cNvSpPr/>
          <p:nvPr/>
        </p:nvSpPr>
        <p:spPr>
          <a:xfrm rot="16200000">
            <a:off x="3321720" y="2600640"/>
            <a:ext cx="215640" cy="28728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64">
                <a:moveTo>
                  <a:pt x="0" y="0"/>
                </a:moveTo>
                <a:lnTo>
                  <a:pt x="21600" y="0"/>
                </a:lnTo>
                <a:lnTo>
                  <a:pt x="21600" y="28764"/>
                </a:lnTo>
                <a:lnTo>
                  <a:pt x="0" y="28764"/>
                </a:lnTo>
                <a:close/>
              </a:path>
              <a:path fill="lightenLess" w="21600" h="28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4">
                <a:moveTo>
                  <a:pt x="21600" y="0"/>
                </a:moveTo>
                <a:lnTo>
                  <a:pt x="21600" y="28764"/>
                </a:lnTo>
                <a:lnTo>
                  <a:pt x="20200" y="27364"/>
                </a:lnTo>
                <a:lnTo>
                  <a:pt x="20200" y="1400"/>
                </a:lnTo>
                <a:close/>
              </a:path>
              <a:path fill="darkenLess" w="21600" h="28764">
                <a:moveTo>
                  <a:pt x="21600" y="28764"/>
                </a:moveTo>
                <a:lnTo>
                  <a:pt x="0" y="28764"/>
                </a:lnTo>
                <a:lnTo>
                  <a:pt x="1400" y="27364"/>
                </a:lnTo>
                <a:lnTo>
                  <a:pt x="20200" y="27364"/>
                </a:lnTo>
                <a:close/>
              </a:path>
              <a:path fill="lighten" w="21600" h="28764">
                <a:moveTo>
                  <a:pt x="0" y="28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4"/>
                </a:lnTo>
                <a:close/>
              </a:path>
              <a:path fill="darken" w="21600" h="28764">
                <a:moveTo>
                  <a:pt x="3794" y="14382"/>
                </a:moveTo>
                <a:lnTo>
                  <a:pt x="17806" y="7376"/>
                </a:lnTo>
                <a:lnTo>
                  <a:pt x="17806" y="2138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639800" y="2293920"/>
            <a:ext cx="172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msz_kozmu_ell_ko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26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81240" y="2281320"/>
            <a:ext cx="1127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özmű ellátottsá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" action="ppaction://hlinkshowjump?jump=previousslide"/>
          </p:cNvPr>
          <p:cNvSpPr/>
          <p:nvPr/>
        </p:nvSpPr>
        <p:spPr>
          <a:xfrm rot="16200000">
            <a:off x="3326400" y="2259360"/>
            <a:ext cx="216000" cy="287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640"/>
              <a:gd name="textAreaBottom" fmla="*/ 273960 h 287640"/>
            </a:gdLst>
            <a:ahLst/>
            <a:rect l="textAreaLeft" t="textAreaTop" r="textAreaRight" b="textAreaBottom"/>
            <a:pathLst>
              <a:path w="21600" h="28752">
                <a:moveTo>
                  <a:pt x="0" y="0"/>
                </a:moveTo>
                <a:lnTo>
                  <a:pt x="21600" y="0"/>
                </a:lnTo>
                <a:lnTo>
                  <a:pt x="21600" y="28752"/>
                </a:lnTo>
                <a:lnTo>
                  <a:pt x="0" y="28752"/>
                </a:lnTo>
                <a:close/>
              </a:path>
              <a:path fill="lightenLess" w="21600" h="28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52">
                <a:moveTo>
                  <a:pt x="21600" y="0"/>
                </a:moveTo>
                <a:lnTo>
                  <a:pt x="21600" y="28752"/>
                </a:lnTo>
                <a:lnTo>
                  <a:pt x="20200" y="27352"/>
                </a:lnTo>
                <a:lnTo>
                  <a:pt x="20200" y="1400"/>
                </a:lnTo>
                <a:close/>
              </a:path>
              <a:path fill="darkenLess" w="21600" h="28752">
                <a:moveTo>
                  <a:pt x="21600" y="28752"/>
                </a:moveTo>
                <a:lnTo>
                  <a:pt x="0" y="28752"/>
                </a:lnTo>
                <a:lnTo>
                  <a:pt x="1400" y="27352"/>
                </a:lnTo>
                <a:lnTo>
                  <a:pt x="20200" y="27352"/>
                </a:lnTo>
                <a:close/>
              </a:path>
              <a:path fill="lighten" w="21600" h="28752">
                <a:moveTo>
                  <a:pt x="0" y="28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52"/>
                </a:lnTo>
                <a:close/>
              </a:path>
              <a:path fill="darken" w="21600" h="28752">
                <a:moveTo>
                  <a:pt x="3794" y="14376"/>
                </a:moveTo>
                <a:lnTo>
                  <a:pt x="17806" y="7370"/>
                </a:lnTo>
                <a:lnTo>
                  <a:pt x="17806" y="2138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076720" y="2624040"/>
            <a:ext cx="172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msz_muszaki_all_ko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44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32440" y="2637000"/>
            <a:ext cx="974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űszaki állap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 rot="16200000">
            <a:off x="6841080" y="2588040"/>
            <a:ext cx="216000" cy="287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640"/>
              <a:gd name="textAreaBottom" fmla="*/ 273960 h 287640"/>
            </a:gdLst>
            <a:ahLst/>
            <a:rect l="textAreaLeft" t="textAreaTop" r="textAreaRight" b="textAreaBottom"/>
            <a:pathLst>
              <a:path w="21600" h="28752">
                <a:moveTo>
                  <a:pt x="0" y="0"/>
                </a:moveTo>
                <a:lnTo>
                  <a:pt x="21600" y="0"/>
                </a:lnTo>
                <a:lnTo>
                  <a:pt x="21600" y="28752"/>
                </a:lnTo>
                <a:lnTo>
                  <a:pt x="0" y="28752"/>
                </a:lnTo>
                <a:close/>
              </a:path>
              <a:path fill="lightenLess" w="21600" h="28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52">
                <a:moveTo>
                  <a:pt x="21600" y="0"/>
                </a:moveTo>
                <a:lnTo>
                  <a:pt x="21600" y="28752"/>
                </a:lnTo>
                <a:lnTo>
                  <a:pt x="20200" y="27352"/>
                </a:lnTo>
                <a:lnTo>
                  <a:pt x="20200" y="1400"/>
                </a:lnTo>
                <a:close/>
              </a:path>
              <a:path fill="darkenLess" w="21600" h="28752">
                <a:moveTo>
                  <a:pt x="21600" y="28752"/>
                </a:moveTo>
                <a:lnTo>
                  <a:pt x="0" y="28752"/>
                </a:lnTo>
                <a:lnTo>
                  <a:pt x="1400" y="27352"/>
                </a:lnTo>
                <a:lnTo>
                  <a:pt x="20200" y="27352"/>
                </a:lnTo>
                <a:close/>
              </a:path>
              <a:path fill="lighten" w="21600" h="28752">
                <a:moveTo>
                  <a:pt x="0" y="28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52"/>
                </a:lnTo>
                <a:close/>
              </a:path>
              <a:path fill="darken" w="21600" h="28752">
                <a:moveTo>
                  <a:pt x="3794" y="14376"/>
                </a:moveTo>
                <a:lnTo>
                  <a:pt x="17806" y="7370"/>
                </a:lnTo>
                <a:lnTo>
                  <a:pt x="17806" y="2138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20200" y="11592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KV EI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76360" y="6206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233440" y="612720"/>
            <a:ext cx="648000" cy="216000"/>
          </a:xfrm>
          <a:custGeom>
            <a:avLst/>
            <a:gdLst>
              <a:gd name="textAreaLeft" fmla="*/ 13680 w 648000"/>
              <a:gd name="textAreaRight" fmla="*/ 634320 w 648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728" h="21600">
                <a:moveTo>
                  <a:pt x="0" y="0"/>
                </a:moveTo>
                <a:lnTo>
                  <a:pt x="64728" y="0"/>
                </a:lnTo>
                <a:lnTo>
                  <a:pt x="64728" y="21600"/>
                </a:lnTo>
                <a:lnTo>
                  <a:pt x="0" y="21600"/>
                </a:lnTo>
                <a:close/>
              </a:path>
              <a:path fill="lightenLess" w="64728" h="21600">
                <a:moveTo>
                  <a:pt x="0" y="0"/>
                </a:moveTo>
                <a:lnTo>
                  <a:pt x="64728" y="0"/>
                </a:lnTo>
                <a:lnTo>
                  <a:pt x="63328" y="1400"/>
                </a:lnTo>
                <a:lnTo>
                  <a:pt x="1400" y="1400"/>
                </a:lnTo>
                <a:close/>
              </a:path>
              <a:path fill="darken" w="64728" h="21600">
                <a:moveTo>
                  <a:pt x="64728" y="0"/>
                </a:moveTo>
                <a:lnTo>
                  <a:pt x="64728" y="21600"/>
                </a:lnTo>
                <a:lnTo>
                  <a:pt x="63328" y="20200"/>
                </a:lnTo>
                <a:lnTo>
                  <a:pt x="63328" y="1400"/>
                </a:lnTo>
                <a:close/>
              </a:path>
              <a:path fill="darkenLess" w="64728" h="21600">
                <a:moveTo>
                  <a:pt x="647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8" y="20200"/>
                </a:lnTo>
                <a:close/>
              </a:path>
              <a:path fill="lighten" w="647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db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952720" y="61272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gs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73440" y="61272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örl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465800" y="61272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at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" action="ppaction://hlinkshowjump?jump=previousslide"/>
          </p:cNvPr>
          <p:cNvSpPr/>
          <p:nvPr/>
        </p:nvSpPr>
        <p:spPr>
          <a:xfrm>
            <a:off x="6121440" y="61272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10800"/>
                </a:moveTo>
                <a:lnTo>
                  <a:pt x="28571" y="3794"/>
                </a:lnTo>
                <a:lnTo>
                  <a:pt x="2857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ő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" action="ppaction://hlinkshowjump?jump=nextslide"/>
          </p:cNvPr>
          <p:cNvSpPr/>
          <p:nvPr/>
        </p:nvSpPr>
        <p:spPr>
          <a:xfrm>
            <a:off x="6624720" y="61272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7" y="3794"/>
                </a:moveTo>
                <a:lnTo>
                  <a:pt x="28660" y="10800"/>
                </a:lnTo>
                <a:lnTo>
                  <a:pt x="146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övetke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>
            <a:hlinkClick r:id="" action="ppaction://hlinkshowjump?jump=firstslide"/>
          </p:cNvPr>
          <p:cNvSpPr/>
          <p:nvPr/>
        </p:nvSpPr>
        <p:spPr>
          <a:xfrm>
            <a:off x="5616720" y="61272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8065" y="10800"/>
                </a:moveTo>
                <a:lnTo>
                  <a:pt x="28571" y="3794"/>
                </a:lnTo>
                <a:lnTo>
                  <a:pt x="28571" y="17806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16220" y="3794"/>
                </a:lnTo>
                <a:lnTo>
                  <a:pt x="16220" y="17806"/>
                </a:lnTo>
                <a:lnTo>
                  <a:pt x="1455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s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" action="ppaction://hlinkshowjump?jump=lastslide"/>
          </p:cNvPr>
          <p:cNvSpPr/>
          <p:nvPr/>
        </p:nvSpPr>
        <p:spPr>
          <a:xfrm>
            <a:off x="7129440" y="61272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25153" y="10800"/>
                </a:moveTo>
                <a:lnTo>
                  <a:pt x="14647" y="17806"/>
                </a:lnTo>
                <a:lnTo>
                  <a:pt x="14647" y="3794"/>
                </a:lnTo>
                <a:close/>
              </a:path>
              <a:path fill="darken" w="43308" h="21600">
                <a:moveTo>
                  <a:pt x="26998" y="3794"/>
                </a:moveTo>
                <a:lnTo>
                  <a:pt x="26998" y="17806"/>
                </a:lnTo>
                <a:lnTo>
                  <a:pt x="28660" y="17806"/>
                </a:lnTo>
                <a:lnTo>
                  <a:pt x="28660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tols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515760" y="239760"/>
            <a:ext cx="34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Nem lakás műszaki adatai… (Nemlakas_muszaki_adat, view  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1T23:41:48Z</dcterms:created>
  <dc:creator>Mariann</dc:creator>
  <dc:description/>
  <dc:language>en-US</dc:language>
  <cp:lastModifiedBy>Mariann</cp:lastModifiedBy>
  <dcterms:modified xsi:type="dcterms:W3CDTF">2013-09-05T06:43:30Z</dcterms:modified>
  <cp:revision>15</cp:revision>
  <dc:subject/>
  <dc:title>1. dia</dc:title>
</cp:coreProperties>
</file>