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F81-FFE7-4CF5-853E-CF0898C1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09C-AB95-4C4A-9239-E3179162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CD4-7E02-4FE3-8503-29058647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436-4FD8-43F3-9F81-CA82E8EF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36D-FFA5-4C32-A212-14EFAFB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AB4-4AF9-4575-B82F-6E8EA9D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82C-E96A-4912-9FB5-CD7D819E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A0E-EF5B-44ED-845A-660A946A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C3F-0001-4B54-BA53-7FEA4B4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22B-21E2-43A3-A8B3-F6ACDDD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F03-B4C2-4A1E-8D47-6BDF599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83C-3DC4-4981-95E5-F4BCA54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B475-42AC-452F-94E6-A7AD6F2C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4360" y="423720"/>
            <a:ext cx="52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 Egységes Integrált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125360"/>
            <a:ext cx="1511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195588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26224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állít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04632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0828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irato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340668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76704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417204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45306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486900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di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1628640"/>
            <a:ext cx="15843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kezelési 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5373720"/>
            <a:ext cx="16560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, személyes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5732640"/>
            <a:ext cx="2160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vállalkozási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6093000"/>
            <a:ext cx="2160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vállalkozási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6423120"/>
            <a:ext cx="2160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476280"/>
            <a:ext cx="9558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76280"/>
            <a:ext cx="71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476280"/>
            <a:ext cx="9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3408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m lakás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560" y="2811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9216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920" y="1262160"/>
            <a:ext cx="10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 könyv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6560" y="126216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állít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760" y="981000"/>
            <a:ext cx="2016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4920" y="476280"/>
            <a:ext cx="95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ás számlázásho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476280"/>
            <a:ext cx="93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47760" y="981000"/>
            <a:ext cx="201636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12200" y="98100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20200" y="981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19400" y="126828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1484280"/>
            <a:ext cx="8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08480" y="98100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7280" y="98100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di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981000"/>
            <a:ext cx="2016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981000"/>
            <a:ext cx="2448000" cy="100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95320" y="98100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vállalkozási szerződ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94680" y="176040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33399"/>
                </a:solidFill>
                <a:latin typeface="Arial"/>
              </a:rPr>
              <a:t>Bejöv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8680" y="1773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33399"/>
                </a:solidFill>
                <a:latin typeface="Arial"/>
              </a:rPr>
              <a:t>Iratkezelési törz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7640" y="1760400"/>
            <a:ext cx="88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33399"/>
                </a:solidFill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0040" y="1760400"/>
            <a:ext cx="15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33399"/>
                </a:solidFill>
                <a:latin typeface="Arial"/>
              </a:rPr>
              <a:t>Ügyiratok, személyes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94600" y="121140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vállalkozási szerződ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320" y="2216160"/>
            <a:ext cx="6711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Nézetek - gomb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ejövő ügyiratok men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rkeztetés nézet (view530_7) – érkeztetés g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Szignálás nézet – szignálás-, betekintő gomb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szűrés: a szignálásra váró ügyiratok – ugyirat/szignalva=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ktatás nézet – iktatás g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szűrés: iktatásra váró és iktatott ügyiratok, amely nem Bejövő vállalkozási szerződ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             –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ugyirat/szignalva=y és iktatva=y, ugyirat_allapot=51501-érkeztetve és/vagy 51502-szignál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és/vagy 51503 – iktatva, és ugyirat_tipus&lt;&gt;51401 – Bejövő vállalkozási szerződés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sorrend: beerkezes_dat csökkenő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imenő iratok men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ktatás nézet – iktatás gom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szűrés: kimenő ügyiratok, kivéve a Kimenő vállalkozási szerződés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ugyirat_tipus&lt;&gt;51402 – Kimenő vállalkozási szerződ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Expediálás nézet – expediálás g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szűrés: expedialas_dat is n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Ügyiratok, személyes irat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Személyes iratok nézet– átadás-, ügyintézés-, visszaadás-, lezárás gomb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a gombok aktivitása az ugyint_utas_tip és ugyint_tipus beállításoktól füg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imenő vállalkozási szerződés néz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ejövő vállalkozási szerződ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1:51:50Z</dcterms:created>
  <dc:creator>Mariann</dc:creator>
  <dc:description/>
  <dc:language>en-US</dc:language>
  <cp:lastModifiedBy>Mariann</cp:lastModifiedBy>
  <dcterms:modified xsi:type="dcterms:W3CDTF">2013-10-15T08:39:34Z</dcterms:modified>
  <cp:revision>10</cp:revision>
  <dc:subject/>
  <dc:title>1. dia</dc:title>
</cp:coreProperties>
</file>