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F31-9A68-40A0-BE6F-3C1AA739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C19-7D13-4169-BEB5-DDE1E5C1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D18-044D-4746-A69C-59412C55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E66-4592-4F1B-AD43-BE313F68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068-87AB-4878-87CF-23D2D4B5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315-9E74-4315-BA69-F8C3939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D59-0C8D-4D08-9159-67B30CC4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BC0-0283-49AA-9B25-FB8067A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F6E-6E2F-4A0E-9F77-A4E16069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943-C3F5-4ABA-B944-4EB19C52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714-4D90-4DBD-B7A9-912CC00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76F-98D3-49B8-8CD8-746A968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EE38-F05B-4C43-B90C-BC369B0E8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40" y="115920"/>
            <a:ext cx="9147240" cy="3740760"/>
            <a:chOff x="-3240" y="115920"/>
            <a:chExt cx="9147240" cy="3740760"/>
          </a:xfrm>
        </p:grpSpPr>
        <p:sp>
          <p:nvSpPr>
            <p:cNvPr id="42" name=""/>
            <p:cNvSpPr/>
            <p:nvPr/>
          </p:nvSpPr>
          <p:spPr>
            <a:xfrm>
              <a:off x="468360" y="907920"/>
              <a:ext cx="81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8448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95800" y="461880"/>
              <a:ext cx="719280" cy="368280"/>
            </a:xfrm>
            <a:prstGeom prst="rect">
              <a:avLst/>
            </a:prstGeom>
            <a:solidFill>
              <a:srgbClr val="ff9900">
                <a:alpha val="7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75120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27640" y="457200"/>
              <a:ext cx="595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9284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40480" y="455760"/>
              <a:ext cx="59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89920" y="455760"/>
              <a:ext cx="595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00360" y="1268280"/>
              <a:ext cx="54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Övez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0720" y="1522440"/>
              <a:ext cx="74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11920" y="1832040"/>
              <a:ext cx="92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lyrajzi 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76440" y="1258920"/>
              <a:ext cx="143964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korzet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korzet/i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Ovezet (Q437 kodmegnev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73200" y="1536840"/>
              <a:ext cx="1440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ngatlan/ing_torzs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47640" y="1844640"/>
              <a:ext cx="1440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ulet/ep_helyrajzis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>
              <a:hlinkClick r:id="" action="ppaction://hlinkshowjump?jump=previousslide"/>
            </p:cNvPr>
            <p:cNvSpPr/>
            <p:nvPr/>
          </p:nvSpPr>
          <p:spPr>
            <a:xfrm rot="16200000">
              <a:off x="5785560" y="149616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17840" y="1222200"/>
              <a:ext cx="1719360" cy="23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ulet/ep_ut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09920" y="1531800"/>
              <a:ext cx="1440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ulet/ep_tulajdonviszon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81800" y="12556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45480" y="1522440"/>
              <a:ext cx="100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>
              <a:hlinkClick r:id="" action="ppaction://hlinkshowjump?jump=previousslide"/>
            </p:cNvPr>
            <p:cNvSpPr/>
            <p:nvPr/>
          </p:nvSpPr>
          <p:spPr>
            <a:xfrm rot="16200000">
              <a:off x="8495280" y="1521360"/>
              <a:ext cx="216000" cy="28764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640"/>
                <a:gd name="textAreaBottom" fmla="*/ 273960 h 287640"/>
              </a:gdLst>
              <a:ahLst/>
              <a:rect l="textAreaLeft" t="textAreaTop" r="textAreaRight" b="textAreaBottom"/>
              <a:pathLst>
                <a:path w="21600" h="28752">
                  <a:moveTo>
                    <a:pt x="0" y="0"/>
                  </a:moveTo>
                  <a:lnTo>
                    <a:pt x="21600" y="0"/>
                  </a:lnTo>
                  <a:lnTo>
                    <a:pt x="21600" y="28752"/>
                  </a:lnTo>
                  <a:lnTo>
                    <a:pt x="0" y="28752"/>
                  </a:lnTo>
                  <a:close/>
                </a:path>
                <a:path fill="lightenLess" w="21600" h="28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52">
                  <a:moveTo>
                    <a:pt x="21600" y="0"/>
                  </a:moveTo>
                  <a:lnTo>
                    <a:pt x="21600" y="28752"/>
                  </a:lnTo>
                  <a:lnTo>
                    <a:pt x="20200" y="27352"/>
                  </a:lnTo>
                  <a:lnTo>
                    <a:pt x="20200" y="1400"/>
                  </a:lnTo>
                  <a:close/>
                </a:path>
                <a:path fill="darkenLess" w="21600" h="28752">
                  <a:moveTo>
                    <a:pt x="21600" y="28752"/>
                  </a:moveTo>
                  <a:lnTo>
                    <a:pt x="0" y="28752"/>
                  </a:lnTo>
                  <a:lnTo>
                    <a:pt x="1400" y="27352"/>
                  </a:lnTo>
                  <a:lnTo>
                    <a:pt x="20200" y="27352"/>
                  </a:lnTo>
                  <a:close/>
                </a:path>
                <a:path fill="lighten" w="21600" h="28752">
                  <a:moveTo>
                    <a:pt x="0" y="28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52"/>
                  </a:lnTo>
                  <a:close/>
                </a:path>
                <a:path fill="darken" w="21600" h="28752">
                  <a:moveTo>
                    <a:pt x="3794" y="14376"/>
                  </a:moveTo>
                  <a:lnTo>
                    <a:pt x="17806" y="7370"/>
                  </a:lnTo>
                  <a:lnTo>
                    <a:pt x="17806" y="213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93000" y="155736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kezelbol_kiad_jogc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1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55480" y="148428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ésből kiadá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gcí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6800" y="2255760"/>
              <a:ext cx="81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30440" y="2340000"/>
              <a:ext cx="126684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 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0" y="2349360"/>
              <a:ext cx="158436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í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43360" y="2340000"/>
              <a:ext cx="93492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lyrajzi 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7360" y="2340000"/>
              <a:ext cx="963720" cy="368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épített alapterü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06640" y="2340000"/>
              <a:ext cx="9144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82640" y="269892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708280"/>
              <a:ext cx="169236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utca + ep_hsz + ep_lepcso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49120" y="2720880"/>
              <a:ext cx="82836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helyrajzis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78280" y="2708280"/>
              <a:ext cx="100800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beepitett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apterul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86280" y="2708280"/>
              <a:ext cx="107964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lakas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58200" y="2708280"/>
              <a:ext cx="86364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1040" y="11592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KV EI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69600" y="168120"/>
              <a:ext cx="1823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Épület adatok… (Epulet, view   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>
              <a:hlinkClick r:id="" action="ppaction://hlinkshowjump?jump=previousslide"/>
            </p:cNvPr>
            <p:cNvSpPr/>
            <p:nvPr/>
          </p:nvSpPr>
          <p:spPr>
            <a:xfrm rot="16200000">
              <a:off x="3094920" y="123264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50200" y="2708280"/>
              <a:ext cx="8179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86640" y="2349360"/>
              <a:ext cx="865080" cy="368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o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zám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86280" y="2349360"/>
              <a:ext cx="113220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kások szám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>
              <a:hlinkClick r:id="" action="ppaction://hlinkshowjump?jump=previousslide"/>
            </p:cNvPr>
            <p:cNvSpPr/>
            <p:nvPr/>
          </p:nvSpPr>
          <p:spPr>
            <a:xfrm rot="16200000">
              <a:off x="8506440" y="122004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04160" y="1255680"/>
              <a:ext cx="143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kezelbe_vetel_jogc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2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1280" y="1192320"/>
              <a:ext cx="102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ésbe véte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gcí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39000" y="2349360"/>
              <a:ext cx="57636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78720" y="2349360"/>
              <a:ext cx="576360" cy="2311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0" y="2708280"/>
              <a:ext cx="71928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78920" y="2708280"/>
              <a:ext cx="86508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9400" y="314496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40" y="3154320"/>
              <a:ext cx="169236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utca + ep_hsz + ep_lepcso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45880" y="3166920"/>
              <a:ext cx="82836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helyrajzis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5040" y="3154320"/>
              <a:ext cx="100836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beepitett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apterul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83400" y="3154320"/>
              <a:ext cx="107928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lakas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4960" y="3154320"/>
              <a:ext cx="86364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46960" y="3154320"/>
              <a:ext cx="8179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4760" y="3154320"/>
              <a:ext cx="71928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75680" y="3154320"/>
              <a:ext cx="86508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81200" y="3510000"/>
              <a:ext cx="122400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1440" y="3519360"/>
              <a:ext cx="169200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utca + ep_hsz + ep_lepcso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47320" y="3532320"/>
              <a:ext cx="82836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helyrajzis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76840" y="3519360"/>
              <a:ext cx="100800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beepitett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alapterul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4840" y="3519360"/>
              <a:ext cx="1079640" cy="2311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lakas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56400" y="3519360"/>
              <a:ext cx="86364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8760" y="3519360"/>
              <a:ext cx="817920" cy="21564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torzs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6560" y="3519360"/>
              <a:ext cx="71892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77120" y="3519360"/>
              <a:ext cx="865440" cy="33732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-3240" y="115920"/>
            <a:ext cx="9041040" cy="6124680"/>
            <a:chOff x="-3240" y="115920"/>
            <a:chExt cx="9041040" cy="6124680"/>
          </a:xfrm>
        </p:grpSpPr>
        <p:sp>
          <p:nvSpPr>
            <p:cNvPr id="108" name=""/>
            <p:cNvSpPr/>
            <p:nvPr/>
          </p:nvSpPr>
          <p:spPr>
            <a:xfrm>
              <a:off x="520200" y="11592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KV EI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03280" y="3119400"/>
              <a:ext cx="1728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tulviszony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0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1440" y="612720"/>
              <a:ext cx="647640" cy="216000"/>
            </a:xfrm>
            <a:custGeom>
              <a:avLst/>
              <a:gdLst>
                <a:gd name="textAreaLeft" fmla="*/ 13680 w 647640"/>
                <a:gd name="textAreaRight" fmla="*/ 633960 w 6476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64692" h="21600">
                  <a:moveTo>
                    <a:pt x="0" y="0"/>
                  </a:moveTo>
                  <a:lnTo>
                    <a:pt x="64692" y="0"/>
                  </a:lnTo>
                  <a:lnTo>
                    <a:pt x="64692" y="21600"/>
                  </a:lnTo>
                  <a:lnTo>
                    <a:pt x="0" y="21600"/>
                  </a:lnTo>
                  <a:close/>
                </a:path>
                <a:path fill="lightenLess" w="64692" h="21600">
                  <a:moveTo>
                    <a:pt x="0" y="0"/>
                  </a:moveTo>
                  <a:lnTo>
                    <a:pt x="64692" y="0"/>
                  </a:lnTo>
                  <a:lnTo>
                    <a:pt x="63292" y="1400"/>
                  </a:lnTo>
                  <a:lnTo>
                    <a:pt x="1400" y="1400"/>
                  </a:lnTo>
                  <a:close/>
                </a:path>
                <a:path fill="darken" w="64692" h="21600">
                  <a:moveTo>
                    <a:pt x="64692" y="0"/>
                  </a:moveTo>
                  <a:lnTo>
                    <a:pt x="64692" y="21600"/>
                  </a:lnTo>
                  <a:lnTo>
                    <a:pt x="63292" y="20200"/>
                  </a:lnTo>
                  <a:lnTo>
                    <a:pt x="63292" y="1400"/>
                  </a:lnTo>
                  <a:close/>
                </a:path>
                <a:path fill="darkenLess" w="64692" h="21600">
                  <a:moveTo>
                    <a:pt x="6469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292" y="20200"/>
                  </a:lnTo>
                  <a:close/>
                </a:path>
                <a:path fill="lighten" w="6469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Új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33440" y="612720"/>
              <a:ext cx="648000" cy="216000"/>
            </a:xfrm>
            <a:custGeom>
              <a:avLst/>
              <a:gdLst>
                <a:gd name="textAreaLeft" fmla="*/ 13680 w 648000"/>
                <a:gd name="textAreaRight" fmla="*/ 634320 w 64800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64728" h="21600">
                  <a:moveTo>
                    <a:pt x="0" y="0"/>
                  </a:moveTo>
                  <a:lnTo>
                    <a:pt x="64728" y="0"/>
                  </a:lnTo>
                  <a:lnTo>
                    <a:pt x="64728" y="21600"/>
                  </a:lnTo>
                  <a:lnTo>
                    <a:pt x="0" y="21600"/>
                  </a:lnTo>
                  <a:close/>
                </a:path>
                <a:path fill="lightenLess" w="64728" h="21600">
                  <a:moveTo>
                    <a:pt x="0" y="0"/>
                  </a:moveTo>
                  <a:lnTo>
                    <a:pt x="64728" y="0"/>
                  </a:lnTo>
                  <a:lnTo>
                    <a:pt x="63328" y="1400"/>
                  </a:lnTo>
                  <a:lnTo>
                    <a:pt x="1400" y="1400"/>
                  </a:lnTo>
                  <a:close/>
                </a:path>
                <a:path fill="darken" w="64728" h="21600">
                  <a:moveTo>
                    <a:pt x="64728" y="0"/>
                  </a:moveTo>
                  <a:lnTo>
                    <a:pt x="64728" y="21600"/>
                  </a:lnTo>
                  <a:lnTo>
                    <a:pt x="63328" y="20200"/>
                  </a:lnTo>
                  <a:lnTo>
                    <a:pt x="63328" y="1400"/>
                  </a:lnTo>
                  <a:close/>
                </a:path>
                <a:path fill="darkenLess" w="64728" h="21600">
                  <a:moveTo>
                    <a:pt x="647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328" y="20200"/>
                  </a:lnTo>
                  <a:close/>
                </a:path>
                <a:path fill="lighten" w="647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ndb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2720" y="612720"/>
              <a:ext cx="647640" cy="216000"/>
            </a:xfrm>
            <a:custGeom>
              <a:avLst/>
              <a:gdLst>
                <a:gd name="textAreaLeft" fmla="*/ 13680 w 647640"/>
                <a:gd name="textAreaRight" fmla="*/ 633960 w 6476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64692" h="21600">
                  <a:moveTo>
                    <a:pt x="0" y="0"/>
                  </a:moveTo>
                  <a:lnTo>
                    <a:pt x="64692" y="0"/>
                  </a:lnTo>
                  <a:lnTo>
                    <a:pt x="64692" y="21600"/>
                  </a:lnTo>
                  <a:lnTo>
                    <a:pt x="0" y="21600"/>
                  </a:lnTo>
                  <a:close/>
                </a:path>
                <a:path fill="lightenLess" w="64692" h="21600">
                  <a:moveTo>
                    <a:pt x="0" y="0"/>
                  </a:moveTo>
                  <a:lnTo>
                    <a:pt x="64692" y="0"/>
                  </a:lnTo>
                  <a:lnTo>
                    <a:pt x="63292" y="1400"/>
                  </a:lnTo>
                  <a:lnTo>
                    <a:pt x="1400" y="1400"/>
                  </a:lnTo>
                  <a:close/>
                </a:path>
                <a:path fill="darken" w="64692" h="21600">
                  <a:moveTo>
                    <a:pt x="64692" y="0"/>
                  </a:moveTo>
                  <a:lnTo>
                    <a:pt x="64692" y="21600"/>
                  </a:lnTo>
                  <a:lnTo>
                    <a:pt x="63292" y="20200"/>
                  </a:lnTo>
                  <a:lnTo>
                    <a:pt x="63292" y="1400"/>
                  </a:lnTo>
                  <a:close/>
                </a:path>
                <a:path fill="darkenLess" w="64692" h="21600">
                  <a:moveTo>
                    <a:pt x="6469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292" y="20200"/>
                  </a:lnTo>
                  <a:close/>
                </a:path>
                <a:path fill="lighten" w="6469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égs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73440" y="612720"/>
              <a:ext cx="647640" cy="216000"/>
            </a:xfrm>
            <a:custGeom>
              <a:avLst/>
              <a:gdLst>
                <a:gd name="textAreaLeft" fmla="*/ 13680 w 647640"/>
                <a:gd name="textAreaRight" fmla="*/ 633960 w 6476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64692" h="21600">
                  <a:moveTo>
                    <a:pt x="0" y="0"/>
                  </a:moveTo>
                  <a:lnTo>
                    <a:pt x="64692" y="0"/>
                  </a:lnTo>
                  <a:lnTo>
                    <a:pt x="64692" y="21600"/>
                  </a:lnTo>
                  <a:lnTo>
                    <a:pt x="0" y="21600"/>
                  </a:lnTo>
                  <a:close/>
                </a:path>
                <a:path fill="lightenLess" w="64692" h="21600">
                  <a:moveTo>
                    <a:pt x="0" y="0"/>
                  </a:moveTo>
                  <a:lnTo>
                    <a:pt x="64692" y="0"/>
                  </a:lnTo>
                  <a:lnTo>
                    <a:pt x="63292" y="1400"/>
                  </a:lnTo>
                  <a:lnTo>
                    <a:pt x="1400" y="1400"/>
                  </a:lnTo>
                  <a:close/>
                </a:path>
                <a:path fill="darken" w="64692" h="21600">
                  <a:moveTo>
                    <a:pt x="64692" y="0"/>
                  </a:moveTo>
                  <a:lnTo>
                    <a:pt x="64692" y="21600"/>
                  </a:lnTo>
                  <a:lnTo>
                    <a:pt x="63292" y="20200"/>
                  </a:lnTo>
                  <a:lnTo>
                    <a:pt x="63292" y="1400"/>
                  </a:lnTo>
                  <a:close/>
                </a:path>
                <a:path fill="darkenLess" w="64692" h="21600">
                  <a:moveTo>
                    <a:pt x="6469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292" y="20200"/>
                  </a:lnTo>
                  <a:close/>
                </a:path>
                <a:path fill="lighten" w="6469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örlé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65800" y="612720"/>
              <a:ext cx="647640" cy="216000"/>
            </a:xfrm>
            <a:custGeom>
              <a:avLst/>
              <a:gdLst>
                <a:gd name="textAreaLeft" fmla="*/ 13680 w 647640"/>
                <a:gd name="textAreaRight" fmla="*/ 633960 w 6476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64692" h="21600">
                  <a:moveTo>
                    <a:pt x="0" y="0"/>
                  </a:moveTo>
                  <a:lnTo>
                    <a:pt x="64692" y="0"/>
                  </a:lnTo>
                  <a:lnTo>
                    <a:pt x="64692" y="21600"/>
                  </a:lnTo>
                  <a:lnTo>
                    <a:pt x="0" y="21600"/>
                  </a:lnTo>
                  <a:close/>
                </a:path>
                <a:path fill="lightenLess" w="64692" h="21600">
                  <a:moveTo>
                    <a:pt x="0" y="0"/>
                  </a:moveTo>
                  <a:lnTo>
                    <a:pt x="64692" y="0"/>
                  </a:lnTo>
                  <a:lnTo>
                    <a:pt x="63292" y="1400"/>
                  </a:lnTo>
                  <a:lnTo>
                    <a:pt x="1400" y="1400"/>
                  </a:lnTo>
                  <a:close/>
                </a:path>
                <a:path fill="darken" w="64692" h="21600">
                  <a:moveTo>
                    <a:pt x="64692" y="0"/>
                  </a:moveTo>
                  <a:lnTo>
                    <a:pt x="64692" y="21600"/>
                  </a:lnTo>
                  <a:lnTo>
                    <a:pt x="63292" y="20200"/>
                  </a:lnTo>
                  <a:lnTo>
                    <a:pt x="63292" y="1400"/>
                  </a:lnTo>
                  <a:close/>
                </a:path>
                <a:path fill="darkenLess" w="64692" h="21600">
                  <a:moveTo>
                    <a:pt x="6469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292" y="20200"/>
                  </a:lnTo>
                  <a:close/>
                </a:path>
                <a:path fill="lighten" w="6469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sato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>
              <a:hlinkClick r:id="" action="ppaction://hlinkshowjump?jump=previousslide"/>
            </p:cNvPr>
            <p:cNvSpPr/>
            <p:nvPr/>
          </p:nvSpPr>
          <p:spPr>
            <a:xfrm>
              <a:off x="6121440" y="612720"/>
              <a:ext cx="431640" cy="216000"/>
            </a:xfrm>
            <a:custGeom>
              <a:avLst/>
              <a:gdLst>
                <a:gd name="textAreaLeft" fmla="*/ 13680 w 431640"/>
                <a:gd name="textAreaRight" fmla="*/ 417960 w 4316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3128" h="21600">
                  <a:moveTo>
                    <a:pt x="0" y="0"/>
                  </a:moveTo>
                  <a:lnTo>
                    <a:pt x="43128" y="0"/>
                  </a:lnTo>
                  <a:lnTo>
                    <a:pt x="43128" y="21600"/>
                  </a:lnTo>
                  <a:lnTo>
                    <a:pt x="0" y="21600"/>
                  </a:lnTo>
                  <a:close/>
                </a:path>
                <a:path fill="lightenLess" w="43128" h="21600">
                  <a:moveTo>
                    <a:pt x="0" y="0"/>
                  </a:moveTo>
                  <a:lnTo>
                    <a:pt x="43128" y="0"/>
                  </a:lnTo>
                  <a:lnTo>
                    <a:pt x="41728" y="1400"/>
                  </a:lnTo>
                  <a:lnTo>
                    <a:pt x="1400" y="1400"/>
                  </a:lnTo>
                  <a:close/>
                </a:path>
                <a:path fill="darken" w="43128" h="21600">
                  <a:moveTo>
                    <a:pt x="43128" y="0"/>
                  </a:moveTo>
                  <a:lnTo>
                    <a:pt x="43128" y="21600"/>
                  </a:lnTo>
                  <a:lnTo>
                    <a:pt x="41728" y="20200"/>
                  </a:lnTo>
                  <a:lnTo>
                    <a:pt x="41728" y="1400"/>
                  </a:lnTo>
                  <a:close/>
                </a:path>
                <a:path fill="darkenLess" w="43128" h="21600">
                  <a:moveTo>
                    <a:pt x="431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728" y="20200"/>
                  </a:lnTo>
                  <a:close/>
                </a:path>
                <a:path fill="lighten" w="431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128" h="21600">
                  <a:moveTo>
                    <a:pt x="14558" y="10800"/>
                  </a:moveTo>
                  <a:lnTo>
                    <a:pt x="28571" y="3794"/>
                  </a:lnTo>
                  <a:lnTo>
                    <a:pt x="28571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lőz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>
              <a:hlinkClick r:id="" action="ppaction://hlinkshowjump?jump=nextslide"/>
            </p:cNvPr>
            <p:cNvSpPr/>
            <p:nvPr/>
          </p:nvSpPr>
          <p:spPr>
            <a:xfrm>
              <a:off x="6624720" y="612720"/>
              <a:ext cx="433440" cy="216000"/>
            </a:xfrm>
            <a:custGeom>
              <a:avLst/>
              <a:gdLst>
                <a:gd name="textAreaLeft" fmla="*/ 13680 w 433440"/>
                <a:gd name="textAreaRight" fmla="*/ 419760 w 4334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3308" h="21600">
                  <a:moveTo>
                    <a:pt x="0" y="0"/>
                  </a:moveTo>
                  <a:lnTo>
                    <a:pt x="43308" y="0"/>
                  </a:lnTo>
                  <a:lnTo>
                    <a:pt x="43308" y="21600"/>
                  </a:lnTo>
                  <a:lnTo>
                    <a:pt x="0" y="21600"/>
                  </a:lnTo>
                  <a:close/>
                </a:path>
                <a:path fill="lightenLess" w="43308" h="21600">
                  <a:moveTo>
                    <a:pt x="0" y="0"/>
                  </a:moveTo>
                  <a:lnTo>
                    <a:pt x="43308" y="0"/>
                  </a:lnTo>
                  <a:lnTo>
                    <a:pt x="41908" y="1400"/>
                  </a:lnTo>
                  <a:lnTo>
                    <a:pt x="1400" y="1400"/>
                  </a:lnTo>
                  <a:close/>
                </a:path>
                <a:path fill="darken" w="43308" h="21600">
                  <a:moveTo>
                    <a:pt x="43308" y="0"/>
                  </a:moveTo>
                  <a:lnTo>
                    <a:pt x="43308" y="21600"/>
                  </a:lnTo>
                  <a:lnTo>
                    <a:pt x="41908" y="20200"/>
                  </a:lnTo>
                  <a:lnTo>
                    <a:pt x="41908" y="1400"/>
                  </a:lnTo>
                  <a:close/>
                </a:path>
                <a:path fill="darkenLess" w="43308" h="21600">
                  <a:moveTo>
                    <a:pt x="433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908" y="20200"/>
                  </a:lnTo>
                  <a:close/>
                </a:path>
                <a:path fill="lighten" w="433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308" h="21600">
                  <a:moveTo>
                    <a:pt x="14647" y="3794"/>
                  </a:moveTo>
                  <a:lnTo>
                    <a:pt x="28660" y="10800"/>
                  </a:lnTo>
                  <a:lnTo>
                    <a:pt x="14647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övetkez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>
              <a:hlinkClick r:id="" action="ppaction://hlinkshowjump?jump=firstslide"/>
            </p:cNvPr>
            <p:cNvSpPr/>
            <p:nvPr/>
          </p:nvSpPr>
          <p:spPr>
            <a:xfrm>
              <a:off x="5616720" y="612720"/>
              <a:ext cx="431640" cy="216000"/>
            </a:xfrm>
            <a:custGeom>
              <a:avLst/>
              <a:gdLst>
                <a:gd name="textAreaLeft" fmla="*/ 13680 w 431640"/>
                <a:gd name="textAreaRight" fmla="*/ 417960 w 4316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3128" h="21600">
                  <a:moveTo>
                    <a:pt x="0" y="0"/>
                  </a:moveTo>
                  <a:lnTo>
                    <a:pt x="43128" y="0"/>
                  </a:lnTo>
                  <a:lnTo>
                    <a:pt x="43128" y="21600"/>
                  </a:lnTo>
                  <a:lnTo>
                    <a:pt x="0" y="21600"/>
                  </a:lnTo>
                  <a:close/>
                </a:path>
                <a:path fill="lightenLess" w="43128" h="21600">
                  <a:moveTo>
                    <a:pt x="0" y="0"/>
                  </a:moveTo>
                  <a:lnTo>
                    <a:pt x="43128" y="0"/>
                  </a:lnTo>
                  <a:lnTo>
                    <a:pt x="41728" y="1400"/>
                  </a:lnTo>
                  <a:lnTo>
                    <a:pt x="1400" y="1400"/>
                  </a:lnTo>
                  <a:close/>
                </a:path>
                <a:path fill="darken" w="43128" h="21600">
                  <a:moveTo>
                    <a:pt x="43128" y="0"/>
                  </a:moveTo>
                  <a:lnTo>
                    <a:pt x="43128" y="21600"/>
                  </a:lnTo>
                  <a:lnTo>
                    <a:pt x="41728" y="20200"/>
                  </a:lnTo>
                  <a:lnTo>
                    <a:pt x="41728" y="1400"/>
                  </a:lnTo>
                  <a:close/>
                </a:path>
                <a:path fill="darkenLess" w="43128" h="21600">
                  <a:moveTo>
                    <a:pt x="431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728" y="20200"/>
                  </a:lnTo>
                  <a:close/>
                </a:path>
                <a:path fill="lighten" w="431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128" h="21600">
                  <a:moveTo>
                    <a:pt x="18065" y="10800"/>
                  </a:moveTo>
                  <a:lnTo>
                    <a:pt x="28571" y="3794"/>
                  </a:lnTo>
                  <a:lnTo>
                    <a:pt x="28571" y="17806"/>
                  </a:lnTo>
                  <a:close/>
                </a:path>
                <a:path fill="darken" w="43128" h="21600">
                  <a:moveTo>
                    <a:pt x="14558" y="3794"/>
                  </a:moveTo>
                  <a:lnTo>
                    <a:pt x="16220" y="3794"/>
                  </a:lnTo>
                  <a:lnTo>
                    <a:pt x="16220" y="17806"/>
                  </a:lnTo>
                  <a:lnTo>
                    <a:pt x="14558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ls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>
              <a:hlinkClick r:id="" action="ppaction://hlinkshowjump?jump=lastslide"/>
            </p:cNvPr>
            <p:cNvSpPr/>
            <p:nvPr/>
          </p:nvSpPr>
          <p:spPr>
            <a:xfrm>
              <a:off x="7129440" y="612720"/>
              <a:ext cx="433440" cy="216000"/>
            </a:xfrm>
            <a:custGeom>
              <a:avLst/>
              <a:gdLst>
                <a:gd name="textAreaLeft" fmla="*/ 13680 w 433440"/>
                <a:gd name="textAreaRight" fmla="*/ 419760 w 4334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3308" h="21600">
                  <a:moveTo>
                    <a:pt x="0" y="0"/>
                  </a:moveTo>
                  <a:lnTo>
                    <a:pt x="43308" y="0"/>
                  </a:lnTo>
                  <a:lnTo>
                    <a:pt x="43308" y="21600"/>
                  </a:lnTo>
                  <a:lnTo>
                    <a:pt x="0" y="21600"/>
                  </a:lnTo>
                  <a:close/>
                </a:path>
                <a:path fill="lightenLess" w="43308" h="21600">
                  <a:moveTo>
                    <a:pt x="0" y="0"/>
                  </a:moveTo>
                  <a:lnTo>
                    <a:pt x="43308" y="0"/>
                  </a:lnTo>
                  <a:lnTo>
                    <a:pt x="41908" y="1400"/>
                  </a:lnTo>
                  <a:lnTo>
                    <a:pt x="1400" y="1400"/>
                  </a:lnTo>
                  <a:close/>
                </a:path>
                <a:path fill="darken" w="43308" h="21600">
                  <a:moveTo>
                    <a:pt x="43308" y="0"/>
                  </a:moveTo>
                  <a:lnTo>
                    <a:pt x="43308" y="21600"/>
                  </a:lnTo>
                  <a:lnTo>
                    <a:pt x="41908" y="20200"/>
                  </a:lnTo>
                  <a:lnTo>
                    <a:pt x="41908" y="1400"/>
                  </a:lnTo>
                  <a:close/>
                </a:path>
                <a:path fill="darkenLess" w="43308" h="21600">
                  <a:moveTo>
                    <a:pt x="433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908" y="20200"/>
                  </a:lnTo>
                  <a:close/>
                </a:path>
                <a:path fill="lighten" w="433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308" h="21600">
                  <a:moveTo>
                    <a:pt x="25153" y="10800"/>
                  </a:moveTo>
                  <a:lnTo>
                    <a:pt x="14647" y="17806"/>
                  </a:lnTo>
                  <a:lnTo>
                    <a:pt x="14647" y="3794"/>
                  </a:lnTo>
                  <a:close/>
                </a:path>
                <a:path fill="darken" w="43308" h="21600">
                  <a:moveTo>
                    <a:pt x="26998" y="3794"/>
                  </a:moveTo>
                  <a:lnTo>
                    <a:pt x="26998" y="17806"/>
                  </a:lnTo>
                  <a:lnTo>
                    <a:pt x="28660" y="17806"/>
                  </a:lnTo>
                  <a:lnTo>
                    <a:pt x="28660" y="379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ols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20800" y="239760"/>
              <a:ext cx="179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Épület adatok… (Epulet, view  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34360" y="1422360"/>
              <a:ext cx="92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lyrajzi 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63880" y="1422360"/>
              <a:ext cx="1295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helyrajzis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4160" y="1052640"/>
              <a:ext cx="107064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zonosító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88120" y="1746360"/>
              <a:ext cx="48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ár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05080" y="1771560"/>
              <a:ext cx="1512720" cy="19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varos</a:t>
              </a:r>
              <a:r>
                <a:rPr b="0" lang="hu-HU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irs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>
              <a:hlinkClick r:id="" action="ppaction://hlinkshowjump?jump=previousslide"/>
            </p:cNvPr>
            <p:cNvSpPr/>
            <p:nvPr/>
          </p:nvSpPr>
          <p:spPr>
            <a:xfrm rot="16200000">
              <a:off x="2953440" y="17074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320" y="1801800"/>
              <a:ext cx="41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t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8920" y="1801800"/>
              <a:ext cx="1297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ut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66880" y="178452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.h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24720" y="1793880"/>
              <a:ext cx="5032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epcso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5240" y="1800360"/>
              <a:ext cx="51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örz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51280" y="1800360"/>
              <a:ext cx="1512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Korzet/korzet_i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49,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>
              <a:hlinkClick r:id="" action="ppaction://hlinkshowjump?jump=previousslide"/>
            </p:cNvPr>
            <p:cNvSpPr/>
            <p:nvPr/>
          </p:nvSpPr>
          <p:spPr>
            <a:xfrm rot="16200000">
              <a:off x="5404680" y="17470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360" y="1387440"/>
              <a:ext cx="74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örzsszá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03280" y="1422360"/>
              <a:ext cx="1513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torzs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240" y="2724120"/>
              <a:ext cx="268020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i,vagyonkezelési és üzemeltetési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7640" y="3500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ésb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étel jogcí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" y="3132000"/>
              <a:ext cx="100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viszo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88040" y="314172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ésből kiadá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gcí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3240" y="393372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kásból önkormányzat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 (d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46200" y="4881600"/>
              <a:ext cx="1070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ás kezelő szer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35480" y="3554280"/>
              <a:ext cx="1212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ésbe vétel é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72160" y="4869000"/>
              <a:ext cx="1352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ás kezelő szerv ne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95360" y="3571920"/>
              <a:ext cx="179856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kezelbe_vetel_jogc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2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3280" y="3141720"/>
              <a:ext cx="1729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kezelbol_kiad_jogc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1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 rot="16200000">
              <a:off x="6408000" y="31060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03280" y="4005360"/>
              <a:ext cx="1656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lakas_onkorm_tulajd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83280" y="4835520"/>
              <a:ext cx="2054520" cy="24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maskezeloszervne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384800" y="4932360"/>
              <a:ext cx="142920" cy="144360"/>
              <a:chOff x="4384800" y="4932360"/>
              <a:chExt cx="142920" cy="144360"/>
            </a:xfrm>
          </p:grpSpPr>
          <p:sp>
            <p:nvSpPr>
              <p:cNvPr id="149" name=""/>
              <p:cNvSpPr/>
              <p:nvPr/>
            </p:nvSpPr>
            <p:spPr>
              <a:xfrm>
                <a:off x="4384800" y="4932360"/>
                <a:ext cx="14292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19720" y="49608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528080" y="4869000"/>
              <a:ext cx="1198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ep_maskezeloszer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3280" y="3573360"/>
              <a:ext cx="1224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kezelesbe_vetel_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 rot="16200000">
              <a:off x="3167640" y="3032640"/>
              <a:ext cx="216000" cy="28764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640"/>
                <a:gd name="textAreaBottom" fmla="*/ 273960 h 287640"/>
              </a:gdLst>
              <a:ahLst/>
              <a:rect l="textAreaLeft" t="textAreaTop" r="textAreaRight" b="textAreaBottom"/>
              <a:pathLst>
                <a:path w="21600" h="28752">
                  <a:moveTo>
                    <a:pt x="0" y="0"/>
                  </a:moveTo>
                  <a:lnTo>
                    <a:pt x="21600" y="0"/>
                  </a:lnTo>
                  <a:lnTo>
                    <a:pt x="21600" y="28752"/>
                  </a:lnTo>
                  <a:lnTo>
                    <a:pt x="0" y="28752"/>
                  </a:lnTo>
                  <a:close/>
                </a:path>
                <a:path fill="lightenLess" w="21600" h="28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52">
                  <a:moveTo>
                    <a:pt x="21600" y="0"/>
                  </a:moveTo>
                  <a:lnTo>
                    <a:pt x="21600" y="28752"/>
                  </a:lnTo>
                  <a:lnTo>
                    <a:pt x="20200" y="27352"/>
                  </a:lnTo>
                  <a:lnTo>
                    <a:pt x="20200" y="1400"/>
                  </a:lnTo>
                  <a:close/>
                </a:path>
                <a:path fill="darkenLess" w="21600" h="28752">
                  <a:moveTo>
                    <a:pt x="21600" y="28752"/>
                  </a:moveTo>
                  <a:lnTo>
                    <a:pt x="0" y="28752"/>
                  </a:lnTo>
                  <a:lnTo>
                    <a:pt x="1400" y="27352"/>
                  </a:lnTo>
                  <a:lnTo>
                    <a:pt x="20200" y="27352"/>
                  </a:lnTo>
                  <a:close/>
                </a:path>
                <a:path fill="lighten" w="21600" h="28752">
                  <a:moveTo>
                    <a:pt x="0" y="28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52"/>
                  </a:lnTo>
                  <a:close/>
                </a:path>
                <a:path fill="darken" w="21600" h="28752">
                  <a:moveTo>
                    <a:pt x="3794" y="14376"/>
                  </a:moveTo>
                  <a:lnTo>
                    <a:pt x="17806" y="7370"/>
                  </a:lnTo>
                  <a:lnTo>
                    <a:pt x="17806" y="213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4920" y="4292640"/>
              <a:ext cx="985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bó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Önkormányzat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 (d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72720" y="4405320"/>
              <a:ext cx="960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bó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önkormányzat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 (m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3280" y="4437000"/>
              <a:ext cx="1728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nemlakas_onkorm_tulaj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3920" y="4433760"/>
              <a:ext cx="1728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nemlakas_onkorm_tulajd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57440" y="1782720"/>
              <a:ext cx="41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sz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48680" y="1792440"/>
              <a:ext cx="5032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haz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 rot="16200000">
              <a:off x="3240720" y="35362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30360" y="3554280"/>
              <a:ext cx="104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tározat szám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4280" y="3573360"/>
              <a:ext cx="1224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hatarozat_s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0160" y="393372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kásból önkormányzat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lajdon (m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33920" y="4005360"/>
              <a:ext cx="1655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lakas_onkorm_tulajdon_m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3600" y="4869000"/>
              <a:ext cx="1179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Állami tulajdon rés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03280" y="4869000"/>
              <a:ext cx="172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allami_tulajdon_res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3280" y="5229360"/>
              <a:ext cx="1728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hazkezelose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6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840" y="5221440"/>
              <a:ext cx="90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ázkezelősé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previousslide"/>
            </p:cNvPr>
            <p:cNvSpPr/>
            <p:nvPr/>
          </p:nvSpPr>
          <p:spPr>
            <a:xfrm rot="16200000">
              <a:off x="3168000" y="5150160"/>
              <a:ext cx="215640" cy="287640"/>
            </a:xfrm>
            <a:custGeom>
              <a:avLst/>
              <a:gdLst>
                <a:gd name="textAreaLeft" fmla="*/ 13680 w 215640"/>
                <a:gd name="textAreaRight" fmla="*/ 201960 w 215640"/>
                <a:gd name="textAreaTop" fmla="*/ 13680 h 287640"/>
                <a:gd name="textAreaBottom" fmla="*/ 273960 h 28764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00" y="27400"/>
                  </a:lnTo>
                  <a:lnTo>
                    <a:pt x="20200" y="140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400" y="27400"/>
                  </a:lnTo>
                  <a:lnTo>
                    <a:pt x="20200" y="2740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400"/>
                  </a:lnTo>
                  <a:close/>
                </a:path>
                <a:path fill="darken" w="21600" h="28800">
                  <a:moveTo>
                    <a:pt x="3794" y="14400"/>
                  </a:moveTo>
                  <a:lnTo>
                    <a:pt x="17806" y="7394"/>
                  </a:lnTo>
                  <a:lnTo>
                    <a:pt x="17806" y="2140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280" y="5619600"/>
              <a:ext cx="120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idegenítési tilal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44400" y="5607000"/>
              <a:ext cx="1410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900" spc="-1" strike="noStrike">
                  <a:solidFill>
                    <a:srgbClr val="000000"/>
                  </a:solidFill>
                  <a:latin typeface="Arial"/>
                </a:rPr>
                <a:t>ep_elidegenitesi_tilal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405080" y="5661000"/>
              <a:ext cx="142560" cy="144360"/>
              <a:chOff x="1405080" y="5661000"/>
              <a:chExt cx="142560" cy="144360"/>
            </a:xfrm>
          </p:grpSpPr>
          <p:sp>
            <p:nvSpPr>
              <p:cNvPr id="173" name=""/>
              <p:cNvSpPr/>
              <p:nvPr/>
            </p:nvSpPr>
            <p:spPr>
              <a:xfrm>
                <a:off x="1405080" y="5661000"/>
                <a:ext cx="14256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39640" y="568944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398600" y="5929200"/>
              <a:ext cx="1728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elidegenit_tilalom1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3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160" y="5867280"/>
              <a:ext cx="87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idegenítés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lalom1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>
              <a:hlinkClick r:id="" action="ppaction://hlinkshowjump?jump=previousslide"/>
            </p:cNvPr>
            <p:cNvSpPr/>
            <p:nvPr/>
          </p:nvSpPr>
          <p:spPr>
            <a:xfrm rot="16200000">
              <a:off x="3162960" y="586980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05160" y="5929200"/>
              <a:ext cx="1729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elidegenit_tilalom2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3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11720" y="5867280"/>
              <a:ext cx="87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idegenítés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lalom2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 rot="16200000">
              <a:off x="5976000" y="5867640"/>
              <a:ext cx="215640" cy="287280"/>
            </a:xfrm>
            <a:custGeom>
              <a:avLst/>
              <a:gdLst>
                <a:gd name="textAreaLeft" fmla="*/ 13680 w 215640"/>
                <a:gd name="textAreaRight" fmla="*/ 201960 w 21564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64">
                  <a:moveTo>
                    <a:pt x="0" y="0"/>
                  </a:moveTo>
                  <a:lnTo>
                    <a:pt x="21600" y="0"/>
                  </a:lnTo>
                  <a:lnTo>
                    <a:pt x="21600" y="28764"/>
                  </a:lnTo>
                  <a:lnTo>
                    <a:pt x="0" y="28764"/>
                  </a:lnTo>
                  <a:close/>
                </a:path>
                <a:path fill="lightenLess" w="21600" h="2876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64">
                  <a:moveTo>
                    <a:pt x="21600" y="0"/>
                  </a:moveTo>
                  <a:lnTo>
                    <a:pt x="21600" y="28764"/>
                  </a:lnTo>
                  <a:lnTo>
                    <a:pt x="20200" y="27364"/>
                  </a:lnTo>
                  <a:lnTo>
                    <a:pt x="20200" y="1400"/>
                  </a:lnTo>
                  <a:close/>
                </a:path>
                <a:path fill="darkenLess" w="21600" h="28764">
                  <a:moveTo>
                    <a:pt x="21600" y="28764"/>
                  </a:moveTo>
                  <a:lnTo>
                    <a:pt x="0" y="28764"/>
                  </a:lnTo>
                  <a:lnTo>
                    <a:pt x="1400" y="27364"/>
                  </a:lnTo>
                  <a:lnTo>
                    <a:pt x="20200" y="27364"/>
                  </a:lnTo>
                  <a:close/>
                </a:path>
                <a:path fill="lighten" w="21600" h="28764">
                  <a:moveTo>
                    <a:pt x="0" y="2876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64"/>
                  </a:lnTo>
                  <a:close/>
                </a:path>
                <a:path fill="darken" w="21600" h="28764">
                  <a:moveTo>
                    <a:pt x="3794" y="14382"/>
                  </a:moveTo>
                  <a:lnTo>
                    <a:pt x="17806" y="7376"/>
                  </a:lnTo>
                  <a:lnTo>
                    <a:pt x="17806" y="213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48360" y="5934240"/>
              <a:ext cx="1729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elidegenit_tilalom3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3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4920" y="5872320"/>
              <a:ext cx="87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idegenítés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lalom3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>
              <a:hlinkClick r:id="" action="ppaction://hlinkshowjump?jump=previousslide"/>
            </p:cNvPr>
            <p:cNvSpPr/>
            <p:nvPr/>
          </p:nvSpPr>
          <p:spPr>
            <a:xfrm rot="16200000">
              <a:off x="8713080" y="586980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89280" y="620640"/>
            <a:ext cx="8802360" cy="5825520"/>
            <a:chOff x="89280" y="620640"/>
            <a:chExt cx="8802360" cy="5825520"/>
          </a:xfrm>
        </p:grpSpPr>
        <p:sp>
          <p:nvSpPr>
            <p:cNvPr id="185" name=""/>
            <p:cNvSpPr/>
            <p:nvPr/>
          </p:nvSpPr>
          <p:spPr>
            <a:xfrm>
              <a:off x="1403280" y="1015920"/>
              <a:ext cx="1728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funkcio_szerinti_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880" y="620640"/>
              <a:ext cx="88488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200" y="139716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ítés é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4400" y="947880"/>
              <a:ext cx="130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 funkció szerin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gnevezé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1280" y="9810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ndelteté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69120" y="1403280"/>
              <a:ext cx="1154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tolsó felújítás é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5760" y="2425680"/>
              <a:ext cx="1293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kások területe (m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2360" y="1413000"/>
              <a:ext cx="1152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epitesi_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24360" y="981000"/>
              <a:ext cx="11523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rendeltet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4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previousslide"/>
            </p:cNvPr>
            <p:cNvSpPr/>
            <p:nvPr/>
          </p:nvSpPr>
          <p:spPr>
            <a:xfrm rot="16200000">
              <a:off x="5136120" y="945000"/>
              <a:ext cx="216000" cy="28764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640"/>
                <a:gd name="textAreaBottom" fmla="*/ 273960 h 287640"/>
              </a:gdLst>
              <a:ahLst/>
              <a:rect l="textAreaLeft" t="textAreaTop" r="textAreaRight" b="textAreaBottom"/>
              <a:pathLst>
                <a:path w="21600" h="28752">
                  <a:moveTo>
                    <a:pt x="0" y="0"/>
                  </a:moveTo>
                  <a:lnTo>
                    <a:pt x="21600" y="0"/>
                  </a:lnTo>
                  <a:lnTo>
                    <a:pt x="21600" y="28752"/>
                  </a:lnTo>
                  <a:lnTo>
                    <a:pt x="0" y="28752"/>
                  </a:lnTo>
                  <a:close/>
                </a:path>
                <a:path fill="lightenLess" w="21600" h="28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52">
                  <a:moveTo>
                    <a:pt x="21600" y="0"/>
                  </a:moveTo>
                  <a:lnTo>
                    <a:pt x="21600" y="28752"/>
                  </a:lnTo>
                  <a:lnTo>
                    <a:pt x="20200" y="27352"/>
                  </a:lnTo>
                  <a:lnTo>
                    <a:pt x="20200" y="1400"/>
                  </a:lnTo>
                  <a:close/>
                </a:path>
                <a:path fill="darkenLess" w="21600" h="28752">
                  <a:moveTo>
                    <a:pt x="21600" y="28752"/>
                  </a:moveTo>
                  <a:lnTo>
                    <a:pt x="0" y="28752"/>
                  </a:lnTo>
                  <a:lnTo>
                    <a:pt x="1400" y="27352"/>
                  </a:lnTo>
                  <a:lnTo>
                    <a:pt x="20200" y="27352"/>
                  </a:lnTo>
                  <a:close/>
                </a:path>
                <a:path fill="lighten" w="21600" h="28752">
                  <a:moveTo>
                    <a:pt x="0" y="28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52"/>
                  </a:lnTo>
                  <a:close/>
                </a:path>
                <a:path fill="darken" w="21600" h="28752">
                  <a:moveTo>
                    <a:pt x="3794" y="14376"/>
                  </a:moveTo>
                  <a:lnTo>
                    <a:pt x="17806" y="7370"/>
                  </a:lnTo>
                  <a:lnTo>
                    <a:pt x="17806" y="213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13000" y="1776240"/>
              <a:ext cx="1152360" cy="23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szint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5800" y="2382840"/>
              <a:ext cx="9730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lakas_m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24360" y="1417680"/>
              <a:ext cx="1224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ut_teljes_feluj_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6560" y="20559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özös helyisége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záma d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93240" y="206064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özös helyisége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rülete (m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17680" y="2128680"/>
              <a:ext cx="1440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kozos_helyiseg_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14640" y="2095560"/>
              <a:ext cx="1368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kozos_helyiseg_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28800" y="1413000"/>
              <a:ext cx="121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épített alapterü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54960" y="1413000"/>
              <a:ext cx="1223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beepitett_alap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3960" y="169560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zintek nettó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rülete (m2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14640" y="1773360"/>
              <a:ext cx="1378080" cy="23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szintek_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600" y="2416320"/>
              <a:ext cx="1217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kások száma (d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03280" y="2416320"/>
              <a:ext cx="1224000" cy="23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lakas_sz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93520" y="97632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ndeltetéstől eltérő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asznál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42000" y="981000"/>
              <a:ext cx="1943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ep_rendeltettol_eltero_haszn_kod</a:t>
              </a:r>
              <a:r>
                <a:rPr b="0" lang="hu-HU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800" spc="-1" strike="noStrike">
                  <a:solidFill>
                    <a:srgbClr val="000000"/>
                  </a:solidFill>
                  <a:latin typeface="Arial"/>
                </a:rPr>
                <a:t>Q455 kodmegne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 rot="16200000">
              <a:off x="8640000" y="94536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240" y="1747800"/>
              <a:ext cx="1165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zintek száma (d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17120" y="1773360"/>
              <a:ext cx="1421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inceszint területe (m2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9920" y="1773360"/>
              <a:ext cx="1378080" cy="23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pince_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67640" y="2354400"/>
              <a:ext cx="83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ezelt laká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rület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76920" y="2387520"/>
              <a:ext cx="973080" cy="26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kezelt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akas_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11120" y="235440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ényleges laká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rület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02560" y="2382840"/>
              <a:ext cx="9730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tenylege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lakas_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7440" y="26352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o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záma (d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03280" y="2708280"/>
              <a:ext cx="121140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62120" y="263700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ényleges nem lakáso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rü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3440" y="2709720"/>
              <a:ext cx="12049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tenyl_nemlaka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terul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9280" y="299232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ból polgár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édelem helyisége (db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06520" y="3065400"/>
              <a:ext cx="1211400" cy="27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polg_ved_sz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72920" y="299736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ból polgár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édelem helyisége (m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6040" y="3068640"/>
              <a:ext cx="121140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polg_ved_m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3000" y="44449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önyvszerinti bruttó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t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11120" y="4519440"/>
              <a:ext cx="100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brutto_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2320" y="3705120"/>
              <a:ext cx="82692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ték adato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97960" y="4519440"/>
              <a:ext cx="960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ruttó érték év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35400" y="4519440"/>
              <a:ext cx="10792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brutto_ertek_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20040" y="4508640"/>
              <a:ext cx="87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csült ért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5680" y="4508640"/>
              <a:ext cx="1081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becsult_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30920" y="4508640"/>
              <a:ext cx="1032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csült érték év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67640" y="4508640"/>
              <a:ext cx="1081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becsult_ertek_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4080" y="4114800"/>
              <a:ext cx="851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Állag mutató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32000" y="4127400"/>
              <a:ext cx="1027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allagmuta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8360" y="478476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kás forgalm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rték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20840" y="4853160"/>
              <a:ext cx="1079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lakas_forg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120" y="5197320"/>
              <a:ext cx="89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kás bevét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1360" y="5184720"/>
              <a:ext cx="1079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laka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bevet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72000" y="52243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öltsé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68880" y="5229360"/>
              <a:ext cx="1079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kolts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6240" y="4789440"/>
              <a:ext cx="90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galmi érték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63840" y="4869000"/>
              <a:ext cx="1079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forg_erte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56000" y="51688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m laká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vét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81480" y="5229360"/>
              <a:ext cx="10792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nemlakas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bevet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5720" y="516744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 üzemeltetés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ízdí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69080" y="5229360"/>
              <a:ext cx="1079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uzemeltetesi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vizdi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240" y="5977080"/>
              <a:ext cx="79488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gjegyzé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5280" y="6215040"/>
              <a:ext cx="8280360" cy="23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megjegyz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6600" y="4076640"/>
              <a:ext cx="103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Állagmutató kód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korm.rend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48000" y="4149720"/>
              <a:ext cx="102708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allagmutato</a:t>
              </a:r>
              <a:r>
                <a:rPr b="0" lang="hu-HU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Q447 kode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 rot="16200000">
              <a:off x="4463280" y="41140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62000" y="411012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Épület forgalo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épesség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51640" y="4149720"/>
              <a:ext cx="1584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forgalomkepesseg_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kod</a:t>
              </a:r>
              <a:r>
                <a:rPr b="0" lang="hu-HU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Q418 kode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previousslide"/>
            </p:cNvPr>
            <p:cNvSpPr/>
            <p:nvPr/>
          </p:nvSpPr>
          <p:spPr>
            <a:xfrm rot="16200000">
              <a:off x="7273080" y="4114080"/>
              <a:ext cx="216000" cy="287280"/>
            </a:xfrm>
            <a:custGeom>
              <a:avLst/>
              <a:gdLst>
                <a:gd name="textAreaLeft" fmla="*/ 13680 w 216000"/>
                <a:gd name="textAreaRight" fmla="*/ 202320 w 21600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16">
                  <a:moveTo>
                    <a:pt x="0" y="0"/>
                  </a:moveTo>
                  <a:lnTo>
                    <a:pt x="21600" y="0"/>
                  </a:lnTo>
                  <a:lnTo>
                    <a:pt x="21600" y="28716"/>
                  </a:lnTo>
                  <a:lnTo>
                    <a:pt x="0" y="28716"/>
                  </a:lnTo>
                  <a:close/>
                </a:path>
                <a:path fill="lightenLess" w="21600" h="2871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16">
                  <a:moveTo>
                    <a:pt x="21600" y="0"/>
                  </a:moveTo>
                  <a:lnTo>
                    <a:pt x="21600" y="28716"/>
                  </a:lnTo>
                  <a:lnTo>
                    <a:pt x="20200" y="27316"/>
                  </a:lnTo>
                  <a:lnTo>
                    <a:pt x="20200" y="1400"/>
                  </a:lnTo>
                  <a:close/>
                </a:path>
                <a:path fill="darkenLess" w="21600" h="28716">
                  <a:moveTo>
                    <a:pt x="21600" y="28716"/>
                  </a:moveTo>
                  <a:lnTo>
                    <a:pt x="0" y="28716"/>
                  </a:lnTo>
                  <a:lnTo>
                    <a:pt x="1400" y="27316"/>
                  </a:lnTo>
                  <a:lnTo>
                    <a:pt x="20200" y="27316"/>
                  </a:lnTo>
                  <a:close/>
                </a:path>
                <a:path fill="lighten" w="21600" h="28716">
                  <a:moveTo>
                    <a:pt x="0" y="2871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16"/>
                  </a:lnTo>
                  <a:close/>
                </a:path>
                <a:path fill="darken" w="21600" h="28716">
                  <a:moveTo>
                    <a:pt x="3794" y="14358"/>
                  </a:moveTo>
                  <a:lnTo>
                    <a:pt x="17806" y="7352"/>
                  </a:lnTo>
                  <a:lnTo>
                    <a:pt x="17806" y="2136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4760" y="5568840"/>
              <a:ext cx="1090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ogi rendezettsé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53960" y="5584680"/>
              <a:ext cx="1562400" cy="22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ep_jogi_rendez_kod</a:t>
              </a:r>
              <a:r>
                <a:rPr b="0" lang="hu-HU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900" spc="-1" strike="noStrike">
                  <a:solidFill>
                    <a:srgbClr val="000000"/>
                  </a:solidFill>
                  <a:latin typeface="Arial"/>
                </a:rPr>
                <a:t>Q427 koden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>
              <a:hlinkClick r:id="" action="ppaction://hlinkshowjump?jump=previousslide"/>
            </p:cNvPr>
            <p:cNvSpPr/>
            <p:nvPr/>
          </p:nvSpPr>
          <p:spPr>
            <a:xfrm rot="16200000">
              <a:off x="2952000" y="5553360"/>
              <a:ext cx="215640" cy="287280"/>
            </a:xfrm>
            <a:custGeom>
              <a:avLst/>
              <a:gdLst>
                <a:gd name="textAreaLeft" fmla="*/ 13680 w 215640"/>
                <a:gd name="textAreaRight" fmla="*/ 201960 w 215640"/>
                <a:gd name="textAreaTop" fmla="*/ 13680 h 287280"/>
                <a:gd name="textAreaBottom" fmla="*/ 273600 h 287280"/>
              </a:gdLst>
              <a:ahLst/>
              <a:rect l="textAreaLeft" t="textAreaTop" r="textAreaRight" b="textAreaBottom"/>
              <a:pathLst>
                <a:path w="21600" h="28764">
                  <a:moveTo>
                    <a:pt x="0" y="0"/>
                  </a:moveTo>
                  <a:lnTo>
                    <a:pt x="21600" y="0"/>
                  </a:lnTo>
                  <a:lnTo>
                    <a:pt x="21600" y="28764"/>
                  </a:lnTo>
                  <a:lnTo>
                    <a:pt x="0" y="28764"/>
                  </a:lnTo>
                  <a:close/>
                </a:path>
                <a:path fill="lightenLess" w="21600" h="2876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764">
                  <a:moveTo>
                    <a:pt x="21600" y="0"/>
                  </a:moveTo>
                  <a:lnTo>
                    <a:pt x="21600" y="28764"/>
                  </a:lnTo>
                  <a:lnTo>
                    <a:pt x="20200" y="27364"/>
                  </a:lnTo>
                  <a:lnTo>
                    <a:pt x="20200" y="1400"/>
                  </a:lnTo>
                  <a:close/>
                </a:path>
                <a:path fill="darkenLess" w="21600" h="28764">
                  <a:moveTo>
                    <a:pt x="21600" y="28764"/>
                  </a:moveTo>
                  <a:lnTo>
                    <a:pt x="0" y="28764"/>
                  </a:lnTo>
                  <a:lnTo>
                    <a:pt x="1400" y="27364"/>
                  </a:lnTo>
                  <a:lnTo>
                    <a:pt x="20200" y="27364"/>
                  </a:lnTo>
                  <a:close/>
                </a:path>
                <a:path fill="lighten" w="21600" h="28764">
                  <a:moveTo>
                    <a:pt x="0" y="2876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364"/>
                  </a:lnTo>
                  <a:close/>
                </a:path>
                <a:path fill="darken" w="21600" h="28764">
                  <a:moveTo>
                    <a:pt x="3794" y="14382"/>
                  </a:moveTo>
                  <a:lnTo>
                    <a:pt x="17806" y="7376"/>
                  </a:lnTo>
                  <a:lnTo>
                    <a:pt x="17806" y="213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4:33:45Z</dcterms:created>
  <dc:creator>Mariann</dc:creator>
  <dc:description/>
  <dc:language>en-US</dc:language>
  <cp:lastModifiedBy>Mariann</cp:lastModifiedBy>
  <dcterms:modified xsi:type="dcterms:W3CDTF">2013-07-30T01:41:22Z</dcterms:modified>
  <cp:revision>13</cp:revision>
  <dc:subject/>
  <dc:title>1. dia</dc:title>
</cp:coreProperties>
</file>