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4C7-8081-4024-9F00-200D7564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73D-A883-47BD-A861-E0C27B5A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461-190A-4521-920E-4A56EEEE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A78-47CF-49A5-82B7-A4CB41EA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B19-29ED-4E24-80B0-288D8B0C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DA6-3014-4304-B2B1-5716D21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26F-C79C-4A94-B059-10D21EC2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388-1A93-4B21-827C-23EA18E8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C77-D307-46FC-8525-D9ECBF5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7AC-7AE4-4FCB-9523-4D2FB42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F31-03B7-4E9D-9BC5-37205163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8D3-CCE9-45ED-B9E8-027FCEE5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38D-7C9D-4161-AD8F-5F0A05F4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8448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95800" y="461880"/>
            <a:ext cx="1204920" cy="368280"/>
          </a:xfrm>
          <a:prstGeom prst="rect">
            <a:avLst/>
          </a:prstGeom>
          <a:solidFill>
            <a:srgbClr val="ff9900">
              <a:alpha val="7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 műszak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512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5720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6732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5320" y="455760"/>
            <a:ext cx="59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4400" y="455760"/>
            <a:ext cx="59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1160" y="1289160"/>
            <a:ext cx="7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1268280"/>
            <a:ext cx="1584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ulet/ep_torzsszam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 rot="16200000">
            <a:off x="6076080" y="12582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1628640"/>
            <a:ext cx="439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ulet/ep_utca + ep_hazszam 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ulet_muszaki_adat/ep_id alapj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97560" y="1297080"/>
            <a:ext cx="1439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kulonleges_jellemz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1120" y="167652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86440" y="1262160"/>
            <a:ext cx="126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ülönleges jellemz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 rot="16200000">
            <a:off x="8512920" y="12582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64280" y="129384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epitesi_mod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6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1271520"/>
            <a:ext cx="78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í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27664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2349360"/>
            <a:ext cx="1584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í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49480" y="2340000"/>
            <a:ext cx="12859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üggőleges teherhordó szerk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55920" y="2340000"/>
            <a:ext cx="12528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tőszerk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34936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örz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0" y="2755800"/>
            <a:ext cx="1619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utca + ep_hsz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2120" y="2755800"/>
            <a:ext cx="1333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fugg_teherhor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k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755800"/>
            <a:ext cx="1233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etoszerkez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41840" y="2755800"/>
            <a:ext cx="13352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etoteri_beepitett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5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104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2760" y="168120"/>
            <a:ext cx="34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pület műszaki adatok nézete (Epulet_muszaki_adatok, view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32680" y="2755800"/>
            <a:ext cx="11685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orzsszam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27800" y="2330280"/>
            <a:ext cx="13492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tőtéri beépíte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rot="16200000">
            <a:off x="8514360" y="1593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40520" y="1647720"/>
            <a:ext cx="144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muszaki_allapo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66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91480" y="2336760"/>
            <a:ext cx="9460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 állap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75720" y="2324160"/>
            <a:ext cx="90000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sült építési é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755800"/>
            <a:ext cx="1027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allapo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6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02720" y="2755800"/>
            <a:ext cx="865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becsu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itesi_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6760" y="1639800"/>
            <a:ext cx="97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80" y="3181320"/>
            <a:ext cx="1619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utca + ep_hsz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2400" y="3181320"/>
            <a:ext cx="1333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fugg_teherhor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k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75000" y="3181320"/>
            <a:ext cx="123372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etoszerkez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32480" y="3181320"/>
            <a:ext cx="13348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etoteri_beepitett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5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2960" y="3181320"/>
            <a:ext cx="11685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orzsszam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8640" y="3181320"/>
            <a:ext cx="1027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allapo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6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93000" y="3181320"/>
            <a:ext cx="865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becsu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itesi_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3630600"/>
            <a:ext cx="161928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utca + ep_hsz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3040" y="3630600"/>
            <a:ext cx="1333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fugg_teherhordo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zerk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5640" y="3630600"/>
            <a:ext cx="123336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etoszerkez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8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2760" y="3630600"/>
            <a:ext cx="133524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etoteri_beepitettse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5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13600" y="3630600"/>
            <a:ext cx="1168560" cy="215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orzsszam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8920" y="3630600"/>
            <a:ext cx="1027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allapo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60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83640" y="3630600"/>
            <a:ext cx="865080" cy="337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becsult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itesi_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0200" y="1159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V E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93920" y="1851120"/>
            <a:ext cx="172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fugg_teherhordo_szerk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5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1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33440" y="612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5272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7344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5800" y="61272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at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612144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662472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5616720" y="612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8065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16220" y="3794"/>
                </a:lnTo>
                <a:lnTo>
                  <a:pt x="16220" y="17806"/>
                </a:lnTo>
                <a:lnTo>
                  <a:pt x="14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7129440" y="612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15400" y="239760"/>
            <a:ext cx="325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pület műszaki adatok… (Epulet_muszaki_adatok  view…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2360" y="1052640"/>
            <a:ext cx="1486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ltalános műszaki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240" y="220824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tőtéri beépített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040" y="17733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üggőleg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herhordó szerk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4840" y="1822320"/>
            <a:ext cx="90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tőszerkez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8320" y="2624040"/>
            <a:ext cx="106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éb ellátott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21240" y="220500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 állap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6000" y="2222640"/>
            <a:ext cx="179856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etoteri_beepitettseg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59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rot="16200000">
            <a:off x="6369840" y="17424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3920" y="2629080"/>
            <a:ext cx="180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egyeb_ellatottsag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33920" y="2224080"/>
            <a:ext cx="12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epulet_allapo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 rot="16200000">
            <a:off x="3158280" y="179892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rot="16200000">
            <a:off x="3229560" y="21880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3840" y="4410000"/>
            <a:ext cx="97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űtési rendsz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4724280"/>
            <a:ext cx="165600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melegviz_ella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94240" y="2624040"/>
            <a:ext cx="101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vonó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24560" y="2629080"/>
            <a:ext cx="16556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felvono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800" y="370512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rinc magas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40856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gázfogyasztas_meres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71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040" y="4394160"/>
            <a:ext cx="129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ázfogyasztás mér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 rot="16200000">
            <a:off x="3234600" y="43729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53737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fohoml_nyilzar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5840" y="53006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őhomlokzat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yílászárók 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53006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mellekhoml_nyilzar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1480" y="5229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lékhomlokzat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yílászárók terü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413000"/>
            <a:ext cx="3529080" cy="18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orzsszam + ep_utca +ep_hazszam + ep_lepcs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 rot="16200000">
            <a:off x="5893560" y="21884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2320" y="4410000"/>
            <a:ext cx="1511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futesi_rendszer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31680" y="4697280"/>
            <a:ext cx="138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eg víz ellá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 rot="16200000">
            <a:off x="3229920" y="259272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 rot="16200000">
            <a:off x="3186720" y="4688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 rot="16200000">
            <a:off x="6265080" y="4374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10160" y="17874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etoszerkezet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Q4457 kodmegn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9160" y="2984400"/>
            <a:ext cx="100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ulladék táro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7160" y="2989440"/>
            <a:ext cx="1800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hulladek_tarol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 rot="16200000">
            <a:off x="3232800" y="295308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0040" y="297828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sült építési é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2997360"/>
            <a:ext cx="136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becsult_epitesi_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160" y="4703760"/>
            <a:ext cx="1511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kulonleges jellemzok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83280" y="4653000"/>
            <a:ext cx="126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ülönleges jellemző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 rot="16200000">
            <a:off x="6263640" y="4650120"/>
            <a:ext cx="215640" cy="287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6160" y="3325680"/>
            <a:ext cx="97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űszaki állap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92120" y="3348000"/>
            <a:ext cx="1800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muszaki_allapo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 rot="16200000">
            <a:off x="3239280" y="3321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4520" y="3325680"/>
            <a:ext cx="78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ítési mó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357720"/>
            <a:ext cx="1656000" cy="24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epitesi_m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 rot="16200000">
            <a:off x="6336360" y="3321360"/>
            <a:ext cx="215640" cy="28728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64">
                <a:moveTo>
                  <a:pt x="0" y="0"/>
                </a:moveTo>
                <a:lnTo>
                  <a:pt x="21600" y="0"/>
                </a:lnTo>
                <a:lnTo>
                  <a:pt x="21600" y="28764"/>
                </a:lnTo>
                <a:lnTo>
                  <a:pt x="0" y="28764"/>
                </a:lnTo>
                <a:close/>
              </a:path>
              <a:path fill="lightenLess" w="21600" h="28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4">
                <a:moveTo>
                  <a:pt x="21600" y="0"/>
                </a:moveTo>
                <a:lnTo>
                  <a:pt x="21600" y="28764"/>
                </a:lnTo>
                <a:lnTo>
                  <a:pt x="20200" y="27364"/>
                </a:lnTo>
                <a:lnTo>
                  <a:pt x="20200" y="1400"/>
                </a:lnTo>
                <a:close/>
              </a:path>
              <a:path fill="darkenLess" w="21600" h="28764">
                <a:moveTo>
                  <a:pt x="21600" y="28764"/>
                </a:moveTo>
                <a:lnTo>
                  <a:pt x="0" y="28764"/>
                </a:lnTo>
                <a:lnTo>
                  <a:pt x="1400" y="27364"/>
                </a:lnTo>
                <a:lnTo>
                  <a:pt x="20200" y="27364"/>
                </a:lnTo>
                <a:close/>
              </a:path>
              <a:path fill="lighten" w="21600" h="28764">
                <a:moveTo>
                  <a:pt x="0" y="28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4"/>
                </a:lnTo>
                <a:close/>
              </a:path>
              <a:path fill="darken" w="21600" h="28764">
                <a:moveTo>
                  <a:pt x="3794" y="14382"/>
                </a:moveTo>
                <a:lnTo>
                  <a:pt x="17806" y="7376"/>
                </a:lnTo>
                <a:lnTo>
                  <a:pt x="17806" y="213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5000760"/>
            <a:ext cx="11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épített térfog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5013360"/>
            <a:ext cx="17272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beepitett_terfog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718080"/>
            <a:ext cx="1800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gerinc_magas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62360" y="3716280"/>
            <a:ext cx="1800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foparkanymagass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8440" y="3718080"/>
            <a:ext cx="128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őpárkány magas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5840" y="4035600"/>
            <a:ext cx="98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elet ráép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4048200"/>
            <a:ext cx="1800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emeletraepite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56800" y="4044960"/>
            <a:ext cx="10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rinc magassá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70280" y="407664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halozati_nyomas_bizt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6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 rot="16200000">
            <a:off x="3239280" y="40172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 rot="16200000">
            <a:off x="6336360" y="40410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5013360"/>
            <a:ext cx="165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gazella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0920" y="5022720"/>
            <a:ext cx="72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ázellá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 rot="16200000">
            <a:off x="3177360" y="4977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57340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labazat_nyilzar_ter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108000" y="5656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ábazat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yílászárók terü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9600" y="17683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nem_futott_t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000" y="2401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árműtároló terü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9800" y="17146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p-ben ne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űtött terf. (m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2920" y="20858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sókonyha terü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1840" y="27795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méttárol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89120" y="24019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yermekkocsi tárol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4920" y="24876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jarmutarolo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4920" y="284796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szemettarolo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4920" y="24732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gyermekkocsitar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0480" y="27766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mkam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4920" y="32796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kazan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6880" y="32036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abadidő helyisé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4920" y="32796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szabadidoh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60520" y="13604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lakas_ossz_fut_t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600" y="12938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p-ben lak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ssz.fűtött térf. (m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4920" y="284796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lomkamra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28800" y="319392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azán/hőközpo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er.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4920" y="21240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mosokonyha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5920" y="3587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zponti berendezés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81040" y="3649680"/>
            <a:ext cx="1800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kozpintiber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3120" y="36352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yéb helyiség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ülete 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4920" y="3639960"/>
            <a:ext cx="1728720" cy="25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egyebhelyiseg_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3120" y="4422600"/>
            <a:ext cx="1627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alajviz_sziv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2600" y="44132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lajvíz-szivattyú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5440" y="4091040"/>
            <a:ext cx="12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herfelvonó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9880" y="4071960"/>
            <a:ext cx="1800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eher_felvono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000" y="260280"/>
            <a:ext cx="15829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egészítő műszaki adato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13651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nemlak_ossz_fut_t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9240" y="135576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p-ben nem lak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ssz.fűtött térf. (m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080" y="17668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kozosh_ossz_fut_t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18040" y="169560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p-ben közös h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össz.fűtött térf. (m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08440" y="21128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lakas_ossz_fut_t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72440" y="2103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rító terüle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46520" y="405288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ellőzte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toro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4920" y="4103640"/>
            <a:ext cx="1800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szell_motor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692280"/>
            <a:ext cx="3529080" cy="18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orzsszam + ep_utca +ep_hazszam + ep_lepcs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5840" y="1077840"/>
            <a:ext cx="123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épcsőháza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1052640"/>
            <a:ext cx="1727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lepcsohaz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3120" y="48020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ut_feluj_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6320" y="4788000"/>
            <a:ext cx="115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tolsó felújítás é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34000" y="47926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ut_teljes_feluj_kt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2920" y="4792680"/>
            <a:ext cx="115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Utolsó felújítás kt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90760" y="515772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kov_feluj_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81080" y="50799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vetkező felújítá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vezett é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087560"/>
            <a:ext cx="13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ószintek szá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1052640"/>
            <a:ext cx="1727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lakoszint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640" y="260280"/>
            <a:ext cx="1646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egészítő műszaki adatok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692280"/>
            <a:ext cx="3529080" cy="18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id</a:t>
            </a:r>
            <a:r>
              <a:rPr b="0" lang="hu-HU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ep_torzsszam + ep_utca +ep_hazszam + ep_lepcs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640" y="1544760"/>
            <a:ext cx="110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imlex laká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4240" y="25542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kozponti_tv_antenna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3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 rot="16200000">
            <a:off x="3037680" y="2499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44520" y="4054320"/>
            <a:ext cx="1295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veszvilagita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6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3840" y="406404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észvilágít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1552680"/>
            <a:ext cx="122400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simplex_lak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3120" y="32558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llámvezető ellenáll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3328920"/>
            <a:ext cx="16574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villamlev_ellenall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520" y="447048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fustelvezetes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2160" y="2544840"/>
            <a:ext cx="125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zponti TV anten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38520" y="4470480"/>
            <a:ext cx="1729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uzoltokesz_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7360" y="44226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ézi tűzoltó-készülék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záma (d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76000" y="1177920"/>
            <a:ext cx="79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putelef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289320" y="1219320"/>
            <a:ext cx="142920" cy="144360"/>
            <a:chOff x="3289320" y="1219320"/>
            <a:chExt cx="142920" cy="144360"/>
          </a:xfrm>
        </p:grpSpPr>
        <p:sp>
          <p:nvSpPr>
            <p:cNvPr id="229" name=""/>
            <p:cNvSpPr/>
            <p:nvPr/>
          </p:nvSpPr>
          <p:spPr>
            <a:xfrm>
              <a:off x="3289320" y="12193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24240" y="12477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70040" y="1182600"/>
            <a:ext cx="96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ep_kaputelef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960" y="117324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csenge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36600" y="1246320"/>
            <a:ext cx="142920" cy="144360"/>
            <a:chOff x="1236600" y="1246320"/>
            <a:chExt cx="142920" cy="144360"/>
          </a:xfrm>
        </p:grpSpPr>
        <p:sp>
          <p:nvSpPr>
            <p:cNvPr id="234" name=""/>
            <p:cNvSpPr/>
            <p:nvPr/>
          </p:nvSpPr>
          <p:spPr>
            <a:xfrm>
              <a:off x="1236600" y="124632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71520" y="12747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417320" y="1166760"/>
            <a:ext cx="96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ep_felcsenge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95240" y="1544760"/>
            <a:ext cx="111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uplex laká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000" y="1544760"/>
            <a:ext cx="122364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duplex_lak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200" y="1892160"/>
            <a:ext cx="121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jelzős laká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79440" y="1905120"/>
            <a:ext cx="122400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feljelzos_lak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5120" y="18399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a-visszajelző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kásszá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1892160"/>
            <a:ext cx="122364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odavissza_laksz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62360" y="2563920"/>
            <a:ext cx="1729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v_antenna_erosito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4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 rot="16200000">
            <a:off x="6408000" y="25376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06320" y="24922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özponti TV anten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ősít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3640" y="27795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V műsorvéte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hetőség (d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60360" y="2868480"/>
            <a:ext cx="107964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v_musorve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70080" y="332424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villamvedelem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5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 rot="16200000">
            <a:off x="3023280" y="329184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720" y="329400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llámvédelem ad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760" y="3693960"/>
            <a:ext cx="109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űzjelző rendsz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293840" y="3747960"/>
            <a:ext cx="142920" cy="144360"/>
            <a:chOff x="1293840" y="3747960"/>
            <a:chExt cx="142920" cy="144360"/>
          </a:xfrm>
        </p:grpSpPr>
        <p:sp>
          <p:nvSpPr>
            <p:cNvPr id="253" name=""/>
            <p:cNvSpPr/>
            <p:nvPr/>
          </p:nvSpPr>
          <p:spPr>
            <a:xfrm>
              <a:off x="1293840" y="3747960"/>
              <a:ext cx="1429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28760" y="37764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475280" y="3706920"/>
            <a:ext cx="76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900" spc="-1" strike="noStrike">
                <a:solidFill>
                  <a:srgbClr val="000000"/>
                </a:solidFill>
                <a:latin typeface="Arial"/>
              </a:rPr>
              <a:t>ep_tuzjel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 rot="16200000">
            <a:off x="2548800" y="40186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 rot="16200000">
            <a:off x="2989800" y="4434480"/>
            <a:ext cx="216000" cy="287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640"/>
              <a:gd name="textAreaBottom" fmla="*/ 273960 h 287640"/>
            </a:gdLst>
            <a:ahLst/>
            <a:rect l="textAreaLeft" t="textAreaTop" r="textAreaRight" b="textAreaBottom"/>
            <a:pathLst>
              <a:path w="21600" h="28752">
                <a:moveTo>
                  <a:pt x="0" y="0"/>
                </a:moveTo>
                <a:lnTo>
                  <a:pt x="21600" y="0"/>
                </a:lnTo>
                <a:lnTo>
                  <a:pt x="21600" y="28752"/>
                </a:lnTo>
                <a:lnTo>
                  <a:pt x="0" y="28752"/>
                </a:lnTo>
                <a:close/>
              </a:path>
              <a:path fill="lightenLess" w="21600" h="28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52">
                <a:moveTo>
                  <a:pt x="21600" y="0"/>
                </a:moveTo>
                <a:lnTo>
                  <a:pt x="21600" y="28752"/>
                </a:lnTo>
                <a:lnTo>
                  <a:pt x="20200" y="27352"/>
                </a:lnTo>
                <a:lnTo>
                  <a:pt x="20200" y="1400"/>
                </a:lnTo>
                <a:close/>
              </a:path>
              <a:path fill="darkenLess" w="21600" h="28752">
                <a:moveTo>
                  <a:pt x="21600" y="28752"/>
                </a:moveTo>
                <a:lnTo>
                  <a:pt x="0" y="28752"/>
                </a:lnTo>
                <a:lnTo>
                  <a:pt x="1400" y="27352"/>
                </a:lnTo>
                <a:lnTo>
                  <a:pt x="20200" y="27352"/>
                </a:lnTo>
                <a:close/>
              </a:path>
              <a:path fill="lighten" w="21600" h="28752">
                <a:moveTo>
                  <a:pt x="0" y="28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52"/>
                </a:lnTo>
                <a:close/>
              </a:path>
              <a:path fill="darken" w="21600" h="28752">
                <a:moveTo>
                  <a:pt x="3794" y="14376"/>
                </a:moveTo>
                <a:lnTo>
                  <a:pt x="17806" y="7370"/>
                </a:lnTo>
                <a:lnTo>
                  <a:pt x="17806" y="2138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5960" y="44053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üstelvezetés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épcsőházbó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62360" y="3705120"/>
            <a:ext cx="1729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_tuziviz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47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 rot="16200000">
            <a:off x="6408000" y="3669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96760" y="3706920"/>
            <a:ext cx="97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Tüzivíz vezeté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0000" y="2492280"/>
            <a:ext cx="4896000" cy="41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3800" y="476280"/>
            <a:ext cx="11026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rész adat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3320" y="3392640"/>
            <a:ext cx="83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 rot="16200000">
            <a:off x="5976000" y="37584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89388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gnevez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907920"/>
            <a:ext cx="122400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81440" y="907920"/>
            <a:ext cx="10429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éret né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907920"/>
            <a:ext cx="115272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9640" y="907920"/>
            <a:ext cx="136836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inősí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43280" y="1484280"/>
            <a:ext cx="11509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ret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1484280"/>
            <a:ext cx="1081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0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148428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inosites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342576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379080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4151160"/>
            <a:ext cx="1944720" cy="2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ret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4514760"/>
            <a:ext cx="1944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0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4875120"/>
            <a:ext cx="1944720" cy="22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inosites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54920" y="377208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íp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7080" y="4138560"/>
            <a:ext cx="69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éret né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65800" y="44704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51160" y="4869000"/>
            <a:ext cx="6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ősí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84360" y="293040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5612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d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24280" y="293544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égs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10080" y="293364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örl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06960" y="2565360"/>
            <a:ext cx="171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Épületrész adatok karbantart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579420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ő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29748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vetkez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5289480" y="292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8083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16238" y="3794"/>
                </a:lnTo>
                <a:lnTo>
                  <a:pt x="16238" y="17806"/>
                </a:lnTo>
                <a:lnTo>
                  <a:pt x="145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lastslide"/>
          </p:cNvPr>
          <p:cNvSpPr/>
          <p:nvPr/>
        </p:nvSpPr>
        <p:spPr>
          <a:xfrm>
            <a:off x="6802560" y="2925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25153" y="10800"/>
                </a:moveTo>
                <a:lnTo>
                  <a:pt x="14647" y="17806"/>
                </a:lnTo>
                <a:lnTo>
                  <a:pt x="14647" y="3794"/>
                </a:lnTo>
                <a:close/>
              </a:path>
              <a:path fill="darken" w="43308" h="21600">
                <a:moveTo>
                  <a:pt x="26998" y="3794"/>
                </a:moveTo>
                <a:lnTo>
                  <a:pt x="26998" y="17806"/>
                </a:lnTo>
                <a:lnTo>
                  <a:pt x="28660" y="17806"/>
                </a:lnTo>
                <a:lnTo>
                  <a:pt x="2866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ols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2480" y="907920"/>
            <a:ext cx="114768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a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16760" y="907920"/>
            <a:ext cx="1119240" cy="231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sz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5964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anyaga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83640" y="148428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rendszer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5954760"/>
            <a:ext cx="107964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inosi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48360" y="5237280"/>
            <a:ext cx="57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a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5599080"/>
            <a:ext cx="6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ndsz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8200" y="5951520"/>
            <a:ext cx="89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ősítés é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1844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gnevez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19280" y="184464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tipus_kod</a:t>
            </a: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8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1844640"/>
            <a:ext cx="11509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ret_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29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67280" y="1844640"/>
            <a:ext cx="108108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e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207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1844640"/>
            <a:ext cx="1368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minosites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0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59640" y="184464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anyaga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83640" y="1844640"/>
            <a:ext cx="115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rendszer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 rot="16200000">
            <a:off x="5976000" y="41187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 rot="16200000">
            <a:off x="5976000" y="44791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 rot="16200000">
            <a:off x="5976000" y="483948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5229360"/>
            <a:ext cx="1944720" cy="22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anyaga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1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95640" y="5594400"/>
            <a:ext cx="1944720" cy="22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rendszer_k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Q532 kodmegne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 rot="16200000">
            <a:off x="5976000" y="519840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 rot="16200000">
            <a:off x="5976000" y="55587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86280" y="6232680"/>
            <a:ext cx="1079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epresz_felujit_d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8480" y="6229440"/>
            <a:ext cx="83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lújítás é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4:23:26Z</dcterms:created>
  <dc:creator>Mariann</dc:creator>
  <dc:description/>
  <dc:language>en-US</dc:language>
  <cp:lastModifiedBy>Mariann</cp:lastModifiedBy>
  <dcterms:modified xsi:type="dcterms:W3CDTF">2013-11-18T14:17:01Z</dcterms:modified>
  <cp:revision>8</cp:revision>
  <dc:subject/>
  <dc:title>1. dia</dc:title>
</cp:coreProperties>
</file>