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8D2-0A16-492D-99C2-05314146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02EE-B866-49E3-BBA9-958F3A1E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77B-0CE1-4477-B52B-13194D2B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3A45-BEF4-47CC-A10C-9E21616A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09E-AABE-4AC6-86C0-247FBD28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087A-D92C-4702-81F6-84A0E250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2EE8-ECCA-479A-B294-7012FCF4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7A71-9611-4878-905C-5BE579BD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66F-CA53-4444-8647-DBA23689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D8BD-1F7B-4B18-A848-A0362161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481-DBC8-4650-88A6-919A81B6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C8D-C628-4D9B-8D2C-472720DF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24F0-B104-4733-925F-F4147D1A34B4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072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6880" y="62064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5432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3240" y="61272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93960" y="61272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212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previousslide"/>
          </p:cNvPr>
          <p:cNvSpPr/>
          <p:nvPr/>
        </p:nvSpPr>
        <p:spPr>
          <a:xfrm>
            <a:off x="6141960" y="612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10800"/>
                </a:moveTo>
                <a:lnTo>
                  <a:pt x="28589" y="3794"/>
                </a:lnTo>
                <a:lnTo>
                  <a:pt x="285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664524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firstslide"/>
          </p:cNvPr>
          <p:cNvSpPr/>
          <p:nvPr/>
        </p:nvSpPr>
        <p:spPr>
          <a:xfrm>
            <a:off x="563724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8065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16220" y="3794"/>
                </a:lnTo>
                <a:lnTo>
                  <a:pt x="16220" y="17806"/>
                </a:lnTo>
                <a:lnTo>
                  <a:pt x="14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lastslide"/>
          </p:cNvPr>
          <p:cNvSpPr/>
          <p:nvPr/>
        </p:nvSpPr>
        <p:spPr>
          <a:xfrm>
            <a:off x="714996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09640" y="189000"/>
            <a:ext cx="184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rat érkeztetés… (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m530_2_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1600" y="1884240"/>
            <a:ext cx="113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elbontás dátu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32040" y="1903320"/>
            <a:ext cx="1512720" cy="1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felbont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67040" y="1925640"/>
            <a:ext cx="62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elbont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4400" y="1903320"/>
            <a:ext cx="1655640" cy="21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  <a:ea typeface="Arial"/>
              </a:rPr>
              <a:t>felh/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  <a:ea typeface="Arial"/>
              </a:rPr>
              <a:t>user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 rot="16200000">
            <a:off x="6115680" y="18676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6680" y="2176560"/>
            <a:ext cx="113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eérkez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2205000"/>
            <a:ext cx="151272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beerkeze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0200" y="1566720"/>
            <a:ext cx="57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ímze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06920" y="1557360"/>
            <a:ext cx="280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felh/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6600" y="2552760"/>
            <a:ext cx="149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lektronikus irat másol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2565360"/>
            <a:ext cx="151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rat_masol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3680" y="2192400"/>
            <a:ext cx="106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eérkezés mód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33760" y="2220840"/>
            <a:ext cx="1646280" cy="1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  <a:ea typeface="Arial"/>
              </a:rPr>
              <a:t>beerkezes_m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  <a:ea typeface="Arial"/>
              </a:rPr>
              <a:t>Q520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18440" y="1557360"/>
            <a:ext cx="81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eladó ne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1557360"/>
            <a:ext cx="2808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fel/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 ugyfelnev, ugyfelkod, 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previousslide"/>
          </p:cNvPr>
          <p:cNvSpPr/>
          <p:nvPr/>
        </p:nvSpPr>
        <p:spPr>
          <a:xfrm rot="16200000">
            <a:off x="4677480" y="1521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 rot="16200000">
            <a:off x="8352720" y="15310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 rot="16200000">
            <a:off x="6112440" y="215640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1197000"/>
            <a:ext cx="1447560" cy="210960"/>
          </a:xfrm>
          <a:prstGeom prst="rect">
            <a:avLst/>
          </a:prstGeom>
          <a:gradFill rotWithShape="0">
            <a:gsLst>
              <a:gs pos="0">
                <a:srgbClr val="dddddd">
                  <a:alpha val="56078"/>
                </a:srgbClr>
              </a:gs>
              <a:gs pos="100000">
                <a:srgbClr val="e2e2e2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erkeztet_sor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240" y="1197000"/>
            <a:ext cx="121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Érkeztetési sor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8000" y="252720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360" y="1187280"/>
            <a:ext cx="66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Érkeztet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1512720" cy="193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erkeztet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9120" y="3102120"/>
            <a:ext cx="57042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rat tábla aktualizálá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Automatikus beállítá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Érkeztetve: erkeztetve=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Ügyirat állapot: ugyirat_allapot=51401 - érkeztet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Érkeztetés dátuma: erkeztet_dat=aktuális napi dá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Érkeztetési sorszám: erkezet_sorszam 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minden évben újrainduló sorszám, évforduló az aktuális napból jö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39120" y="1184400"/>
            <a:ext cx="113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Érkeztet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1197000"/>
            <a:ext cx="1512720" cy="193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erkezte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9600" y="4495680"/>
            <a:ext cx="35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Kötelezően kitöltendő mezők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/id, felbontas_dat, felbonto, beerkezes_dat, beerkezes_mo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874320" y="189000"/>
            <a:ext cx="173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rat visszaadás   (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m530_2_3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49200" y="549360"/>
            <a:ext cx="4745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Ügyirat – információs sáv - 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o_id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o_konyv/megnevezes, iktatoszam, iktatas_dat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fel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felkod,ugyfelnev,irat_targya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Q518 kodmegnev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26920" y="198900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ésre utasítás dátu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627280" y="1989000"/>
            <a:ext cx="144000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utasi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528920" y="107172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39920" y="106668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987640" y="106668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755880" y="1052640"/>
            <a:ext cx="648000" cy="21564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00000" y="1557360"/>
            <a:ext cx="16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ésre utasító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627280" y="1557360"/>
            <a:ext cx="259236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utasito --&gt; felh/usernev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7440" y="4581360"/>
            <a:ext cx="83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A leszürkített adatokban azt az ugyintezes rekord adatokat jelenítjük meg, ahol az ugyintezes/ugyint_utas_tip=52301, ugyint_tipus=52401 (vagy felh/vezerlo=5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Automatikus beállítá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ő típus – ugyint_tipus=523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ésre utasítás típusa – ugyint_utas_tip = 524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26920" y="233532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Utasítá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627280" y="2347920"/>
            <a:ext cx="2592360" cy="21744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tasita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Q522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26920" y="269568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Utasítás leírá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627280" y="2708280"/>
            <a:ext cx="259236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tasi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26920" y="364500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Visszaadás dátu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627280" y="3645000"/>
            <a:ext cx="1440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da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00356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Visszaadás o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7280" y="4003560"/>
            <a:ext cx="2592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2760" y="1341360"/>
            <a:ext cx="154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gyintezes adatok kiírá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26920" y="305604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ési határidő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627280" y="3068640"/>
            <a:ext cx="144000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hati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08480" y="1528920"/>
            <a:ext cx="299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ezes/ugyint_utas_tip=52301, ugyint_tipus=524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83200" y="5719680"/>
            <a:ext cx="3065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Alapértelmezetten megjelenítjük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Viszaadás dátuma – ugyint_datum – aktuális napi dá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Kötelező mezők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datum, ugyin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871800" y="189000"/>
            <a:ext cx="21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Bejövő  vállalkozási szerződés  (frm_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403280" y="1197000"/>
            <a:ext cx="10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ktatóköny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627280" y="1197000"/>
            <a:ext cx="2449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o_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o_konyv/megneve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20720" y="155736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Típu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627280" y="1557360"/>
            <a:ext cx="244944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rat_tipu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Q514=5140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26920" y="232092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Ügyfé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27280" y="2349360"/>
            <a:ext cx="259236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/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nev, ugyfelkod, ci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26920" y="268128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zerződés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627280" y="2708280"/>
            <a:ext cx="2592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targys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6920" y="341460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zerződés vé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627280" y="3429000"/>
            <a:ext cx="1440000" cy="216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szerzod_szmeddi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6920" y="37879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zerződés vége feltétel bekövetkezéséi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627280" y="3803760"/>
            <a:ext cx="2592360" cy="288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szerzod_szfelti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6920" y="304308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zerződés kezd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627280" y="3070080"/>
            <a:ext cx="1440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szerzod_szmett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539720" y="62064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971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0020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7083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212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" action="ppaction://hlinkshowjump?jump=previousslide"/>
          </p:cNvPr>
          <p:cNvSpPr/>
          <p:nvPr/>
        </p:nvSpPr>
        <p:spPr>
          <a:xfrm>
            <a:off x="6141960" y="612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10800"/>
                </a:moveTo>
                <a:lnTo>
                  <a:pt x="28589" y="3794"/>
                </a:lnTo>
                <a:lnTo>
                  <a:pt x="285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>
            <a:hlinkClick r:id="" action="ppaction://hlinkshowjump?jump=nextslide"/>
          </p:cNvPr>
          <p:cNvSpPr/>
          <p:nvPr/>
        </p:nvSpPr>
        <p:spPr>
          <a:xfrm>
            <a:off x="664524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" action="ppaction://hlinkshowjump?jump=firstslide"/>
          </p:cNvPr>
          <p:cNvSpPr/>
          <p:nvPr/>
        </p:nvSpPr>
        <p:spPr>
          <a:xfrm>
            <a:off x="563724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8065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16220" y="3794"/>
                </a:lnTo>
                <a:lnTo>
                  <a:pt x="16220" y="17806"/>
                </a:lnTo>
                <a:lnTo>
                  <a:pt x="14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lastslide"/>
          </p:cNvPr>
          <p:cNvSpPr/>
          <p:nvPr/>
        </p:nvSpPr>
        <p:spPr>
          <a:xfrm>
            <a:off x="714996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>
            <a:hlinkClick r:id="" action="ppaction://hlinkshowjump?jump=previousslide"/>
          </p:cNvPr>
          <p:cNvSpPr/>
          <p:nvPr/>
        </p:nvSpPr>
        <p:spPr>
          <a:xfrm rot="16200000">
            <a:off x="5112360" y="11613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940720" y="1197000"/>
            <a:ext cx="53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Kapjá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27640" y="1413000"/>
            <a:ext cx="1657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956720" y="1413000"/>
            <a:ext cx="287280" cy="2311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50240" y="1436760"/>
            <a:ext cx="178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szerzod_kapjak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felh_usernev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szerzod_kapjak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felh_usernev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szerzod_kapjak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felh_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>
            <a:hlinkClick r:id="" action="ppaction://hlinkshowjump?jump=lastslide"/>
          </p:cNvPr>
          <p:cNvSpPr/>
          <p:nvPr/>
        </p:nvSpPr>
        <p:spPr>
          <a:xfrm rot="5400000">
            <a:off x="5255640" y="2311200"/>
            <a:ext cx="216000" cy="2890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9080"/>
              <a:gd name="textAreaBottom" fmla="*/ 275400 h 289080"/>
            </a:gdLst>
            <a:ahLst/>
            <a:rect l="textAreaLeft" t="textAreaTop" r="textAreaRight" b="textAreaBottom"/>
            <a:pathLst>
              <a:path w="21600" h="28896">
                <a:moveTo>
                  <a:pt x="0" y="0"/>
                </a:moveTo>
                <a:lnTo>
                  <a:pt x="21600" y="0"/>
                </a:lnTo>
                <a:lnTo>
                  <a:pt x="21600" y="28896"/>
                </a:lnTo>
                <a:lnTo>
                  <a:pt x="0" y="28896"/>
                </a:lnTo>
                <a:close/>
              </a:path>
              <a:path fill="lightenLess" w="21600" h="288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96">
                <a:moveTo>
                  <a:pt x="21600" y="0"/>
                </a:moveTo>
                <a:lnTo>
                  <a:pt x="21600" y="28896"/>
                </a:lnTo>
                <a:lnTo>
                  <a:pt x="20200" y="27496"/>
                </a:lnTo>
                <a:lnTo>
                  <a:pt x="20200" y="1400"/>
                </a:lnTo>
                <a:close/>
              </a:path>
              <a:path fill="darkenLess" w="21600" h="28896">
                <a:moveTo>
                  <a:pt x="21600" y="28896"/>
                </a:moveTo>
                <a:lnTo>
                  <a:pt x="0" y="28896"/>
                </a:lnTo>
                <a:lnTo>
                  <a:pt x="1400" y="27496"/>
                </a:lnTo>
                <a:lnTo>
                  <a:pt x="20200" y="27496"/>
                </a:lnTo>
                <a:close/>
              </a:path>
              <a:path fill="lighten" w="21600" h="28896">
                <a:moveTo>
                  <a:pt x="0" y="288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96"/>
                </a:lnTo>
                <a:close/>
              </a:path>
              <a:path fill="darken" w="21600" h="28896">
                <a:moveTo>
                  <a:pt x="14299" y="14448"/>
                </a:moveTo>
                <a:lnTo>
                  <a:pt x="3794" y="21454"/>
                </a:lnTo>
                <a:lnTo>
                  <a:pt x="3794" y="7441"/>
                </a:lnTo>
                <a:close/>
              </a:path>
              <a:path fill="darken" w="21600" h="28896">
                <a:moveTo>
                  <a:pt x="16144" y="7441"/>
                </a:moveTo>
                <a:lnTo>
                  <a:pt x="16144" y="21454"/>
                </a:lnTo>
                <a:lnTo>
                  <a:pt x="17806" y="21454"/>
                </a:lnTo>
                <a:lnTo>
                  <a:pt x="17806" y="74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73800" y="227664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26920" y="420696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gjegy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627280" y="4221000"/>
            <a:ext cx="525780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megjegy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26920" y="195408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zerződés 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633760" y="1943280"/>
            <a:ext cx="1439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szerzod_sz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948600" y="4894200"/>
            <a:ext cx="57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Ügyirat típus alapértelmezetten beállítot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ás dátuma iktatas_dat aktualizálódik, alapértelmezetten az aktuális n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Kimenő vállalkozási szerződés karbantartó u.a., csak az ugyirat_tipus=51402 (kimenő vállalkozási szerződé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953640" y="5950080"/>
            <a:ext cx="46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Kötelező mezők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_id, szerzod_szszam, szerzod_szmettol, szerzod_szmeddig vagy szezod_szfelti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167440" y="5689440"/>
            <a:ext cx="10792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hati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1600" y="1884240"/>
            <a:ext cx="113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elbontás dátu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35280" y="1903320"/>
            <a:ext cx="1512720" cy="196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felbont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67040" y="1925640"/>
            <a:ext cx="62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elbont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27640" y="1890720"/>
            <a:ext cx="1655640" cy="217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  <a:ea typeface="Arial"/>
              </a:rPr>
              <a:t>felh/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  <a:ea typeface="Arial"/>
              </a:rPr>
              <a:t> user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6680" y="2185920"/>
            <a:ext cx="113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eérkez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2189160"/>
            <a:ext cx="1512720" cy="193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beerkeze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0200" y="1566720"/>
            <a:ext cx="57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ímze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1557360"/>
            <a:ext cx="280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felh/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50920" y="2552760"/>
            <a:ext cx="149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lektronikus irat másol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9600" y="2565360"/>
            <a:ext cx="151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rat_masol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35880" y="5680080"/>
            <a:ext cx="1186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lintézés határide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49600" y="5072040"/>
            <a:ext cx="60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Utasí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48360" y="5086440"/>
            <a:ext cx="1655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tasita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 Q522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3680" y="2192400"/>
            <a:ext cx="106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eérkezés mód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2205000"/>
            <a:ext cx="1646280" cy="18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  <a:ea typeface="Arial"/>
              </a:rPr>
              <a:t>beerkezes_m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  <a:ea typeface="Arial"/>
              </a:rPr>
              <a:t> Q520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48360" y="4732200"/>
            <a:ext cx="2736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ez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felh/id, user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1440" y="4726080"/>
            <a:ext cx="111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zignált ügyintéz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18440" y="1557360"/>
            <a:ext cx="81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eladó ne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32040" y="1557360"/>
            <a:ext cx="280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fel/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 ugyfelnev, ugyfelkod, 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 rot="16200000">
            <a:off x="4678920" y="152136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 rot="16200000">
            <a:off x="8352720" y="1521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 rot="16200000">
            <a:off x="6112440" y="215640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1197000"/>
            <a:ext cx="1447560" cy="210960"/>
          </a:xfrm>
          <a:prstGeom prst="rect">
            <a:avLst/>
          </a:prstGeom>
          <a:gradFill rotWithShape="0">
            <a:gsLst>
              <a:gs pos="0">
                <a:srgbClr val="dddddd">
                  <a:alpha val="56078"/>
                </a:srgbClr>
              </a:gs>
              <a:gs pos="100000">
                <a:srgbClr val="e2e2e2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erkeztet_sor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5240" y="1197000"/>
            <a:ext cx="121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Érkeztetési sor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072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39720" y="62064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971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20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212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6141960" y="612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10800"/>
                </a:moveTo>
                <a:lnTo>
                  <a:pt x="28589" y="3794"/>
                </a:lnTo>
                <a:lnTo>
                  <a:pt x="285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664524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563724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8065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16220" y="3794"/>
                </a:lnTo>
                <a:lnTo>
                  <a:pt x="16220" y="17806"/>
                </a:lnTo>
                <a:lnTo>
                  <a:pt x="14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lastslide"/>
          </p:cNvPr>
          <p:cNvSpPr/>
          <p:nvPr/>
        </p:nvSpPr>
        <p:spPr>
          <a:xfrm>
            <a:off x="714996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10720" y="189000"/>
            <a:ext cx="154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zignálás… (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m530_2_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62680" y="252720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 rot="16200000">
            <a:off x="7920720" y="470880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 rot="16200000">
            <a:off x="6839640" y="505008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48280" y="537048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Utasítás leír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57720" y="5370480"/>
            <a:ext cx="2737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tasitas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49320" y="2571840"/>
            <a:ext cx="89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igitalizált 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844640" y="2598840"/>
            <a:ext cx="142920" cy="144360"/>
            <a:chOff x="1844640" y="2598840"/>
            <a:chExt cx="142920" cy="144360"/>
          </a:xfrm>
        </p:grpSpPr>
        <p:sp>
          <p:nvSpPr>
            <p:cNvPr id="122" name=""/>
            <p:cNvSpPr/>
            <p:nvPr/>
          </p:nvSpPr>
          <p:spPr>
            <a:xfrm>
              <a:off x="1844640" y="259884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9560" y="26272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977480" y="2565360"/>
            <a:ext cx="91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digitalizalt_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28080" y="6021360"/>
            <a:ext cx="54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ürgő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48360" y="6021360"/>
            <a:ext cx="1655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surgosseg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 Q525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 rot="16200000">
            <a:off x="6863400" y="5985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7280" y="3068640"/>
            <a:ext cx="118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zignált ügyintéz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333864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49520" y="333360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68440" y="33433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08240" y="33433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0160" y="3703680"/>
            <a:ext cx="111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zignált ügyintéz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3932280"/>
            <a:ext cx="1944720" cy="216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ez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felh/id, 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38600" y="3716280"/>
            <a:ext cx="60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Utasí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22600" y="3932280"/>
            <a:ext cx="1368360" cy="216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  <a:ea typeface="Arial"/>
              </a:rPr>
              <a:t>utasitas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  <a:ea typeface="Arial"/>
              </a:rPr>
              <a:t> Q522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0560" y="371808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Utasítás leír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8720" y="3932280"/>
            <a:ext cx="2158920" cy="216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tasi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00720" y="3932280"/>
            <a:ext cx="1079640" cy="216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hati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429264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29520" y="371628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Utasítás leír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720" y="3705120"/>
            <a:ext cx="54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ürgő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51640" y="3933720"/>
            <a:ext cx="900360" cy="2160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  <a:ea typeface="Arial"/>
              </a:rPr>
              <a:t>surgosseg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  <a:ea typeface="Arial"/>
              </a:rPr>
              <a:t>Q525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49600" y="4437000"/>
            <a:ext cx="62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zignál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4437000"/>
            <a:ext cx="2735280" cy="21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utasit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felh_id, 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 rot="16200000">
            <a:off x="7914240" y="440100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10280" y="3040200"/>
            <a:ext cx="389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- ugyintezes tabla karbantartása (csak egy szignált ügyintéző lehet!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0440" y="4365720"/>
            <a:ext cx="4161240" cy="25628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Automatikus beállítások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ezes  táb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Ügyirat kapcsolat -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rat_id aktualizál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ésre utasítás típusa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 – kodert=52301 - szignál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ésre utasítás dátuma –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 ugyint_utasit_dat=ugyirat/iktat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ő típus –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tipus – kodert=52401 – szignált ügyintéz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rat táb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Ügyirat állapot – ugyirat_allapot=51502 - szignál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Alapértelmezett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Szignáló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: ugyint_utasito – felh tábla szerint (felh/beosztas=1 - vezérigazgató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hatido = beerkezes_dat + 30 munkan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Kötelező mezők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Szignáló – ugyint_utasito, Szignált ügyintéző – ugyintezo, utasítás – utasita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elintézés határideje – ugyint_hatido, sürgősség – surgosseg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21680" y="1984320"/>
            <a:ext cx="26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apértelmezetten megjelenítjük az iratérkezte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tokat, de lehessen módosíta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41600" y="1884240"/>
            <a:ext cx="113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elbontás dátu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1903320"/>
            <a:ext cx="1512720" cy="196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felbont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44840" y="1927080"/>
            <a:ext cx="62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elbont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38560" y="1892160"/>
            <a:ext cx="1655640" cy="21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  <a:ea typeface="Arial"/>
              </a:rPr>
              <a:t>felbonto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  <a:ea typeface="Arial"/>
              </a:rPr>
              <a:t>felh/id, user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6680" y="2185920"/>
            <a:ext cx="113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eérkez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2189160"/>
            <a:ext cx="1512720" cy="193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beerkeze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30200" y="1566720"/>
            <a:ext cx="57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ímze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08720" y="1557360"/>
            <a:ext cx="280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Cimzett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felh/id, 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09680" y="251604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lektronikus ira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ásol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2593800"/>
            <a:ext cx="151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rat_masol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000" y="21337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eérkezé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ód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70800" y="2205000"/>
            <a:ext cx="1646280" cy="18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  <a:ea typeface="Arial"/>
              </a:rPr>
              <a:t>beerkezes_m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  <a:ea typeface="Arial"/>
              </a:rPr>
              <a:t>Q520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18440" y="1557360"/>
            <a:ext cx="81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eladó ne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557360"/>
            <a:ext cx="2808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fel/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felnev, ugyfelkod, ci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 rot="16200000">
            <a:off x="4678920" y="152136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 rot="16200000">
            <a:off x="8352720" y="15310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 rot="16200000">
            <a:off x="8352720" y="21693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1197000"/>
            <a:ext cx="1447920" cy="210960"/>
          </a:xfrm>
          <a:prstGeom prst="rect">
            <a:avLst/>
          </a:prstGeom>
          <a:gradFill rotWithShape="0">
            <a:gsLst>
              <a:gs pos="0">
                <a:srgbClr val="dddddd">
                  <a:alpha val="56078"/>
                </a:srgbClr>
              </a:gs>
              <a:gs pos="100000">
                <a:srgbClr val="e2e2e2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erkeztet_sor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8480" y="1197000"/>
            <a:ext cx="121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Érkeztetési sor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39720" y="62064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971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020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212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6141960" y="612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10800"/>
                </a:moveTo>
                <a:lnTo>
                  <a:pt x="28589" y="3794"/>
                </a:lnTo>
                <a:lnTo>
                  <a:pt x="285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664524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563724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8065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16220" y="3794"/>
                </a:lnTo>
                <a:lnTo>
                  <a:pt x="16220" y="17806"/>
                </a:lnTo>
                <a:lnTo>
                  <a:pt x="14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lastslide"/>
          </p:cNvPr>
          <p:cNvSpPr/>
          <p:nvPr/>
        </p:nvSpPr>
        <p:spPr>
          <a:xfrm>
            <a:off x="714996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9280" y="189000"/>
            <a:ext cx="192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ejövő irat iktatás… (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m530_2_3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51640" y="2565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360" y="907920"/>
            <a:ext cx="286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Érkeztetés után nem módosítható adatok leszűrkít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6440" y="3592440"/>
            <a:ext cx="140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elettes ügyirat keres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54080" y="3598920"/>
            <a:ext cx="136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folottes_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4920" y="3556080"/>
            <a:ext cx="289080" cy="28728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35" h="21600">
                <a:moveTo>
                  <a:pt x="0" y="0"/>
                </a:moveTo>
                <a:lnTo>
                  <a:pt x="21735" y="0"/>
                </a:lnTo>
                <a:lnTo>
                  <a:pt x="21735" y="21600"/>
                </a:lnTo>
                <a:lnTo>
                  <a:pt x="0" y="21600"/>
                </a:lnTo>
                <a:close/>
              </a:path>
              <a:path fill="lightenLess" w="21735" h="21600">
                <a:moveTo>
                  <a:pt x="0" y="0"/>
                </a:moveTo>
                <a:lnTo>
                  <a:pt x="21735" y="0"/>
                </a:lnTo>
                <a:lnTo>
                  <a:pt x="20335" y="1400"/>
                </a:lnTo>
                <a:lnTo>
                  <a:pt x="1400" y="1400"/>
                </a:lnTo>
                <a:close/>
              </a:path>
              <a:path fill="darken" w="21735" h="21600">
                <a:moveTo>
                  <a:pt x="21735" y="0"/>
                </a:moveTo>
                <a:lnTo>
                  <a:pt x="21735" y="21600"/>
                </a:lnTo>
                <a:lnTo>
                  <a:pt x="20335" y="20200"/>
                </a:lnTo>
                <a:lnTo>
                  <a:pt x="20335" y="1400"/>
                </a:lnTo>
                <a:close/>
              </a:path>
              <a:path fill="darkenLess" w="21735" h="21600">
                <a:moveTo>
                  <a:pt x="21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5" y="20200"/>
                </a:lnTo>
                <a:close/>
              </a:path>
              <a:path fill="lighten" w="21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5" h="21600">
                <a:moveTo>
                  <a:pt x="108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735" h="21600">
                <a:moveTo>
                  <a:pt x="11973" y="14281"/>
                </a:moveTo>
                <a:lnTo>
                  <a:pt x="11973" y="12323"/>
                </a:lnTo>
                <a:cubicBezTo>
                  <a:pt x="11973" y="11496"/>
                  <a:pt x="12304" y="10800"/>
                  <a:pt x="12904" y="10800"/>
                </a:cubicBezTo>
                <a:cubicBezTo>
                  <a:pt x="14036" y="10800"/>
                  <a:pt x="14932" y="9434"/>
                  <a:pt x="14932" y="7849"/>
                </a:cubicBezTo>
                <a:cubicBezTo>
                  <a:pt x="14932" y="5534"/>
                  <a:pt x="13078" y="3794"/>
                  <a:pt x="10868" y="3794"/>
                </a:cubicBezTo>
                <a:cubicBezTo>
                  <a:pt x="8657" y="3794"/>
                  <a:pt x="6986" y="5534"/>
                  <a:pt x="6986" y="7849"/>
                </a:cubicBezTo>
                <a:lnTo>
                  <a:pt x="8840" y="7849"/>
                </a:lnTo>
                <a:cubicBezTo>
                  <a:pt x="8840" y="6709"/>
                  <a:pt x="9762" y="5821"/>
                  <a:pt x="10868" y="5821"/>
                </a:cubicBezTo>
                <a:cubicBezTo>
                  <a:pt x="11973" y="5821"/>
                  <a:pt x="12904" y="6709"/>
                  <a:pt x="12904" y="7849"/>
                </a:cubicBezTo>
                <a:cubicBezTo>
                  <a:pt x="12904" y="8589"/>
                  <a:pt x="12434" y="9320"/>
                  <a:pt x="11973" y="9320"/>
                </a:cubicBezTo>
                <a:cubicBezTo>
                  <a:pt x="10868" y="9320"/>
                  <a:pt x="9762" y="10800"/>
                  <a:pt x="9762" y="12323"/>
                </a:cubicBezTo>
                <a:lnTo>
                  <a:pt x="9762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53360" y="3195720"/>
            <a:ext cx="1447920" cy="210960"/>
          </a:xfrm>
          <a:prstGeom prst="rect">
            <a:avLst/>
          </a:prstGeom>
          <a:gradFill rotWithShape="0">
            <a:gsLst>
              <a:gs pos="0">
                <a:srgbClr val="dddddd">
                  <a:alpha val="56078"/>
                </a:srgbClr>
              </a:gs>
              <a:gs pos="100000">
                <a:srgbClr val="e2e2e2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o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24720" y="3195720"/>
            <a:ext cx="73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ktató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60560" y="3195720"/>
            <a:ext cx="144792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o_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o_konyv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megnevezes,szerv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86480" y="3195720"/>
            <a:ext cx="76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ktatóköny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 rot="16200000">
            <a:off x="3355200" y="315936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06864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62000" y="3975120"/>
            <a:ext cx="144792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rat_tipu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Q514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02240" y="3975120"/>
            <a:ext cx="89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Ügyirat típu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 rot="16200000">
            <a:off x="3293280" y="39394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13280" y="3605040"/>
            <a:ext cx="144792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48200" y="362736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 rot="16200000">
            <a:off x="6311160" y="35632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69920" y="4327560"/>
            <a:ext cx="144792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rat_targya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Q518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8920" y="4319640"/>
            <a:ext cx="6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rat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 rot="16200000">
            <a:off x="3312360" y="428220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13280" y="3195720"/>
            <a:ext cx="144792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ra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48200" y="3195720"/>
            <a:ext cx="761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rat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11840" y="434808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targys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35880" y="4321080"/>
            <a:ext cx="83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Tárgyszav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60560" y="4870440"/>
            <a:ext cx="144792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melleklet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4080" y="4842000"/>
            <a:ext cx="165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llékletek száma tényleg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13280" y="4844880"/>
            <a:ext cx="144792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melleklet_szam_iratb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54440" y="47973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llékletek szá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ügyiratban jelöl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60560" y="5230800"/>
            <a:ext cx="144792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kulso_azonosi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96680" y="5207040"/>
            <a:ext cx="115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Külső ügyirat 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23000" y="5229360"/>
            <a:ext cx="144756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kulso_ugyinte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25720" y="5205240"/>
            <a:ext cx="99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Külső ügyintéz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49320" y="2552760"/>
            <a:ext cx="89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igitalizált 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851120" y="2593800"/>
            <a:ext cx="142920" cy="144360"/>
            <a:chOff x="1851120" y="2593800"/>
            <a:chExt cx="142920" cy="144360"/>
          </a:xfrm>
        </p:grpSpPr>
        <p:sp>
          <p:nvSpPr>
            <p:cNvPr id="213" name=""/>
            <p:cNvSpPr/>
            <p:nvPr/>
          </p:nvSpPr>
          <p:spPr>
            <a:xfrm>
              <a:off x="1851120" y="259380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86040" y="26222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977480" y="2565360"/>
            <a:ext cx="91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digitalizalt_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5400" y="5564160"/>
            <a:ext cx="89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Válaszköte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897200" y="5605560"/>
            <a:ext cx="142560" cy="144360"/>
            <a:chOff x="1897200" y="5605560"/>
            <a:chExt cx="142560" cy="144360"/>
          </a:xfrm>
        </p:grpSpPr>
        <p:sp>
          <p:nvSpPr>
            <p:cNvPr id="218" name=""/>
            <p:cNvSpPr/>
            <p:nvPr/>
          </p:nvSpPr>
          <p:spPr>
            <a:xfrm>
              <a:off x="1897200" y="5605560"/>
              <a:ext cx="1425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31760" y="563400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023560" y="5576760"/>
            <a:ext cx="87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valaszkote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19640" y="2181240"/>
            <a:ext cx="66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Érkeztet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38560" y="2205000"/>
            <a:ext cx="1655640" cy="217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  <a:ea typeface="Arial"/>
              </a:rPr>
              <a:t>erkezteto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  <a:ea typeface="Arial"/>
              </a:rPr>
              <a:t>felh/id, user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1160" y="5894280"/>
            <a:ext cx="5188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Szűré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ókönyv: iktato_konyv/bejovo=y, aktiv=y, lathato=y,  szervezet =szervezeti_egyseg/szerv_eg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Törzsszám: lehet ingatlan, epulet, albetet i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Automatikus beállítás: ugyirat/iktatva=y, ugyirat/ugyirat_allapot=51503 - iktat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60560" y="4581360"/>
            <a:ext cx="439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tar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58920" y="4568760"/>
            <a:ext cx="73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Ügy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45840" y="4365720"/>
            <a:ext cx="1802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Kötelezően kitöltendő mezők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ókönyv – iktato_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 dátuma – ira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rat típus – ugyirat_ti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 tárgya – irat_ta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 tárgya - ugytar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950640" y="189000"/>
            <a:ext cx="1445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rat átadás (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m530_2_3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08360" y="2421000"/>
            <a:ext cx="266544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sernev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utasi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5800" y="242244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Átad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47640" y="95724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97160" y="9572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16080" y="966960"/>
            <a:ext cx="648000" cy="21564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55880" y="966960"/>
            <a:ext cx="648000" cy="21564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75200" y="3778200"/>
            <a:ext cx="53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Átvev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54000" y="2781360"/>
            <a:ext cx="95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Átad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08360" y="278136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da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32400" y="341784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Utasítás leír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08360" y="3430440"/>
            <a:ext cx="3384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tasi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6880" y="476280"/>
            <a:ext cx="47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Ügyirat – információs sáv -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o_id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o_konyv/megnevezes, iktatoszam, iktatas_dat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fel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felkod,ugyfelnev,irat_targya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Q518 kodmegnev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08360" y="3789360"/>
            <a:ext cx="280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sernev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e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 rot="16200000">
            <a:off x="6408000" y="3753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94200" y="3143160"/>
            <a:ext cx="60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Utasí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141720"/>
            <a:ext cx="1655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tasita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 Q522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previousslide"/>
          </p:cNvPr>
          <p:cNvSpPr/>
          <p:nvPr/>
        </p:nvSpPr>
        <p:spPr>
          <a:xfrm rot="16200000">
            <a:off x="5399640" y="311508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40440" y="4137120"/>
            <a:ext cx="128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és határide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08360" y="414972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hati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7640" y="134136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Átad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07640" y="1341360"/>
            <a:ext cx="95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Átad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05080" y="1341360"/>
            <a:ext cx="60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Utasí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41840" y="134136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Utasítás leír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72360" y="1341360"/>
            <a:ext cx="53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Átvev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48760" y="1341360"/>
            <a:ext cx="128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és határide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162864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utasi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51120" y="1628640"/>
            <a:ext cx="1008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utasi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16360" y="162864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tasita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 Q522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62480" y="1628640"/>
            <a:ext cx="16509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tasi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83280" y="162864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e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24720" y="162864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hati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8000" y="1916280"/>
            <a:ext cx="89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2680" y="4498920"/>
            <a:ext cx="376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ezes tábla karbantar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Automatikus beállítások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és utasítás típus: ugyint_utas_tip=5230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ésre utasító:  ugyint_utasito, ahol az ugyint_utas_tip=523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Ügyirat átadva: ugyirat/atadva=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Alapaértelmezetten megjelenik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Átadó – ugyint_utasi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Átadás dátuma – aktuális napi dá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és határideje: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eerkezes_dat + 30 munkan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Kötelező mezők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Átadás dátuma – ugyint_datum, utasítás – utasitas, átvevő - ugyinte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49920" y="1890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és  (frm_530_2_3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19200" y="98100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39920" y="98100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87640" y="98100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55880" y="966960"/>
            <a:ext cx="648000" cy="21564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41840" y="291132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Utasítás leír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51280" y="2930400"/>
            <a:ext cx="338472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tasi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36760" y="2625840"/>
            <a:ext cx="60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Utasí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2624040"/>
            <a:ext cx="180036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tasita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 Q522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previousslide"/>
          </p:cNvPr>
          <p:cNvSpPr/>
          <p:nvPr/>
        </p:nvSpPr>
        <p:spPr>
          <a:xfrm rot="16200000">
            <a:off x="5688720" y="260064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83000" y="3259080"/>
            <a:ext cx="128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és határide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51280" y="3271680"/>
            <a:ext cx="136836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hati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95520" y="1341360"/>
            <a:ext cx="60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Utasí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32280" y="134136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Utasítás leír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11640" y="134136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84880" y="1341360"/>
            <a:ext cx="128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és határide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70160" y="162864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tasita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 Q522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52560" y="1628640"/>
            <a:ext cx="16513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tasi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75160" y="162864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hati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3516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133720"/>
            <a:ext cx="89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9200" y="476280"/>
            <a:ext cx="4745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Ügyirat – információs sáv - 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o_id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o_konyv/megnevezes, iktatoszam, iktatas_dat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fel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felkod,ugyfelnev,irat_targya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Q518 kodmegnev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82360" y="363204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és leír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3632040"/>
            <a:ext cx="3384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40240" y="3992400"/>
            <a:ext cx="116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51280" y="3990960"/>
            <a:ext cx="144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da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09560" y="132876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és leír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869080" y="1628640"/>
            <a:ext cx="17272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66200" y="1341360"/>
            <a:ext cx="116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67640" y="1628640"/>
            <a:ext cx="144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da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3240" y="4869000"/>
            <a:ext cx="4329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ezes tábla karbantartás, karbantartható mezők ugyint_leiras, ugyint_dat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Kötelezően kitöltendő mezők: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leiras, ugyint_da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9200" y="1341360"/>
            <a:ext cx="46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Tí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840" y="1628640"/>
            <a:ext cx="1258920" cy="2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_tipu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 Q524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066560" y="115920"/>
            <a:ext cx="105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Lezárás   (frm_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6120" y="549360"/>
            <a:ext cx="47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Ügyirat – információs sáv - 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o_id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o_konyv/megnevezes, iktatoszam, iktatas_dat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fel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felkod,ugyfelnev,irat_targya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Q518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88960" y="218916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Lezárás dátu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27280" y="2205000"/>
            <a:ext cx="144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lezar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19200" y="106668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39920" y="106668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87640" y="106668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76360" y="177336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Lezáró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27280" y="1773360"/>
            <a:ext cx="2592360" cy="21564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lezar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atadas_betekintes/szignalt_ugyinte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46600" y="3127320"/>
            <a:ext cx="5723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rat tábla karbantart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Szűré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Lezáró: lezar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 felh/beosztas=52603 – szignált ügyintéz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Automatikus beállítás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Ügyirat állapota: ugyirat_allapot=51505 - lezár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Lezáráskor minden kapcsolt ügyiratot lezárunk (alszámos kapcsolat), az ügyirat rekordok nem módosítható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Kötelező mezők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: lezaro, lezar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60000" y="1557360"/>
            <a:ext cx="57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ímze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32040" y="1557360"/>
            <a:ext cx="280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fel/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felnev, ugyfelkod, 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311640" y="1957320"/>
            <a:ext cx="149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lektronikus irat másol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789440" y="1955880"/>
            <a:ext cx="151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rat_masol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 rot="16200000">
            <a:off x="4678920" y="152136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08000" y="1197000"/>
            <a:ext cx="1447920" cy="210960"/>
          </a:xfrm>
          <a:prstGeom prst="rect">
            <a:avLst/>
          </a:prstGeom>
          <a:solidFill>
            <a:srgbClr val="dddddd">
              <a:alpha val="56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o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65240" y="1197000"/>
            <a:ext cx="73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ktató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39720" y="62064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971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020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083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212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6141960" y="612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10800"/>
                </a:moveTo>
                <a:lnTo>
                  <a:pt x="28589" y="3794"/>
                </a:lnTo>
                <a:lnTo>
                  <a:pt x="285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664524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firstslide"/>
          </p:cNvPr>
          <p:cNvSpPr/>
          <p:nvPr/>
        </p:nvSpPr>
        <p:spPr>
          <a:xfrm>
            <a:off x="563724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8065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16220" y="3794"/>
                </a:lnTo>
                <a:lnTo>
                  <a:pt x="16220" y="17806"/>
                </a:lnTo>
                <a:lnTo>
                  <a:pt x="14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>
            <a:hlinkClick r:id="" action="ppaction://hlinkshowjump?jump=lastslide"/>
          </p:cNvPr>
          <p:cNvSpPr/>
          <p:nvPr/>
        </p:nvSpPr>
        <p:spPr>
          <a:xfrm>
            <a:off x="714996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10000" y="189000"/>
            <a:ext cx="196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Kimenő irat iktatás… (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m530_3_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84720" y="1917720"/>
            <a:ext cx="287640" cy="287280"/>
          </a:xfrm>
          <a:custGeom>
            <a:avLst/>
            <a:gdLst>
              <a:gd name="textAreaLeft" fmla="*/ 18360 w 287640"/>
              <a:gd name="textAreaRight" fmla="*/ 269280 w 28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7301"/>
                </a:moveTo>
                <a:lnTo>
                  <a:pt x="4721" y="7301"/>
                </a:lnTo>
                <a:lnTo>
                  <a:pt x="5104" y="7667"/>
                </a:lnTo>
                <a:lnTo>
                  <a:pt x="14312" y="7667"/>
                </a:lnTo>
                <a:lnTo>
                  <a:pt x="14869" y="8224"/>
                </a:lnTo>
                <a:lnTo>
                  <a:pt x="14869" y="8772"/>
                </a:lnTo>
                <a:lnTo>
                  <a:pt x="16715" y="8772"/>
                </a:lnTo>
                <a:lnTo>
                  <a:pt x="17080" y="8224"/>
                </a:lnTo>
                <a:lnTo>
                  <a:pt x="17820" y="8224"/>
                </a:lnTo>
                <a:lnTo>
                  <a:pt x="17820" y="13376"/>
                </a:lnTo>
                <a:lnTo>
                  <a:pt x="17080" y="13376"/>
                </a:lnTo>
                <a:lnTo>
                  <a:pt x="16715" y="12828"/>
                </a:lnTo>
                <a:lnTo>
                  <a:pt x="14869" y="12828"/>
                </a:lnTo>
                <a:lnTo>
                  <a:pt x="14869" y="14107"/>
                </a:lnTo>
                <a:lnTo>
                  <a:pt x="5287" y="14107"/>
                </a:lnTo>
                <a:lnTo>
                  <a:pt x="5287" y="9877"/>
                </a:lnTo>
                <a:lnTo>
                  <a:pt x="5104" y="9877"/>
                </a:lnTo>
                <a:lnTo>
                  <a:pt x="4721" y="10243"/>
                </a:lnTo>
                <a:lnTo>
                  <a:pt x="3807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1160" y="2746440"/>
            <a:ext cx="140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elettes ügyirat keres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275256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folottes_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49640" y="2709720"/>
            <a:ext cx="288720" cy="28764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681" h="21600">
                <a:moveTo>
                  <a:pt x="0" y="0"/>
                </a:moveTo>
                <a:lnTo>
                  <a:pt x="21681" y="0"/>
                </a:lnTo>
                <a:lnTo>
                  <a:pt x="21681" y="21600"/>
                </a:lnTo>
                <a:lnTo>
                  <a:pt x="0" y="21600"/>
                </a:lnTo>
                <a:close/>
              </a:path>
              <a:path fill="lightenLess" w="21681" h="21600">
                <a:moveTo>
                  <a:pt x="0" y="0"/>
                </a:moveTo>
                <a:lnTo>
                  <a:pt x="21681" y="0"/>
                </a:lnTo>
                <a:lnTo>
                  <a:pt x="20281" y="1400"/>
                </a:lnTo>
                <a:lnTo>
                  <a:pt x="1400" y="1400"/>
                </a:lnTo>
                <a:close/>
              </a:path>
              <a:path fill="darken" w="21681" h="21600">
                <a:moveTo>
                  <a:pt x="21681" y="0"/>
                </a:moveTo>
                <a:lnTo>
                  <a:pt x="21681" y="21600"/>
                </a:lnTo>
                <a:lnTo>
                  <a:pt x="20281" y="20200"/>
                </a:lnTo>
                <a:lnTo>
                  <a:pt x="20281" y="1400"/>
                </a:lnTo>
                <a:close/>
              </a:path>
              <a:path fill="darkenLess" w="21681" h="21600">
                <a:moveTo>
                  <a:pt x="21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1" y="20200"/>
                </a:lnTo>
                <a:close/>
              </a:path>
              <a:path fill="lighten" w="21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1" h="21600">
                <a:moveTo>
                  <a:pt x="1084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81" h="21600">
                <a:moveTo>
                  <a:pt x="11946" y="14281"/>
                </a:moveTo>
                <a:lnTo>
                  <a:pt x="11946" y="12323"/>
                </a:lnTo>
                <a:cubicBezTo>
                  <a:pt x="11946" y="11496"/>
                  <a:pt x="12277" y="10800"/>
                  <a:pt x="12877" y="10800"/>
                </a:cubicBezTo>
                <a:cubicBezTo>
                  <a:pt x="14009" y="10800"/>
                  <a:pt x="14905" y="9434"/>
                  <a:pt x="14905" y="7849"/>
                </a:cubicBezTo>
                <a:cubicBezTo>
                  <a:pt x="14905" y="5534"/>
                  <a:pt x="13051" y="3794"/>
                  <a:pt x="10841" y="3794"/>
                </a:cubicBezTo>
                <a:cubicBezTo>
                  <a:pt x="8630" y="3794"/>
                  <a:pt x="6959" y="5534"/>
                  <a:pt x="6959" y="7849"/>
                </a:cubicBezTo>
                <a:lnTo>
                  <a:pt x="8813" y="7849"/>
                </a:lnTo>
                <a:cubicBezTo>
                  <a:pt x="8813" y="6709"/>
                  <a:pt x="9735" y="5821"/>
                  <a:pt x="10841" y="5821"/>
                </a:cubicBezTo>
                <a:cubicBezTo>
                  <a:pt x="11946" y="5821"/>
                  <a:pt x="12877" y="6709"/>
                  <a:pt x="12877" y="7849"/>
                </a:cubicBezTo>
                <a:cubicBezTo>
                  <a:pt x="12877" y="8589"/>
                  <a:pt x="12407" y="9320"/>
                  <a:pt x="11946" y="9320"/>
                </a:cubicBezTo>
                <a:cubicBezTo>
                  <a:pt x="10841" y="9320"/>
                  <a:pt x="9735" y="10800"/>
                  <a:pt x="9735" y="12323"/>
                </a:cubicBezTo>
                <a:lnTo>
                  <a:pt x="973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35280" y="234936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o_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o_konyv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megneve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60840" y="2349360"/>
            <a:ext cx="76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ktatóköny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" action="ppaction://hlinkshowjump?jump=previousslide"/>
          </p:cNvPr>
          <p:cNvSpPr/>
          <p:nvPr/>
        </p:nvSpPr>
        <p:spPr>
          <a:xfrm rot="16200000">
            <a:off x="3166200" y="2313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36720" y="3129120"/>
            <a:ext cx="144792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rat_tipu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Q5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76960" y="3129120"/>
            <a:ext cx="89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Ügyirat típu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previousslide"/>
          </p:cNvPr>
          <p:cNvSpPr/>
          <p:nvPr/>
        </p:nvSpPr>
        <p:spPr>
          <a:xfrm rot="16200000">
            <a:off x="3168000" y="3092760"/>
            <a:ext cx="215640" cy="287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88000" y="3141720"/>
            <a:ext cx="1655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tar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14640" y="3129120"/>
            <a:ext cx="73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Ügy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88000" y="275904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14640" y="275904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previousslide"/>
          </p:cNvPr>
          <p:cNvSpPr/>
          <p:nvPr/>
        </p:nvSpPr>
        <p:spPr>
          <a:xfrm rot="16200000">
            <a:off x="6185520" y="27169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835280" y="350028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rat_targya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Q5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41560" y="3502080"/>
            <a:ext cx="6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rat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previousslide"/>
          </p:cNvPr>
          <p:cNvSpPr/>
          <p:nvPr/>
        </p:nvSpPr>
        <p:spPr>
          <a:xfrm rot="16200000">
            <a:off x="3167640" y="346428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788000" y="234936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ra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22920" y="2349360"/>
            <a:ext cx="761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rat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786200" y="3502080"/>
            <a:ext cx="144792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targys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10240" y="3475080"/>
            <a:ext cx="83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Tárgyszav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32040" y="382896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melleklet_szam_iratb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200" y="3828960"/>
            <a:ext cx="112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llékletek 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60480" y="1908000"/>
            <a:ext cx="89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igitalizált 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906560" y="1917720"/>
            <a:ext cx="142920" cy="144360"/>
            <a:chOff x="1906560" y="1917720"/>
            <a:chExt cx="142920" cy="144360"/>
          </a:xfrm>
        </p:grpSpPr>
        <p:sp>
          <p:nvSpPr>
            <p:cNvPr id="348" name=""/>
            <p:cNvSpPr/>
            <p:nvPr/>
          </p:nvSpPr>
          <p:spPr>
            <a:xfrm>
              <a:off x="1906560" y="191772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41480" y="19461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2049120" y="1917720"/>
            <a:ext cx="91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digitalizalt_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64080" y="1197000"/>
            <a:ext cx="1447920" cy="210960"/>
          </a:xfrm>
          <a:prstGeom prst="rect">
            <a:avLst/>
          </a:prstGeom>
          <a:solidFill>
            <a:srgbClr val="dddddd">
              <a:alpha val="56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35440" y="1197000"/>
            <a:ext cx="69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99160" y="3827520"/>
            <a:ext cx="144756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elkuldes_m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Q5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686760" y="3828960"/>
            <a:ext cx="96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lküldés mód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previousslide"/>
          </p:cNvPr>
          <p:cNvSpPr/>
          <p:nvPr/>
        </p:nvSpPr>
        <p:spPr>
          <a:xfrm rot="16200000">
            <a:off x="6192000" y="37821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156440" y="1197000"/>
            <a:ext cx="1447920" cy="210960"/>
          </a:xfrm>
          <a:prstGeom prst="rect">
            <a:avLst/>
          </a:prstGeom>
          <a:solidFill>
            <a:srgbClr val="dddddd">
              <a:alpha val="56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as_dat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aktuális n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65080" y="1197000"/>
            <a:ext cx="93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ktat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93080" y="4640400"/>
            <a:ext cx="4135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rat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 és </a:t>
            </a: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eze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 táblák aktualizál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Automatikus beállítá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nteze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 tábla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Ügyirat azonosító =ugyirat_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ésre utasítás típusa: ugyint_utas_tip=52306 – kimenő irat ügyinté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ő típus: ugyint_tipus=52406 – kimenő ügyirat intéz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és dátuma: ugyint_datum=iktatas_datum (aktuális na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Ügyirat állapota: ugyirat_allapot=Q51503 - iktat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Szűré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ókönyv: usernev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felh/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felh_szerv_egy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okonyv/szerv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6400" y="414324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lektronikus ira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ásol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836720" y="4221000"/>
            <a:ext cx="151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rat_masol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48000" y="41925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90200" y="4900680"/>
            <a:ext cx="1802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Kötelezően kitöltendő mezők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ókönyv – iktato_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 dátuma – ira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rat típus – ugyirat_ti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 tárgya – irat_ta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 tárgya - ugytar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76840" y="32076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Expediálás   (frm_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9200" y="549360"/>
            <a:ext cx="4745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Ügyirat – információs sáv - 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o_id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o_konyv/megnevezes, iktatoszam, iktatas_dat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fel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felkod,ugyfelnev,irat_targya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Q518 kodmegnev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71640" y="218916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pediálás dátu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627280" y="2205000"/>
            <a:ext cx="144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expedial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519200" y="106668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39920" y="106668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987640" y="106668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755880" y="1052640"/>
            <a:ext cx="648000" cy="21564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476360" y="177336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pediáló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27280" y="1773360"/>
            <a:ext cx="25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expedial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felh/id, usernev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" action="ppaction://hlinkshowjump?jump=previousslide"/>
          </p:cNvPr>
          <p:cNvSpPr/>
          <p:nvPr/>
        </p:nvSpPr>
        <p:spPr>
          <a:xfrm rot="16200000">
            <a:off x="5255280" y="17470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96080" y="3200400"/>
            <a:ext cx="230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rat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tábla aktualizál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Szűré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Expediáló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 – expedial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 felh/beosztas=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Automatikus beállítá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lezaro= expedia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lezaras_dat=expedialas_da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rat_allapot=51504 - expediálv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Alapértelmezetten megjelenítjük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Expediáló –</a:t>
            </a: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expedialo</a:t>
            </a: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felh/beosztas=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Expediálás dátuma: aktuális napi dá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Kötelező mezők: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expedialo, expedial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260000" y="1557360"/>
            <a:ext cx="57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ímze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38160" y="1547640"/>
            <a:ext cx="280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cimzett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felh/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311640" y="1957320"/>
            <a:ext cx="149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lektronikus irat másol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789440" y="1955880"/>
            <a:ext cx="151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rat_masol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previousslide"/>
          </p:cNvPr>
          <p:cNvSpPr/>
          <p:nvPr/>
        </p:nvSpPr>
        <p:spPr>
          <a:xfrm rot="16200000">
            <a:off x="4682160" y="1521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908000" y="1197000"/>
            <a:ext cx="1447920" cy="210960"/>
          </a:xfrm>
          <a:prstGeom prst="rect">
            <a:avLst/>
          </a:prstGeom>
          <a:solidFill>
            <a:srgbClr val="dddddd">
              <a:alpha val="56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o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065240" y="1197000"/>
            <a:ext cx="73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ktató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39720" y="62064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971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020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7083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212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" action="ppaction://hlinkshowjump?jump=previousslide"/>
          </p:cNvPr>
          <p:cNvSpPr/>
          <p:nvPr/>
        </p:nvSpPr>
        <p:spPr>
          <a:xfrm>
            <a:off x="6141960" y="612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10800"/>
                </a:moveTo>
                <a:lnTo>
                  <a:pt x="28589" y="3794"/>
                </a:lnTo>
                <a:lnTo>
                  <a:pt x="285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664524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>
            <a:hlinkClick r:id="" action="ppaction://hlinkshowjump?jump=firstslide"/>
          </p:cNvPr>
          <p:cNvSpPr/>
          <p:nvPr/>
        </p:nvSpPr>
        <p:spPr>
          <a:xfrm>
            <a:off x="563724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8065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16220" y="3794"/>
                </a:lnTo>
                <a:lnTo>
                  <a:pt x="16220" y="17806"/>
                </a:lnTo>
                <a:lnTo>
                  <a:pt x="14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" action="ppaction://hlinkshowjump?jump=lastslide"/>
          </p:cNvPr>
          <p:cNvSpPr/>
          <p:nvPr/>
        </p:nvSpPr>
        <p:spPr>
          <a:xfrm>
            <a:off x="714996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10720" y="189000"/>
            <a:ext cx="157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Belső irat iktatás… (frm_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84720" y="1917720"/>
            <a:ext cx="287640" cy="287280"/>
          </a:xfrm>
          <a:custGeom>
            <a:avLst/>
            <a:gdLst>
              <a:gd name="textAreaLeft" fmla="*/ 18360 w 287640"/>
              <a:gd name="textAreaRight" fmla="*/ 269280 w 28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7301"/>
                </a:moveTo>
                <a:lnTo>
                  <a:pt x="4721" y="7301"/>
                </a:lnTo>
                <a:lnTo>
                  <a:pt x="5104" y="7667"/>
                </a:lnTo>
                <a:lnTo>
                  <a:pt x="14312" y="7667"/>
                </a:lnTo>
                <a:lnTo>
                  <a:pt x="14869" y="8224"/>
                </a:lnTo>
                <a:lnTo>
                  <a:pt x="14869" y="8772"/>
                </a:lnTo>
                <a:lnTo>
                  <a:pt x="16715" y="8772"/>
                </a:lnTo>
                <a:lnTo>
                  <a:pt x="17080" y="8224"/>
                </a:lnTo>
                <a:lnTo>
                  <a:pt x="17820" y="8224"/>
                </a:lnTo>
                <a:lnTo>
                  <a:pt x="17820" y="13376"/>
                </a:lnTo>
                <a:lnTo>
                  <a:pt x="17080" y="13376"/>
                </a:lnTo>
                <a:lnTo>
                  <a:pt x="16715" y="12828"/>
                </a:lnTo>
                <a:lnTo>
                  <a:pt x="14869" y="12828"/>
                </a:lnTo>
                <a:lnTo>
                  <a:pt x="14869" y="14107"/>
                </a:lnTo>
                <a:lnTo>
                  <a:pt x="5287" y="14107"/>
                </a:lnTo>
                <a:lnTo>
                  <a:pt x="5287" y="9877"/>
                </a:lnTo>
                <a:lnTo>
                  <a:pt x="5104" y="9877"/>
                </a:lnTo>
                <a:lnTo>
                  <a:pt x="4721" y="10243"/>
                </a:lnTo>
                <a:lnTo>
                  <a:pt x="3807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1160" y="2746440"/>
            <a:ext cx="140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elettes ügyirat keres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275256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folottes_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149640" y="2709720"/>
            <a:ext cx="288720" cy="28764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681" h="21600">
                <a:moveTo>
                  <a:pt x="0" y="0"/>
                </a:moveTo>
                <a:lnTo>
                  <a:pt x="21681" y="0"/>
                </a:lnTo>
                <a:lnTo>
                  <a:pt x="21681" y="21600"/>
                </a:lnTo>
                <a:lnTo>
                  <a:pt x="0" y="21600"/>
                </a:lnTo>
                <a:close/>
              </a:path>
              <a:path fill="lightenLess" w="21681" h="21600">
                <a:moveTo>
                  <a:pt x="0" y="0"/>
                </a:moveTo>
                <a:lnTo>
                  <a:pt x="21681" y="0"/>
                </a:lnTo>
                <a:lnTo>
                  <a:pt x="20281" y="1400"/>
                </a:lnTo>
                <a:lnTo>
                  <a:pt x="1400" y="1400"/>
                </a:lnTo>
                <a:close/>
              </a:path>
              <a:path fill="darken" w="21681" h="21600">
                <a:moveTo>
                  <a:pt x="21681" y="0"/>
                </a:moveTo>
                <a:lnTo>
                  <a:pt x="21681" y="21600"/>
                </a:lnTo>
                <a:lnTo>
                  <a:pt x="20281" y="20200"/>
                </a:lnTo>
                <a:lnTo>
                  <a:pt x="20281" y="1400"/>
                </a:lnTo>
                <a:close/>
              </a:path>
              <a:path fill="darkenLess" w="21681" h="21600">
                <a:moveTo>
                  <a:pt x="21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1" y="20200"/>
                </a:lnTo>
                <a:close/>
              </a:path>
              <a:path fill="lighten" w="21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1" h="21600">
                <a:moveTo>
                  <a:pt x="1084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81" h="21600">
                <a:moveTo>
                  <a:pt x="11946" y="14281"/>
                </a:moveTo>
                <a:lnTo>
                  <a:pt x="11946" y="12323"/>
                </a:lnTo>
                <a:cubicBezTo>
                  <a:pt x="11946" y="11496"/>
                  <a:pt x="12277" y="10800"/>
                  <a:pt x="12877" y="10800"/>
                </a:cubicBezTo>
                <a:cubicBezTo>
                  <a:pt x="14009" y="10800"/>
                  <a:pt x="14905" y="9434"/>
                  <a:pt x="14905" y="7849"/>
                </a:cubicBezTo>
                <a:cubicBezTo>
                  <a:pt x="14905" y="5534"/>
                  <a:pt x="13051" y="3794"/>
                  <a:pt x="10841" y="3794"/>
                </a:cubicBezTo>
                <a:cubicBezTo>
                  <a:pt x="8630" y="3794"/>
                  <a:pt x="6959" y="5534"/>
                  <a:pt x="6959" y="7849"/>
                </a:cubicBezTo>
                <a:lnTo>
                  <a:pt x="8813" y="7849"/>
                </a:lnTo>
                <a:cubicBezTo>
                  <a:pt x="8813" y="6709"/>
                  <a:pt x="9735" y="5821"/>
                  <a:pt x="10841" y="5821"/>
                </a:cubicBezTo>
                <a:cubicBezTo>
                  <a:pt x="11946" y="5821"/>
                  <a:pt x="12877" y="6709"/>
                  <a:pt x="12877" y="7849"/>
                </a:cubicBezTo>
                <a:cubicBezTo>
                  <a:pt x="12877" y="8589"/>
                  <a:pt x="12407" y="9320"/>
                  <a:pt x="11946" y="9320"/>
                </a:cubicBezTo>
                <a:cubicBezTo>
                  <a:pt x="10841" y="9320"/>
                  <a:pt x="9735" y="10800"/>
                  <a:pt x="9735" y="12323"/>
                </a:cubicBezTo>
                <a:lnTo>
                  <a:pt x="973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35280" y="234936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o_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o_konyv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megneve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60840" y="2349360"/>
            <a:ext cx="76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ktatóköny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" action="ppaction://hlinkshowjump?jump=previousslide"/>
          </p:cNvPr>
          <p:cNvSpPr/>
          <p:nvPr/>
        </p:nvSpPr>
        <p:spPr>
          <a:xfrm rot="16200000">
            <a:off x="3166200" y="2313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836720" y="3129120"/>
            <a:ext cx="144792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irat_tipu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Q5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76960" y="3129120"/>
            <a:ext cx="89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Ügyirat típu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" action="ppaction://hlinkshowjump?jump=previousslide"/>
          </p:cNvPr>
          <p:cNvSpPr/>
          <p:nvPr/>
        </p:nvSpPr>
        <p:spPr>
          <a:xfrm rot="16200000">
            <a:off x="3168000" y="3092760"/>
            <a:ext cx="215640" cy="287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788000" y="3141720"/>
            <a:ext cx="1655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gytar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914640" y="3129120"/>
            <a:ext cx="73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Ügy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275904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14640" y="275904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>
            <a:hlinkClick r:id="" action="ppaction://hlinkshowjump?jump=previousslide"/>
          </p:cNvPr>
          <p:cNvSpPr/>
          <p:nvPr/>
        </p:nvSpPr>
        <p:spPr>
          <a:xfrm rot="16200000">
            <a:off x="6185520" y="27169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35280" y="350028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rat_targya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Q5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1560" y="3502080"/>
            <a:ext cx="6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rat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" action="ppaction://hlinkshowjump?jump=previousslide"/>
          </p:cNvPr>
          <p:cNvSpPr/>
          <p:nvPr/>
        </p:nvSpPr>
        <p:spPr>
          <a:xfrm rot="16200000">
            <a:off x="3167640" y="346428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788000" y="234936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ra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922920" y="2349360"/>
            <a:ext cx="761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rat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786200" y="3502080"/>
            <a:ext cx="144792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targys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10240" y="3475080"/>
            <a:ext cx="83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Tárgyszav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832040" y="382896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melleklet_szam_iratb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73200" y="3828960"/>
            <a:ext cx="112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llékletek 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62280" y="1906560"/>
            <a:ext cx="89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igitalizált 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906560" y="1916280"/>
            <a:ext cx="142920" cy="144360"/>
            <a:chOff x="1906560" y="1916280"/>
            <a:chExt cx="142920" cy="144360"/>
          </a:xfrm>
        </p:grpSpPr>
        <p:sp>
          <p:nvSpPr>
            <p:cNvPr id="418" name=""/>
            <p:cNvSpPr/>
            <p:nvPr/>
          </p:nvSpPr>
          <p:spPr>
            <a:xfrm>
              <a:off x="1906560" y="191628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41480" y="19447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2049120" y="1916280"/>
            <a:ext cx="91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digitalizalt_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64080" y="1197000"/>
            <a:ext cx="1447920" cy="210960"/>
          </a:xfrm>
          <a:prstGeom prst="rect">
            <a:avLst/>
          </a:prstGeom>
          <a:solidFill>
            <a:srgbClr val="dddddd">
              <a:alpha val="56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835440" y="1197000"/>
            <a:ext cx="69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Ügyintéz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88000" y="386064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elkuldes_m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Q5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686760" y="3862440"/>
            <a:ext cx="96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lküldés mód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" action="ppaction://hlinkshowjump?jump=previousslide"/>
          </p:cNvPr>
          <p:cNvSpPr/>
          <p:nvPr/>
        </p:nvSpPr>
        <p:spPr>
          <a:xfrm rot="16200000">
            <a:off x="6192000" y="382500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56440" y="1197000"/>
            <a:ext cx="1447920" cy="210960"/>
          </a:xfrm>
          <a:prstGeom prst="rect">
            <a:avLst/>
          </a:prstGeom>
          <a:solidFill>
            <a:srgbClr val="dddddd">
              <a:alpha val="56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as_dat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aktuális n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265080" y="1197000"/>
            <a:ext cx="93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ktat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44200" y="4199040"/>
            <a:ext cx="9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Válasz köte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820880" y="4221000"/>
            <a:ext cx="142920" cy="144360"/>
            <a:chOff x="1820880" y="4221000"/>
            <a:chExt cx="142920" cy="144360"/>
          </a:xfrm>
        </p:grpSpPr>
        <p:sp>
          <p:nvSpPr>
            <p:cNvPr id="430" name=""/>
            <p:cNvSpPr/>
            <p:nvPr/>
          </p:nvSpPr>
          <p:spPr>
            <a:xfrm>
              <a:off x="1820880" y="422100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55800" y="42494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906200" y="4189320"/>
            <a:ext cx="87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valaszkote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42480" y="4941720"/>
            <a:ext cx="6590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Automatiku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 beállítá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ügyirat állapota: ugyirat_allapot= 51503 – iktat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Szűré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Iktato_konyv/belso= 51303 – belső, usernev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felh/felh_szerv_egys=szervezeti_egyseg/szerv_egys és iktato_konyv/szerv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808520" y="4192560"/>
            <a:ext cx="144792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elintezes_ide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32680" y="4194000"/>
            <a:ext cx="1186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lintézés határide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836720" y="4522680"/>
            <a:ext cx="144792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surgosseg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Q525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  <a:ea typeface="Arial"/>
              </a:rPr>
              <a:t>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187640" y="4524480"/>
            <a:ext cx="54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ürgő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>
            <a:hlinkClick r:id="" action="ppaction://hlinkshowjump?jump=previousslide"/>
          </p:cNvPr>
          <p:cNvSpPr/>
          <p:nvPr/>
        </p:nvSpPr>
        <p:spPr>
          <a:xfrm rot="16200000">
            <a:off x="3239280" y="447228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72360" y="5805360"/>
            <a:ext cx="180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Kötelezően kitöltendő mezők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ókönyv – iktato_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 dátuma – ira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rat típus – ugyirat_ti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 tárgya – irat_ta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 tárgya - ugytar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12:11:32Z</dcterms:created>
  <dc:creator>B--e--n</dc:creator>
  <dc:description/>
  <dc:language>en-US</dc:language>
  <cp:lastModifiedBy>Mariann</cp:lastModifiedBy>
  <dcterms:modified xsi:type="dcterms:W3CDTF">2013-11-04T03:25:34Z</dcterms:modified>
  <cp:revision>6</cp:revision>
  <dc:subject/>
  <dc:title>1. dia</dc:title>
</cp:coreProperties>
</file>