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F2E-168D-4CC1-B188-6C81B965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039-D5F2-4104-9EE6-2548C11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9BE-69BE-4130-8091-9D5EF276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801-631E-494C-BD45-57728BE3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46F-ADB3-4E3D-A7C5-4D1815C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563-F7BE-46BD-B1B7-DFBF0D0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3B7-E09D-4054-9029-4F9F824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C84-30B9-4738-8959-0C0001C0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4D2-1594-4FE3-88A6-E07DAD9B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5EF-7390-47F6-B16C-2863A4C4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223-4A52-493A-B314-E81AF84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192-5B5C-4F6F-AA87-0358930B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DFCA-EED0-485F-A767-C624F455DD0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84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37000" y="457200"/>
            <a:ext cx="71928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51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4520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9284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40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899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0760" y="127008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6440" y="155736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1803240"/>
            <a:ext cx="82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k je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 rot="16200000">
            <a:off x="3048840" y="17877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39720" y="1303200"/>
            <a:ext cx="144000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korzet/korzet_k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39720" y="155736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atlan/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184464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atlan/ing_telek_jelle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 rot="16200000">
            <a:off x="5785560" y="14961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1197000"/>
            <a:ext cx="171936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/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9920" y="15318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atlan/ing_tulajdonvisz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48680" y="119700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5480" y="1522440"/>
            <a:ext cx="10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280" y="1830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zemeltetés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v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 rot="16200000">
            <a:off x="8522280" y="14958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47000" y="1531800"/>
            <a:ext cx="143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atlan/ing_vagyon_jell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5840" y="152892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gyon je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800" y="22557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11440" y="234000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 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34000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45200" y="1227240"/>
            <a:ext cx="171936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atlan/ing_tulajdonszerzes_jogc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63840" y="1216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szer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234000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lap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67440" y="2340000"/>
            <a:ext cx="963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k mér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2359080"/>
            <a:ext cx="1131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23120" y="235908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 laká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2340000"/>
            <a:ext cx="9144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269892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698920"/>
            <a:ext cx="1368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31920" y="2720880"/>
            <a:ext cx="11894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ulajdoni_lap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51960" y="2720880"/>
            <a:ext cx="10051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31240" y="2708280"/>
            <a:ext cx="9928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epulet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08720" y="2708280"/>
            <a:ext cx="1440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kezelt_lakas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0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67440" y="168120"/>
            <a:ext cx="22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… (Ingatlan, view502_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 rot="16200000">
            <a:off x="3086640" y="12672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427640" y="1916280"/>
            <a:ext cx="142920" cy="144360"/>
            <a:chOff x="4427640" y="1916280"/>
            <a:chExt cx="142920" cy="144360"/>
          </a:xfrm>
        </p:grpSpPr>
        <p:sp>
          <p:nvSpPr>
            <p:cNvPr id="85" name=""/>
            <p:cNvSpPr/>
            <p:nvPr/>
          </p:nvSpPr>
          <p:spPr>
            <a:xfrm>
              <a:off x="4427640" y="19162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62560" y="1944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542840" y="1887480"/>
            <a:ext cx="171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atlan/ing_uzemeltetsre_atad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92680" y="270828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2349360"/>
            <a:ext cx="1131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8440" y="233028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 laká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340000"/>
            <a:ext cx="1131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300024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000240"/>
            <a:ext cx="1368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31920" y="3022560"/>
            <a:ext cx="11894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ulajdoni_lap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51960" y="3022560"/>
            <a:ext cx="10051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31240" y="3009960"/>
            <a:ext cx="9928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epulet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3009960"/>
            <a:ext cx="1440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kezelt_lakas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92680" y="300996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331308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13080"/>
            <a:ext cx="1368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tca + ing_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31920" y="3335400"/>
            <a:ext cx="118944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ulajdoni_lap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1960" y="3335400"/>
            <a:ext cx="10051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1240" y="3322800"/>
            <a:ext cx="9928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epulet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3322800"/>
            <a:ext cx="1440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kezelt_lakas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92680" y="3322800"/>
            <a:ext cx="846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4365720"/>
            <a:ext cx="221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 nézet ing_utca + ing_hsz-ra rende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7560" y="4692600"/>
            <a:ext cx="721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z övezet tábla tartalmazza az ingatlanhoz tartozó címet. Az ingatlan táblában tároljuk az ovezet tábla egyedi azonosítóját, és a címet i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2020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8200" y="1406520"/>
            <a:ext cx="89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jell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143496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ingatlan_jell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860640"/>
            <a:ext cx="1729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ulajdonviszony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1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rot="16200000">
            <a:off x="4251960" y="34725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1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334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52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580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61214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662472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561672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lastslide"/>
          </p:cNvPr>
          <p:cNvSpPr/>
          <p:nvPr/>
        </p:nvSpPr>
        <p:spPr>
          <a:xfrm>
            <a:off x="71294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8280" y="239760"/>
            <a:ext cx="22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adatok… (Ingatlan, view502_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3500280"/>
            <a:ext cx="216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ulajdonszerzes_jogcim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3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63200" y="1482840"/>
            <a:ext cx="92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yrajzi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1482840"/>
            <a:ext cx="129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helyrajzi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4160" y="1052640"/>
            <a:ext cx="1070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zonosító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82520" y="142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jelle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nevez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1465200"/>
            <a:ext cx="1947960" cy="1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ingatlan_jelleg_szov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8120" y="174636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á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5080" y="177156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varo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sz/helys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 rot="16200000">
            <a:off x="2953440" y="17074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4320" y="1801800"/>
            <a:ext cx="41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38920" y="1801800"/>
            <a:ext cx="1297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6880" y="178452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1793880"/>
            <a:ext cx="503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h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15240" y="1800360"/>
            <a:ext cx="51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r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1800360"/>
            <a:ext cx="151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 rot="16200000">
            <a:off x="5404680" y="1747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760" y="200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ok cím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206856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sarok_ut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2160" y="202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ok cím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2079720"/>
            <a:ext cx="93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sarok_h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38608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42100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orzs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0560" y="23493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elekkönyv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téts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7760" y="2400480"/>
            <a:ext cx="151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elekkonyvi_betet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20680" y="2352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p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3320" y="2397240"/>
            <a:ext cx="151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ulajdoni_lap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6240" y="3121200"/>
            <a:ext cx="26802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,vagyonkezelési és üzemeltetés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0640" y="3487680"/>
            <a:ext cx="145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szerzés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0760" y="34797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ba kerül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őpont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3835440"/>
            <a:ext cx="152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viszony Katasz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2080" y="3860640"/>
            <a:ext cx="10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visz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920" y="4183200"/>
            <a:ext cx="154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ésből kiadás jogcí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9480" y="444492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Önkormányzati tulajdoni há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2880" y="484488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házi igé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9480" y="4879800"/>
            <a:ext cx="118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bbségi társashá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59800" y="415764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lajdoni l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7120" y="4487760"/>
            <a:ext cx="137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t tulajdoni há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5840" y="3508200"/>
            <a:ext cx="1798560" cy="2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ulajdonba_kerules_ide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5960" y="3835440"/>
            <a:ext cx="215892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tulajdonviszony_kat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1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4149720"/>
            <a:ext cx="2160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ezelesbol_kiadas_jogcim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16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 rot="16200000">
            <a:off x="4251960" y="4126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487760"/>
            <a:ext cx="2054520" cy="2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onkorm_tulajdoni_ha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5840" y="4516560"/>
            <a:ext cx="205416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kezelt_tul_hany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79640" y="4892760"/>
            <a:ext cx="142920" cy="144360"/>
            <a:chOff x="1979640" y="4892760"/>
            <a:chExt cx="142920" cy="144360"/>
          </a:xfrm>
        </p:grpSpPr>
        <p:sp>
          <p:nvSpPr>
            <p:cNvPr id="167" name=""/>
            <p:cNvSpPr/>
            <p:nvPr/>
          </p:nvSpPr>
          <p:spPr>
            <a:xfrm>
              <a:off x="1979640" y="48927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4560" y="49212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048040" y="4848120"/>
            <a:ext cx="113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ng_egyhazi_ige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4879800"/>
            <a:ext cx="143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ng_tobbsegi_tarsash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72320" y="4170240"/>
            <a:ext cx="1223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_tulajdoni_l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3440" y="4923000"/>
            <a:ext cx="142920" cy="144360"/>
            <a:chOff x="4573440" y="4923000"/>
            <a:chExt cx="142920" cy="144360"/>
          </a:xfrm>
        </p:grpSpPr>
        <p:sp>
          <p:nvSpPr>
            <p:cNvPr id="173" name=""/>
            <p:cNvSpPr/>
            <p:nvPr/>
          </p:nvSpPr>
          <p:spPr>
            <a:xfrm>
              <a:off x="4573440" y="492300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08360" y="4951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 rot="16200000">
            <a:off x="4250520" y="3832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 rot="16200000">
            <a:off x="7634880" y="38325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7960" y="523728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gyon je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39640" y="5237280"/>
            <a:ext cx="162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forgalomképess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6160" y="5522760"/>
            <a:ext cx="112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gyonkezelő k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50520" y="54864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zemeltetési szolgáltatá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látó k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440" y="5800680"/>
            <a:ext cx="129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zemeltetésre át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52640" y="5819760"/>
            <a:ext cx="96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sztott keze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5840" y="6097680"/>
            <a:ext cx="107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 kezelő szer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3960" y="6105600"/>
            <a:ext cx="135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 kezelő szerv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3840" y="5784840"/>
            <a:ext cx="12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degenítési tilal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33600" y="60530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vasolt értékesítés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4160" y="523728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vagyon_jell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1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 rot="16200000">
            <a:off x="3818880" y="520092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91040" y="5237280"/>
            <a:ext cx="1729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forgalomkepes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 rot="16200000">
            <a:off x="7665120" y="52009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4160" y="552456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vagyonkezelo_tipu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19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 rot="16200000">
            <a:off x="3818520" y="54885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70520" y="552456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zemelteto_tipu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 rot="16200000">
            <a:off x="7665120" y="5488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4160" y="581328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uzemeltetesre_atad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646520" y="5865840"/>
            <a:ext cx="142920" cy="144360"/>
            <a:chOff x="4646520" y="5865840"/>
            <a:chExt cx="142920" cy="144360"/>
          </a:xfrm>
        </p:grpSpPr>
        <p:sp>
          <p:nvSpPr>
            <p:cNvPr id="197" name=""/>
            <p:cNvSpPr/>
            <p:nvPr/>
          </p:nvSpPr>
          <p:spPr>
            <a:xfrm>
              <a:off x="4646520" y="586584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1440" y="5894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726080" y="5813280"/>
            <a:ext cx="119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ng_osztott_kez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08080" y="6129360"/>
            <a:ext cx="98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800" spc="-1" strike="noStrike">
                <a:solidFill>
                  <a:srgbClr val="000000"/>
                </a:solidFill>
                <a:latin typeface="Arial"/>
              </a:rPr>
              <a:t>ing_mas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800" spc="-1" strike="noStrike">
                <a:solidFill>
                  <a:srgbClr val="000000"/>
                </a:solidFill>
                <a:latin typeface="Arial"/>
              </a:rPr>
              <a:t>kezelo_szer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951600" y="5861160"/>
            <a:ext cx="142920" cy="144360"/>
            <a:chOff x="6951600" y="5861160"/>
            <a:chExt cx="142920" cy="144360"/>
          </a:xfrm>
        </p:grpSpPr>
        <p:sp>
          <p:nvSpPr>
            <p:cNvPr id="202" name=""/>
            <p:cNvSpPr/>
            <p:nvPr/>
          </p:nvSpPr>
          <p:spPr>
            <a:xfrm>
              <a:off x="6951600" y="58611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6520" y="58896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29000" y="5813280"/>
            <a:ext cx="143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ng_elidegenitesi_tilal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63920" y="6100920"/>
            <a:ext cx="1729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mas_kezelo_n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07200" y="6135840"/>
            <a:ext cx="1655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javasolt_ertekesitesi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21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 rot="16200000">
            <a:off x="8892360" y="60994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973160" y="6143760"/>
            <a:ext cx="142920" cy="144360"/>
            <a:chOff x="1973160" y="6143760"/>
            <a:chExt cx="142920" cy="144360"/>
          </a:xfrm>
        </p:grpSpPr>
        <p:sp>
          <p:nvSpPr>
            <p:cNvPr id="209" name=""/>
            <p:cNvSpPr/>
            <p:nvPr/>
          </p:nvSpPr>
          <p:spPr>
            <a:xfrm>
              <a:off x="1973160" y="61437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08080" y="61722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59280" y="2048040"/>
            <a:ext cx="110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ok cím körz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92120" y="2048040"/>
            <a:ext cx="1513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korzet_sarok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9,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 rot="16200000">
            <a:off x="2946960" y="202464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7440" y="178272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48680" y="1792440"/>
            <a:ext cx="503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pcsoh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3240" y="169056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ítmények, épü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5560" y="1413000"/>
            <a:ext cx="129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érképszelvény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31800" y="142236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erkepszelveny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8240" y="1052640"/>
            <a:ext cx="11026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jellemző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 rot="16200000">
            <a:off x="5615640" y="13899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23640" y="141300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 fekv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11920" y="1425600"/>
            <a:ext cx="154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öldrészlet nagysága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1700280"/>
            <a:ext cx="135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őszakos épület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7280" y="1700280"/>
            <a:ext cx="117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emlék védett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3680" y="2038320"/>
            <a:ext cx="82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k je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7280" y="142560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ingatlan_fekvese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22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1413000"/>
            <a:ext cx="1081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elek_mer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31800" y="1700280"/>
            <a:ext cx="1081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epulet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1700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idoszakos_epulet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78720" y="1700280"/>
            <a:ext cx="180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g_muemleki_vedett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31800" y="204156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telek_jellege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2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 rot="16200000">
            <a:off x="8543160" y="1664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 rot="16200000">
            <a:off x="2998080" y="2025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8320" y="208584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restel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06676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urestele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3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rot="16200000">
            <a:off x="8568360" y="20275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78200" y="24004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zelő vélemény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2401920"/>
            <a:ext cx="3673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kezelo_velemen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3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 rot="16200000">
            <a:off x="8563680" y="23608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7400" y="2367000"/>
            <a:ext cx="109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gi rendezett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7640" y="2387520"/>
            <a:ext cx="1873440" cy="2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jogi_rendezett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2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 rot="16200000">
            <a:off x="3418560" y="23450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22360" y="2014560"/>
            <a:ext cx="91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pítési m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67280" y="2041560"/>
            <a:ext cx="1441440" cy="2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ng_beepitesi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2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 rot="16200000">
            <a:off x="5561640" y="2005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-1800" y="1052640"/>
            <a:ext cx="8794800" cy="4047480"/>
            <a:chOff x="-1800" y="1052640"/>
            <a:chExt cx="8794800" cy="4047480"/>
          </a:xfrm>
        </p:grpSpPr>
        <p:sp>
          <p:nvSpPr>
            <p:cNvPr id="247" name=""/>
            <p:cNvSpPr/>
            <p:nvPr/>
          </p:nvSpPr>
          <p:spPr>
            <a:xfrm>
              <a:off x="5760" y="1822320"/>
              <a:ext cx="151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nyvszerinti bruttó 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80" y="2793960"/>
              <a:ext cx="130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yugdíjas lakásszá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1800" y="3768840"/>
              <a:ext cx="129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rtokbaadás dátum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80" y="4098960"/>
              <a:ext cx="121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esítésre kijelöl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11120" y="1822320"/>
              <a:ext cx="100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brutto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7000" y="1052640"/>
              <a:ext cx="82692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97960" y="1822320"/>
              <a:ext cx="960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ruttó érték év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35400" y="1822320"/>
              <a:ext cx="1079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brutto_ertek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80480" y="1819440"/>
              <a:ext cx="87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sült 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45200" y="1822320"/>
              <a:ext cx="1081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becsult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33840" y="1822320"/>
              <a:ext cx="103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sült érték év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23120" y="1825560"/>
              <a:ext cx="1081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becsult_ertek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080" y="1544760"/>
              <a:ext cx="851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Állag mutató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557360"/>
              <a:ext cx="1027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allagmuta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9160" y="2146320"/>
              <a:ext cx="1146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adott lakásszá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2680" y="214632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ladot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240" y="2459160"/>
              <a:ext cx="107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t laká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65400" y="2459160"/>
              <a:ext cx="10792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kezel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3960" y="207324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adott nem laká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4680" y="2133720"/>
              <a:ext cx="1079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ladot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nem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7040" y="238752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t nem laká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6480" y="2460600"/>
              <a:ext cx="1079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kezel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nem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65400" y="2781360"/>
              <a:ext cx="1079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nyugd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99320" y="2143080"/>
              <a:ext cx="122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adott lakás terüle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1600" y="214776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ladot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akas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46840" y="2454120"/>
              <a:ext cx="115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t lakás terü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3920" y="249228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kezel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akas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32640" y="205596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adott nem laká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rü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13720" y="2133720"/>
              <a:ext cx="10792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ladot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nemlakas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4320" y="238284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t nem laká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rü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75560" y="245592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kezel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nemlakas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1720" y="3086280"/>
              <a:ext cx="1142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gységnyi víz kt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66840" y="307332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gys_viz_k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4280" y="300024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gységny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szippantás kt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5760" y="306864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gy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szipp_k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2920" y="299736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gységny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melegviz kt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86480" y="3068640"/>
              <a:ext cx="1079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gy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melegviz_k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2280" y="300024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gységny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szemetszáll kt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4160" y="306864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gy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szemet_k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3320" y="335124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gységny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özös fűtés kt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66840" y="3419640"/>
              <a:ext cx="1079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gy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ozosfutes_k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3320" y="3341520"/>
              <a:ext cx="11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gységny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özös villany kt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5760" y="340992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gy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ozosvillany_kt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65400" y="3780000"/>
              <a:ext cx="10792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birtokba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adas_datu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243080" y="4149720"/>
              <a:ext cx="142920" cy="144360"/>
              <a:chOff x="1243080" y="4149720"/>
              <a:chExt cx="142920" cy="144360"/>
            </a:xfrm>
          </p:grpSpPr>
          <p:sp>
            <p:nvSpPr>
              <p:cNvPr id="292" name=""/>
              <p:cNvSpPr/>
              <p:nvPr/>
            </p:nvSpPr>
            <p:spPr>
              <a:xfrm>
                <a:off x="1243080" y="414972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78000" y="41781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332360" y="4105440"/>
              <a:ext cx="1450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Ing_ertekesitesre_kijelol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61040" y="405288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es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tározat szám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70120" y="4102200"/>
              <a:ext cx="1079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rtekesitesi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hatarozat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4400" y="404352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esíté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tározat dátum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2480" y="4092480"/>
              <a:ext cx="1079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ertekesitesi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hatarozat_datu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9240" y="4633920"/>
              <a:ext cx="79488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gjegyzé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1760" y="4869000"/>
              <a:ext cx="828036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megjegyz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19840" y="1550880"/>
              <a:ext cx="103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Állagmutató kó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orm.rend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48000" y="1557360"/>
              <a:ext cx="1027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_allagmutato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Q447 kode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>
              <a:hlinkClick r:id="" action="ppaction://hlinkshowjump?jump=previousslide"/>
            </p:cNvPr>
            <p:cNvSpPr/>
            <p:nvPr/>
          </p:nvSpPr>
          <p:spPr>
            <a:xfrm rot="16200000">
              <a:off x="4440960" y="152172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01:20:27Z</dcterms:created>
  <dc:creator>Mariann</dc:creator>
  <dc:description/>
  <dc:language>en-US</dc:language>
  <cp:lastModifiedBy>Mariann</cp:lastModifiedBy>
  <dcterms:modified xsi:type="dcterms:W3CDTF">2013-08-01T09:11:39Z</dcterms:modified>
  <cp:revision>44</cp:revision>
  <dc:subject/>
  <dc:title>1. dia</dc:title>
</cp:coreProperties>
</file>