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CBA-3C41-4770-BB19-AAE82001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2B5-26FC-420F-A493-7E097DCB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0BE-2D78-4CC0-81A6-2FFBB09F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BCF-E5E2-4D77-AC5F-FC8D829C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0B7-D286-4B75-B02F-171D3A23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499-A54C-446A-90D6-F373FDE7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1B7-30C9-44A4-BF04-6B36876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400-3AF1-4E96-B7FF-39CDE20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06C-2D2E-4960-AF1B-2E6D987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030-A0D6-4B51-A87C-AF739D09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D8F-F393-4DC4-80AE-6D3D8255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448-CA82-43F8-BED0-AA85645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172-15AC-417C-851B-CD1014C8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120" y="287496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59040" y="290340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 rot="16200000">
            <a:off x="4320360" y="216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205000"/>
            <a:ext cx="2449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2192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933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3800" y="407664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076640"/>
            <a:ext cx="1297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21924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4076640"/>
            <a:ext cx="4105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4076640"/>
            <a:ext cx="1152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437000"/>
            <a:ext cx="1152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44370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60720" y="131616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3360" y="90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3573360"/>
            <a:ext cx="2448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760" y="254628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0480" y="257796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52840" y="257976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81200" y="2651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6200" y="256860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57508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256392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26352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4437000"/>
            <a:ext cx="4032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4437000"/>
            <a:ext cx="1071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4840" y="5013360"/>
            <a:ext cx="74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űrési paraméter: felhasználó – azok a felhasználók, akik már szerepelnek az ugyirat/erkezteto mezőb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ézet adattartalma: azoknak az iratoknak kell megjelennie, akik még csak érkeztetve vannak. erkeztetve=y, szignalva=n, iktatva=n,lezarva=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ézet sorrend: érkeztet_sorszam csökken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120" y="44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3880" y="117360"/>
            <a:ext cx="233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keztetett Irat … (erkezetett_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34280" y="220500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használ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56240" y="2239920"/>
            <a:ext cx="1320840" cy="1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o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 rot="16200000">
            <a:off x="6946200" y="2178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7360" y="285588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2905200"/>
            <a:ext cx="143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 rot="16200000">
            <a:off x="4320360" y="216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2205000"/>
            <a:ext cx="2449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192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64500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3789360"/>
            <a:ext cx="1871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ürgő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789360"/>
            <a:ext cx="1297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1924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789360"/>
            <a:ext cx="3457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789360"/>
            <a:ext cx="1152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4149720"/>
            <a:ext cx="1152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5120" y="4149720"/>
            <a:ext cx="1944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60720" y="131616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85520" y="981000"/>
            <a:ext cx="69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zignálá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284640"/>
            <a:ext cx="2448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760" y="254628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60480" y="257796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52840" y="257976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2651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4920" y="285768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87640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286560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9440" y="2936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5800" y="4149720"/>
            <a:ext cx="33847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4148280"/>
            <a:ext cx="1071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08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2120" y="5421240"/>
            <a:ext cx="80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 tábla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űrési paraméter: felhasználó – azok a felhasználók, akik már szerepelnek az ugyirat/szignalo mezőb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ézet adattartalma: azoknak az iratoknak kell megjelennie, akik érkeztetve és/vagy szignálva vannak. erkeztetve=y, szignalva=y or n, iktatva=n,lezarva=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ézet sorrend: érkeztet_sorszam csökken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 grid – ugyintezes tabla – akkor jelennek meg rekordok, ha az ugyirat tábla egy rekordjára állunk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7120" y="44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3520" y="117360"/>
            <a:ext cx="21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ignált iratok… (szignalt_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20240" y="219852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használ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2233440"/>
            <a:ext cx="146376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ignal_rogz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 rot="16200000">
            <a:off x="7038000" y="216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05200" y="249228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ürgő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2536920"/>
            <a:ext cx="143964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 rot="16200000">
            <a:off x="7057080" y="2456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284640"/>
            <a:ext cx="244764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ekint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55940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41880" y="4724280"/>
            <a:ext cx="16984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4710240"/>
            <a:ext cx="1728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ekin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724280"/>
            <a:ext cx="2520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4702320"/>
            <a:ext cx="1727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062680"/>
            <a:ext cx="1728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5084640"/>
            <a:ext cx="17272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5084640"/>
            <a:ext cx="2376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5062680"/>
            <a:ext cx="1800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_da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440" y="342900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ugyirat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38880" y="4508640"/>
            <a:ext cx="101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ugyintezes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131616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85160" y="981000"/>
            <a:ext cx="55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7120" y="44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2080" y="117360"/>
            <a:ext cx="24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jövő irat iktatás… (bejovo_iktatas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37480" y="18223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3360" y="281952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25520" y="1822320"/>
            <a:ext cx="1738440" cy="2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7240" y="281952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 rot="16200000">
            <a:off x="7303320" y="1786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10240" y="182232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33720" y="180648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83320" y="18223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 rot="16200000">
            <a:off x="3990240" y="1786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 rot="16200000">
            <a:off x="3988440" y="2097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36680" y="2147760"/>
            <a:ext cx="16876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7760" y="212724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720" y="211788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1680" y="2149560"/>
            <a:ext cx="648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04040" y="215100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32400" y="222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76040" y="247320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24640" y="250020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16640" y="250200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45360" y="2573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1880" y="337644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11120" y="3500280"/>
            <a:ext cx="1729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27480" y="3500280"/>
            <a:ext cx="1511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720" y="350028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4000" y="3860640"/>
            <a:ext cx="1800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350028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39160" y="3500280"/>
            <a:ext cx="107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32440" y="3860640"/>
            <a:ext cx="1204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örzsszám + cím,utca, 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94200" y="3860640"/>
            <a:ext cx="1071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39160" y="3860640"/>
            <a:ext cx="1071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27480" y="3860640"/>
            <a:ext cx="15112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konyv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17000" y="24732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249228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5880" y="278136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68360" y="280044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500280"/>
            <a:ext cx="1297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40" y="3860640"/>
            <a:ext cx="1152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81600" y="3500280"/>
            <a:ext cx="1009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19760" y="3860640"/>
            <a:ext cx="936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3084480"/>
            <a:ext cx="2448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600" y="5229360"/>
            <a:ext cx="8148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 tábla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(Iktatókönyv típus: Iktato_konyv/bejovo = 51301 - bejö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áthatóság: iktato_konyv/lathato=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ézet adattartalma: azoknak az iratoknak kell megjelennie, amelyek már érkeztetve és szignálva is vannak: erkeztetve=y, szignalva=y, iktatva=n,lezarva=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Nézet sorrend: érkeztet_sorszam csökkenő, azok az iratok látszanak legelöl, amelyek iktatásra várna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9760" y="4724280"/>
            <a:ext cx="295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Algrid</a:t>
            </a: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ugyintezes tábla rekordjai lsd. Szignálás 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24040" y="731880"/>
            <a:ext cx="139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karbantar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7000" y="1039680"/>
            <a:ext cx="275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bantartón alapértelmezetten kitöltendő mezők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89200" y="1341360"/>
            <a:ext cx="3079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keztetés dátuma: erkeztet_dat –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bontás dátuma: felbontas_dat –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érkezés dátuma: beerkezes_dat –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keztető: userne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érkezés módja: 52001 – postai (boríté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97120" y="2322360"/>
            <a:ext cx="13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 karbantar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4240" y="255096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 tábla új mezője szignálást rögzítő- szignal_rogz. Nem a szignáló (vezérigazgató) rögzíti fel az adatok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z új mezőt és értékének kezelését a rendszeren át kell vezetni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9:52:41Z</dcterms:created>
  <dc:creator>Mariann</dc:creator>
  <dc:description/>
  <dc:language>en-US</dc:language>
  <cp:lastModifiedBy>Mariann</cp:lastModifiedBy>
  <dcterms:modified xsi:type="dcterms:W3CDTF">2013-10-28T05:49:46Z</dcterms:modified>
  <cp:revision>13</cp:revision>
  <dc:subject/>
  <dc:title>1. dia</dc:title>
</cp:coreProperties>
</file>