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687-D2ED-4906-88B1-6F9E59E2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5A3-F12E-4E8D-8136-156A6281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EEF-E153-4187-8D21-7169920E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255-D41B-4D70-B0D3-A3F82FBC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B6E-8673-4214-8E0A-F541CE95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65E-71C1-4CDD-AEDD-B85BF43D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303-2A20-4750-846D-3099886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7DC-040F-4476-A61B-6D6DAE80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608-FEDF-4E86-904B-9D80752F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F35-D73F-40D4-ABD0-22B39E2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AB0-18EA-4853-9F6F-7ED10562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17D-DCAC-4876-BB00-7E9B5A77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790-B5C3-452E-ADED-EC58D8AE5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14:03:06Z</dcterms:created>
  <dc:creator>B--e--n</dc:creator>
  <dc:description/>
  <dc:language>en-US</dc:language>
  <cp:lastModifiedBy>B--e--n</cp:lastModifiedBy>
  <dcterms:modified xsi:type="dcterms:W3CDTF">2013-06-21T14:12:25Z</dcterms:modified>
  <cp:revision>2</cp:revision>
  <dc:subject/>
  <dc:title>1. dia</dc:title>
</cp:coreProperties>
</file>