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30A-D6CF-47D2-AEBA-52AEE69D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C5EB-85A7-49E3-AF3E-91C965D4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C29-B17B-41D1-92E6-3C04B98B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891-4E39-4982-B472-48436CBC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39D-BBE0-4375-B9C2-A4FF2E7E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060-A3F5-4EF1-AA53-1FCC9B8E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58C2-2D0C-4BB7-86B1-074A807D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3EE-4A48-4914-87F3-327C58A7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271-EC22-4A1D-8E97-2C7F5D52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10C2-BE0B-49D3-8B49-25AF7C3E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612F-0ED6-482A-8227-00C2BEA6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FA4-F1A0-41EA-BD85-F912B9D5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BB35-0FC4-49D1-9293-C7FB0C811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9280" y="94140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78000" y="48888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89440" y="490680"/>
            <a:ext cx="792360" cy="368280"/>
          </a:xfrm>
          <a:prstGeom prst="rect">
            <a:avLst/>
          </a:prstGeom>
          <a:solidFill>
            <a:srgbClr val="ff99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45080" y="48888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02080" y="4935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9720" y="49068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34000" y="48888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83440" y="48888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42240" y="189000"/>
            <a:ext cx="202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ókönyv… (Iktatokonyv, view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4680" y="1341360"/>
            <a:ext cx="5587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lép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34680" y="1349280"/>
            <a:ext cx="616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ss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39200" y="1349280"/>
            <a:ext cx="715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560" y="1360440"/>
            <a:ext cx="503280" cy="231120"/>
          </a:xfrm>
          <a:prstGeom prst="rect">
            <a:avLst/>
          </a:prstGeom>
          <a:solidFill>
            <a:srgbClr val="b2b2b2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21600" y="1355760"/>
            <a:ext cx="589320" cy="2311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65640" y="1349280"/>
            <a:ext cx="57636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15080" y="134928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54720" y="1349280"/>
            <a:ext cx="79236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u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4000" y="134928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18360" y="1349280"/>
            <a:ext cx="9349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umen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18040" y="1822320"/>
            <a:ext cx="76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ató 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95640" y="1844640"/>
            <a:ext cx="1738080" cy="20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o_konyv/megnevez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 rot="16200000">
            <a:off x="7128720" y="180900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7080" y="1866960"/>
            <a:ext cx="16574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ókönyv típus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13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1876320"/>
            <a:ext cx="10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í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64600" y="18223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 rot="16200000">
            <a:off x="3971160" y="17866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2133720"/>
            <a:ext cx="69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v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 rot="16200000">
            <a:off x="3971160" y="21106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06800" y="214632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ervezeti_egyseg/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erv_egys_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2708280"/>
            <a:ext cx="813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63720" y="2924280"/>
            <a:ext cx="12668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könyv típu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2924280"/>
            <a:ext cx="1224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2924280"/>
            <a:ext cx="1224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ktí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2924280"/>
            <a:ext cx="194472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v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57720"/>
            <a:ext cx="140328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konyv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_konyv/megneve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89280" y="3357720"/>
            <a:ext cx="122364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konyv_tipu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3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88000" y="2924280"/>
            <a:ext cx="2016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gjegy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3640" y="3357720"/>
            <a:ext cx="194472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vezet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vezeti_egyseg/szerv_eg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335772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kti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3357720"/>
            <a:ext cx="199728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egjegy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9800" y="955800"/>
            <a:ext cx="103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 könyve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25160" y="2163600"/>
            <a:ext cx="43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ktí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423040" y="2205000"/>
            <a:ext cx="142560" cy="144360"/>
            <a:chOff x="5423040" y="2205000"/>
            <a:chExt cx="142560" cy="144360"/>
          </a:xfrm>
        </p:grpSpPr>
        <p:sp>
          <p:nvSpPr>
            <p:cNvPr id="84" name=""/>
            <p:cNvSpPr/>
            <p:nvPr/>
          </p:nvSpPr>
          <p:spPr>
            <a:xfrm>
              <a:off x="5423040" y="2205000"/>
              <a:ext cx="1425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57600" y="223344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5580360" y="2205000"/>
            <a:ext cx="41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akti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2600" y="536400"/>
            <a:ext cx="11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 u="sng">
                <a:solidFill>
                  <a:srgbClr val="000000"/>
                </a:solidFill>
                <a:uFillTx/>
                <a:latin typeface="Arial"/>
              </a:rPr>
              <a:t>Iktato_konyv táb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952080" y="189000"/>
            <a:ext cx="1125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 átadás (frm_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708360" y="2421000"/>
            <a:ext cx="266544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sernev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utasi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05800" y="242244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tad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547640" y="95724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97160" y="9572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016080" y="966960"/>
            <a:ext cx="648000" cy="21564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755880" y="966960"/>
            <a:ext cx="648000" cy="21564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175200" y="3778200"/>
            <a:ext cx="53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tvev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754000" y="2781360"/>
            <a:ext cx="95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tad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708360" y="278136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da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32400" y="341784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708360" y="3430440"/>
            <a:ext cx="3384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asi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96880" y="476280"/>
            <a:ext cx="47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 u="sng">
                <a:solidFill>
                  <a:srgbClr val="000000"/>
                </a:solidFill>
                <a:uFillTx/>
                <a:latin typeface="Arial"/>
              </a:rPr>
              <a:t>Ügyirat – információs sáv -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iktato_id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iktato_konyv/megnevezes, iktatoszam, iktatas_dat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ugyfel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ugyfelkod,ugyfelnev,irat_targya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Q518 kodmegnev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708360" y="3789360"/>
            <a:ext cx="280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sernev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e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>
            <a:hlinkClick r:id="" action="ppaction://hlinkshowjump?jump=previousslide"/>
          </p:cNvPr>
          <p:cNvSpPr/>
          <p:nvPr/>
        </p:nvSpPr>
        <p:spPr>
          <a:xfrm rot="16200000">
            <a:off x="6408000" y="3753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94200" y="3143160"/>
            <a:ext cx="60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708360" y="3141720"/>
            <a:ext cx="1655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asita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Q522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>
            <a:hlinkClick r:id="" action="ppaction://hlinkshowjump?jump=previousslide"/>
          </p:cNvPr>
          <p:cNvSpPr/>
          <p:nvPr/>
        </p:nvSpPr>
        <p:spPr>
          <a:xfrm rot="16200000">
            <a:off x="5399640" y="311508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440440" y="4137120"/>
            <a:ext cx="128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 határid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08360" y="414972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hati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27640" y="134136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tad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07640" y="1341360"/>
            <a:ext cx="95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tad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05080" y="1341360"/>
            <a:ext cx="60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641840" y="134136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72360" y="1341360"/>
            <a:ext cx="53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tvev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448760" y="1341360"/>
            <a:ext cx="128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 határid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95280" y="162864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utasi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51120" y="1628640"/>
            <a:ext cx="1008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utasi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916360" y="162864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asita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Q522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62480" y="1628640"/>
            <a:ext cx="16509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asi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83280" y="162864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e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24720" y="162864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hati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7928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08000" y="1916280"/>
            <a:ext cx="89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1600" y="4941720"/>
            <a:ext cx="366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ezes tábla karbantar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Automatikus beállítások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ntézés utasítás típus: ugyint_utas_tip=523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ntézésre utasító:  ugyint_utasito, ahol az ugyint_utas_tip=523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rat átadva: ugyirat/atadva=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949920" y="1890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ntézés  (frm_530_2_3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519200" y="98100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239920" y="98100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987640" y="98100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755880" y="966960"/>
            <a:ext cx="648000" cy="21564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841840" y="291132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851280" y="2930400"/>
            <a:ext cx="338472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asi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36760" y="2625840"/>
            <a:ext cx="60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51280" y="2624040"/>
            <a:ext cx="180036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asita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Q522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" action="ppaction://hlinkshowjump?jump=previousslide"/>
          </p:cNvPr>
          <p:cNvSpPr/>
          <p:nvPr/>
        </p:nvSpPr>
        <p:spPr>
          <a:xfrm rot="16200000">
            <a:off x="5688720" y="260064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83000" y="3259080"/>
            <a:ext cx="128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 határid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51280" y="3271680"/>
            <a:ext cx="136836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hati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595520" y="1341360"/>
            <a:ext cx="60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032280" y="134136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11640" y="134136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484880" y="1341360"/>
            <a:ext cx="128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 határid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370160" y="162864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asita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Q522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752560" y="1628640"/>
            <a:ext cx="16513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asi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475160" y="162864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hati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3516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2133720"/>
            <a:ext cx="89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49200" y="476280"/>
            <a:ext cx="4745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 u="sng">
                <a:solidFill>
                  <a:srgbClr val="000000"/>
                </a:solidFill>
                <a:uFillTx/>
                <a:latin typeface="Arial"/>
              </a:rPr>
              <a:t>Ügyirat – információs sáv - 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iktato_id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iktato_konyv/megnevezes, iktatoszam, iktatas_dat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ugyfel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ugyfelkod,ugyfelnev,irat_targya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Q518 kodmegnev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82360" y="363204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851280" y="3632040"/>
            <a:ext cx="3384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640240" y="3992400"/>
            <a:ext cx="116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851280" y="399096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da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109560" y="1328760"/>
            <a:ext cx="11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9080" y="1628640"/>
            <a:ext cx="17272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66200" y="1341360"/>
            <a:ext cx="116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667640" y="162864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da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53240" y="4869000"/>
            <a:ext cx="43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ezes tábla karbantartás, karbantartható mezők ugyint_leiras, ugyint_dat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29200" y="1341360"/>
            <a:ext cx="46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Tí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9840" y="1628640"/>
            <a:ext cx="1258920" cy="2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tipu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Q524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4066560" y="115920"/>
            <a:ext cx="105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ezárás   (frm_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76120" y="549360"/>
            <a:ext cx="47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 u="sng">
                <a:solidFill>
                  <a:srgbClr val="000000"/>
                </a:solidFill>
                <a:uFillTx/>
                <a:latin typeface="Arial"/>
              </a:rPr>
              <a:t>Ügyirat – információs sáv - 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iktato_id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iktato_konyv/megnevezes, iktatoszam, iktatas_dat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ugyfel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ugyfelkod,ugyfelnev,irat_targya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Q518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488960" y="2189160"/>
            <a:ext cx="106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zárás dátu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627280" y="220500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ezar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519200" y="106668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239920" y="106668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87640" y="106668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476360" y="177336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záró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627280" y="1773360"/>
            <a:ext cx="2592360" cy="2156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ezar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tadas_betekintes/szignalt_ugyinte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146600" y="3127320"/>
            <a:ext cx="572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 tábla karbantart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Szűré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ezáró: lezar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felh/beosztas=52603 – szignált ügyintéz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Automatikus beállítás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rat állapota: ugyirat_allapot=51505 - lezár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ezáráskor minden kapcsolt ügyiratot lezárunk (alszámos kapcsolat), az ügyirat rekordok nem módosítható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46836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097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708520" y="457200"/>
            <a:ext cx="792360" cy="368280"/>
          </a:xfrm>
          <a:prstGeom prst="rect">
            <a:avLst/>
          </a:prstGeom>
          <a:solidFill>
            <a:srgbClr val="ff99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76380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421160" y="46044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068800" y="45720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553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20252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61200" y="2341440"/>
            <a:ext cx="73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ató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941400" y="262908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803240" y="264312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565440" y="235116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ze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39640" y="3933720"/>
            <a:ext cx="813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433520" y="4076640"/>
            <a:ext cx="12668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rat típu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79360" y="4076640"/>
            <a:ext cx="1116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067280" y="4076640"/>
            <a:ext cx="1152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518160" y="4079880"/>
            <a:ext cx="115272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771640" y="4076640"/>
            <a:ext cx="1224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ze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66680" y="443700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1364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383280" y="168120"/>
            <a:ext cx="170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ratok… (Ugyirat, view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067280" y="4433760"/>
            <a:ext cx="115236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targy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7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248440" y="4079880"/>
            <a:ext cx="12236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040720" y="1638360"/>
            <a:ext cx="109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jövő 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imenő 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lső 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mélyes 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904680" y="1322280"/>
            <a:ext cx="5587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lép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553760" y="1316160"/>
            <a:ext cx="616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ss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258280" y="1316160"/>
            <a:ext cx="715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060720" y="1316160"/>
            <a:ext cx="5032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618360" y="1316160"/>
            <a:ext cx="5893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284720" y="1316160"/>
            <a:ext cx="57636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933800" y="1316160"/>
            <a:ext cx="648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373800" y="1316160"/>
            <a:ext cx="792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u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653080" y="131616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237440" y="1316160"/>
            <a:ext cx="9349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umen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184800" y="907920"/>
            <a:ext cx="8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763640" y="3573360"/>
            <a:ext cx="647640" cy="231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484360" y="3573360"/>
            <a:ext cx="792360" cy="231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pediál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742160" y="4076640"/>
            <a:ext cx="115272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küldés mód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>
            <a:hlinkClick r:id="" action="ppaction://hlinkshowjump?jump=previousslide"/>
          </p:cNvPr>
          <p:cNvSpPr/>
          <p:nvPr/>
        </p:nvSpPr>
        <p:spPr>
          <a:xfrm rot="16200000">
            <a:off x="6984360" y="2600640"/>
            <a:ext cx="215640" cy="287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27640" y="2652840"/>
            <a:ext cx="73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071360" y="2946240"/>
            <a:ext cx="69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v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03120" y="1758960"/>
            <a:ext cx="945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Kimenő 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29360" y="2349360"/>
            <a:ext cx="2006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/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nev, ugyfelkod, cí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01800" y="2349360"/>
            <a:ext cx="1738440" cy="20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o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o_konyv/megnevez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>
            <a:hlinkClick r:id="" action="ppaction://hlinkshowjump?jump=previousslide"/>
          </p:cNvPr>
          <p:cNvSpPr/>
          <p:nvPr/>
        </p:nvSpPr>
        <p:spPr>
          <a:xfrm rot="16200000">
            <a:off x="3599640" y="2313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" action="ppaction://hlinkshowjump?jump=previousslide"/>
          </p:cNvPr>
          <p:cNvSpPr/>
          <p:nvPr/>
        </p:nvSpPr>
        <p:spPr>
          <a:xfrm rot="16200000">
            <a:off x="3599640" y="296100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806480" y="298764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ervezeti_egyseg/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erv_egys_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219640" y="2637000"/>
            <a:ext cx="1657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targy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17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10920" y="2997360"/>
            <a:ext cx="93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9640" y="2997360"/>
            <a:ext cx="647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a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0200" y="2997360"/>
            <a:ext cx="647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a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75280" y="306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76360" y="443700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_ti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762280" y="4437000"/>
            <a:ext cx="122400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nev, ugyfelkod, 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248440" y="4427640"/>
            <a:ext cx="122364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518160" y="443700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813800" y="4437000"/>
            <a:ext cx="122400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lkuldes_m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9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65240" y="492588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065480" y="4923000"/>
            <a:ext cx="115272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targy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7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474920" y="492588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_ti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760840" y="4925880"/>
            <a:ext cx="122364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nev, ugyfelkod, 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246640" y="491652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516720" y="492588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812000" y="4925880"/>
            <a:ext cx="122400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lkuldes_m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9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79280" y="543096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079880" y="5427720"/>
            <a:ext cx="115236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targy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7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88960" y="543096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_ti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774880" y="5430960"/>
            <a:ext cx="122400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nev, ugyfelkod, 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261040" y="542124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531120" y="5430960"/>
            <a:ext cx="122364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826400" y="5430960"/>
            <a:ext cx="122400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lkuldes_m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9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53400" y="5950080"/>
            <a:ext cx="308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ókönyv típus: Iktato_konyv/kimeno = 51302 - kimen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áthatóság: iktato_konyv/lathato=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1260000" y="1557360"/>
            <a:ext cx="5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ze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832040" y="1557360"/>
            <a:ext cx="280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nev, ugyfelkod, 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311640" y="1957320"/>
            <a:ext cx="149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ktronikus irat másol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789440" y="1955880"/>
            <a:ext cx="151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_masol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>
            <a:hlinkClick r:id="" action="ppaction://hlinkshowjump?jump=previousslide"/>
          </p:cNvPr>
          <p:cNvSpPr/>
          <p:nvPr/>
        </p:nvSpPr>
        <p:spPr>
          <a:xfrm rot="16200000">
            <a:off x="4678920" y="152136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908000" y="1197000"/>
            <a:ext cx="1447920" cy="210960"/>
          </a:xfrm>
          <a:prstGeom prst="rect">
            <a:avLst/>
          </a:prstGeom>
          <a:solidFill>
            <a:srgbClr val="dddddd">
              <a:alpha val="56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065240" y="1197000"/>
            <a:ext cx="73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9720" y="62064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2971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0020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7083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5212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previousslide"/>
          </p:cNvPr>
          <p:cNvSpPr/>
          <p:nvPr/>
        </p:nvSpPr>
        <p:spPr>
          <a:xfrm>
            <a:off x="6141960" y="612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>
            <a:hlinkClick r:id="" action="ppaction://hlinkshowjump?jump=nextslide"/>
          </p:cNvPr>
          <p:cNvSpPr/>
          <p:nvPr/>
        </p:nvSpPr>
        <p:spPr>
          <a:xfrm>
            <a:off x="664524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>
            <a:hlinkClick r:id="" action="ppaction://hlinkshowjump?jump=firstslide"/>
          </p:cNvPr>
          <p:cNvSpPr/>
          <p:nvPr/>
        </p:nvSpPr>
        <p:spPr>
          <a:xfrm>
            <a:off x="563724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>
            <a:hlinkClick r:id="" action="ppaction://hlinkshowjump?jump=lastslide"/>
          </p:cNvPr>
          <p:cNvSpPr/>
          <p:nvPr/>
        </p:nvSpPr>
        <p:spPr>
          <a:xfrm>
            <a:off x="714996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511080" y="189000"/>
            <a:ext cx="167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imenő irat iktatás… (frm_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084720" y="1917720"/>
            <a:ext cx="287640" cy="28728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7301"/>
                </a:moveTo>
                <a:lnTo>
                  <a:pt x="4721" y="7301"/>
                </a:lnTo>
                <a:lnTo>
                  <a:pt x="5104" y="7667"/>
                </a:lnTo>
                <a:lnTo>
                  <a:pt x="14312" y="7667"/>
                </a:lnTo>
                <a:lnTo>
                  <a:pt x="14869" y="8224"/>
                </a:lnTo>
                <a:lnTo>
                  <a:pt x="14869" y="8772"/>
                </a:lnTo>
                <a:lnTo>
                  <a:pt x="16715" y="8772"/>
                </a:lnTo>
                <a:lnTo>
                  <a:pt x="17080" y="8224"/>
                </a:lnTo>
                <a:lnTo>
                  <a:pt x="17820" y="8224"/>
                </a:lnTo>
                <a:lnTo>
                  <a:pt x="17820" y="13376"/>
                </a:lnTo>
                <a:lnTo>
                  <a:pt x="17080" y="13376"/>
                </a:lnTo>
                <a:lnTo>
                  <a:pt x="16715" y="12828"/>
                </a:lnTo>
                <a:lnTo>
                  <a:pt x="14869" y="12828"/>
                </a:lnTo>
                <a:lnTo>
                  <a:pt x="14869" y="14107"/>
                </a:lnTo>
                <a:lnTo>
                  <a:pt x="5287" y="14107"/>
                </a:lnTo>
                <a:lnTo>
                  <a:pt x="5287" y="9877"/>
                </a:lnTo>
                <a:lnTo>
                  <a:pt x="5104" y="9877"/>
                </a:lnTo>
                <a:lnTo>
                  <a:pt x="4721" y="10243"/>
                </a:lnTo>
                <a:lnTo>
                  <a:pt x="380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71160" y="2746440"/>
            <a:ext cx="140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ettes ügyirat keres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828800" y="275256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olottes_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49640" y="2709720"/>
            <a:ext cx="288720" cy="28764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81" h="21600">
                <a:moveTo>
                  <a:pt x="0" y="0"/>
                </a:moveTo>
                <a:lnTo>
                  <a:pt x="21681" y="0"/>
                </a:lnTo>
                <a:lnTo>
                  <a:pt x="21681" y="21600"/>
                </a:lnTo>
                <a:lnTo>
                  <a:pt x="0" y="21600"/>
                </a:lnTo>
                <a:close/>
              </a:path>
              <a:path fill="lightenLess" w="21681" h="21600">
                <a:moveTo>
                  <a:pt x="0" y="0"/>
                </a:moveTo>
                <a:lnTo>
                  <a:pt x="21681" y="0"/>
                </a:lnTo>
                <a:lnTo>
                  <a:pt x="20281" y="1400"/>
                </a:lnTo>
                <a:lnTo>
                  <a:pt x="1400" y="1400"/>
                </a:lnTo>
                <a:close/>
              </a:path>
              <a:path fill="darken" w="21681" h="21600">
                <a:moveTo>
                  <a:pt x="21681" y="0"/>
                </a:moveTo>
                <a:lnTo>
                  <a:pt x="21681" y="21600"/>
                </a:lnTo>
                <a:lnTo>
                  <a:pt x="20281" y="20200"/>
                </a:lnTo>
                <a:lnTo>
                  <a:pt x="20281" y="1400"/>
                </a:lnTo>
                <a:close/>
              </a:path>
              <a:path fill="darkenLess" w="21681" h="21600">
                <a:moveTo>
                  <a:pt x="21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1" y="20200"/>
                </a:lnTo>
                <a:close/>
              </a:path>
              <a:path fill="lighten" w="21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1" h="21600">
                <a:moveTo>
                  <a:pt x="108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81" h="21600">
                <a:moveTo>
                  <a:pt x="11946" y="14281"/>
                </a:moveTo>
                <a:lnTo>
                  <a:pt x="11946" y="12323"/>
                </a:lnTo>
                <a:cubicBezTo>
                  <a:pt x="11946" y="11496"/>
                  <a:pt x="12277" y="10800"/>
                  <a:pt x="12877" y="10800"/>
                </a:cubicBezTo>
                <a:cubicBezTo>
                  <a:pt x="14009" y="10800"/>
                  <a:pt x="14905" y="9434"/>
                  <a:pt x="14905" y="7849"/>
                </a:cubicBezTo>
                <a:cubicBezTo>
                  <a:pt x="14905" y="5534"/>
                  <a:pt x="13051" y="3794"/>
                  <a:pt x="10841" y="3794"/>
                </a:cubicBezTo>
                <a:cubicBezTo>
                  <a:pt x="8630" y="3794"/>
                  <a:pt x="6959" y="5534"/>
                  <a:pt x="6959" y="7849"/>
                </a:cubicBezTo>
                <a:lnTo>
                  <a:pt x="8813" y="7849"/>
                </a:lnTo>
                <a:cubicBezTo>
                  <a:pt x="8813" y="6709"/>
                  <a:pt x="9735" y="5821"/>
                  <a:pt x="10841" y="5821"/>
                </a:cubicBezTo>
                <a:cubicBezTo>
                  <a:pt x="11946" y="5821"/>
                  <a:pt x="12877" y="6709"/>
                  <a:pt x="12877" y="7849"/>
                </a:cubicBezTo>
                <a:cubicBezTo>
                  <a:pt x="12877" y="8589"/>
                  <a:pt x="12407" y="9320"/>
                  <a:pt x="11946" y="9320"/>
                </a:cubicBezTo>
                <a:cubicBezTo>
                  <a:pt x="10841" y="9320"/>
                  <a:pt x="9735" y="10800"/>
                  <a:pt x="9735" y="12323"/>
                </a:cubicBezTo>
                <a:lnTo>
                  <a:pt x="973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835280" y="234936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_konyv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egneve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60840" y="2349360"/>
            <a:ext cx="76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>
            <a:hlinkClick r:id="" action="ppaction://hlinkshowjump?jump=previousslide"/>
          </p:cNvPr>
          <p:cNvSpPr/>
          <p:nvPr/>
        </p:nvSpPr>
        <p:spPr>
          <a:xfrm rot="16200000">
            <a:off x="3166200" y="2313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836720" y="3129120"/>
            <a:ext cx="144792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_tipu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76960" y="3129120"/>
            <a:ext cx="89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rat típu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>
            <a:hlinkClick r:id="" action="ppaction://hlinkshowjump?jump=previousslide"/>
          </p:cNvPr>
          <p:cNvSpPr/>
          <p:nvPr/>
        </p:nvSpPr>
        <p:spPr>
          <a:xfrm rot="16200000">
            <a:off x="3168000" y="3092760"/>
            <a:ext cx="215640" cy="287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788000" y="3129120"/>
            <a:ext cx="144756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targy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14640" y="3129120"/>
            <a:ext cx="73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>
            <a:hlinkClick r:id="" action="ppaction://hlinkshowjump?jump=previousslide"/>
          </p:cNvPr>
          <p:cNvSpPr/>
          <p:nvPr/>
        </p:nvSpPr>
        <p:spPr>
          <a:xfrm rot="16200000">
            <a:off x="6192000" y="30772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788000" y="275904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914640" y="275904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>
            <a:hlinkClick r:id="" action="ppaction://hlinkshowjump?jump=previousslide"/>
          </p:cNvPr>
          <p:cNvSpPr/>
          <p:nvPr/>
        </p:nvSpPr>
        <p:spPr>
          <a:xfrm rot="16200000">
            <a:off x="6185520" y="27169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835280" y="350028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_targya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141560" y="3502080"/>
            <a:ext cx="6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>
            <a:hlinkClick r:id="" action="ppaction://hlinkshowjump?jump=previousslide"/>
          </p:cNvPr>
          <p:cNvSpPr/>
          <p:nvPr/>
        </p:nvSpPr>
        <p:spPr>
          <a:xfrm rot="16200000">
            <a:off x="3167640" y="346428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88000" y="234936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922920" y="2349360"/>
            <a:ext cx="761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786200" y="3502080"/>
            <a:ext cx="144792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targys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810240" y="3475080"/>
            <a:ext cx="83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árgyszav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832040" y="382896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elleklet_szam_iratb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73200" y="3828960"/>
            <a:ext cx="112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llékletek 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960480" y="1908000"/>
            <a:ext cx="89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gitalizált 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906560" y="1917720"/>
            <a:ext cx="142920" cy="144360"/>
            <a:chOff x="1906560" y="1917720"/>
            <a:chExt cx="142920" cy="144360"/>
          </a:xfrm>
        </p:grpSpPr>
        <p:sp>
          <p:nvSpPr>
            <p:cNvPr id="707" name=""/>
            <p:cNvSpPr/>
            <p:nvPr/>
          </p:nvSpPr>
          <p:spPr>
            <a:xfrm>
              <a:off x="1906560" y="191772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941480" y="19461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2049120" y="1917720"/>
            <a:ext cx="91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digitalizalt_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564080" y="1197000"/>
            <a:ext cx="1447920" cy="210960"/>
          </a:xfrm>
          <a:prstGeom prst="rect">
            <a:avLst/>
          </a:prstGeom>
          <a:solidFill>
            <a:srgbClr val="dddddd">
              <a:alpha val="56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835440" y="1197000"/>
            <a:ext cx="69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799160" y="3827520"/>
            <a:ext cx="144756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lkuldes_m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686760" y="3828960"/>
            <a:ext cx="96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küldés mód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>
            <a:hlinkClick r:id="" action="ppaction://hlinkshowjump?jump=previousslide"/>
          </p:cNvPr>
          <p:cNvSpPr/>
          <p:nvPr/>
        </p:nvSpPr>
        <p:spPr>
          <a:xfrm rot="16200000">
            <a:off x="6192000" y="37821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156440" y="1197000"/>
            <a:ext cx="1447920" cy="210960"/>
          </a:xfrm>
          <a:prstGeom prst="rect">
            <a:avLst/>
          </a:prstGeom>
          <a:solidFill>
            <a:srgbClr val="dddddd">
              <a:alpha val="56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as_dat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ktuális n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265080" y="1197000"/>
            <a:ext cx="93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93080" y="4640400"/>
            <a:ext cx="4135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ugyirat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ugyinteze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táblák aktualizál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Automatikus beállítá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ugyinteze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tábla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rat azonosító =ugyirat_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ntézésre utasítás típusa: ugyint_utas_tip=52306 – kimenő irat ügyinté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ntéző típus: ugyint_tipus=52406 – kimenő ügyirat intéz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ntézés dátuma: ugyint_datum=iktatas_datum (aktuális na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rat állapota: ugyirat_allapot=Q51503 - iktat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Szűré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ókönyv: usernev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_szerv_egy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konyv/szerv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06400" y="414324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ktronikus ira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ásol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836720" y="4221000"/>
            <a:ext cx="151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_masol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348000" y="41925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876840" y="32076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xpediálás   (frm_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9200" y="549360"/>
            <a:ext cx="4745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 u="sng">
                <a:solidFill>
                  <a:srgbClr val="000000"/>
                </a:solidFill>
                <a:uFillTx/>
                <a:latin typeface="Arial"/>
              </a:rPr>
              <a:t>Ügyirat – információs sáv - 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iktato_id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iktato_konyv/megnevezes, iktatoszam, iktatas_dat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ugyfel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ugyfelkod,ugyfelnev,irat_targya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Q518 kodmegnev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971640" y="218916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pediálás dátu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627280" y="220500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xpedial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19200" y="106668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239920" y="106668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987640" y="106668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755880" y="1052640"/>
            <a:ext cx="648000" cy="21564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76360" y="177336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pediáló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627280" y="1773360"/>
            <a:ext cx="25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xpedial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/id, usernev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>
            <a:hlinkClick r:id="" action="ppaction://hlinkshowjump?jump=previousslide"/>
          </p:cNvPr>
          <p:cNvSpPr/>
          <p:nvPr/>
        </p:nvSpPr>
        <p:spPr>
          <a:xfrm rot="16200000">
            <a:off x="5255280" y="17470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02920" y="3200400"/>
            <a:ext cx="267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ugyirat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tábla aktualizál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Szűré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Expediáló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– expedial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felh/veze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rloszam=1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Automatikus beállítá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ezaro= expedia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ezaras_dat=expedialas_da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_allapot=51504 - expediálv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46836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097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708520" y="457200"/>
            <a:ext cx="792360" cy="368280"/>
          </a:xfrm>
          <a:prstGeom prst="rect">
            <a:avLst/>
          </a:prstGeom>
          <a:solidFill>
            <a:srgbClr val="ff99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76380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421160" y="46044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068800" y="45720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553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20252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046880" y="2276640"/>
            <a:ext cx="73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ató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379760" y="295596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35280" y="2276640"/>
            <a:ext cx="1738080" cy="20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o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o_konyv/megnevez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241960" y="296388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219640" y="2276640"/>
            <a:ext cx="1657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lintezes_idej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564000" y="227664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tárid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39640" y="3933720"/>
            <a:ext cx="813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433520" y="4076640"/>
            <a:ext cx="12668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könyv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87280" y="4076640"/>
            <a:ext cx="1116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llap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093080" y="227664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616200" y="4076640"/>
            <a:ext cx="1224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rat tí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156360" y="4076640"/>
            <a:ext cx="1152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771640" y="4076640"/>
            <a:ext cx="792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űrgős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50920" y="4437000"/>
            <a:ext cx="115236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_allap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1364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383280" y="168120"/>
            <a:ext cx="170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ratok… (Ugyirat, view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>
            <a:hlinkClick r:id="" action="ppaction://hlinkshowjump?jump=previousslide"/>
          </p:cNvPr>
          <p:cNvSpPr/>
          <p:nvPr/>
        </p:nvSpPr>
        <p:spPr>
          <a:xfrm rot="16200000">
            <a:off x="3599640" y="224028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476360" y="4437000"/>
            <a:ext cx="1224000" cy="5054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_konyv/megneve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889520" y="4076640"/>
            <a:ext cx="1224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077080" y="1552680"/>
            <a:ext cx="87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lső 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904680" y="1322280"/>
            <a:ext cx="5587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lép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553760" y="1316160"/>
            <a:ext cx="616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ss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258280" y="1316160"/>
            <a:ext cx="715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060720" y="1316160"/>
            <a:ext cx="5032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618360" y="1316160"/>
            <a:ext cx="5893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284720" y="1316160"/>
            <a:ext cx="57636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933800" y="1316160"/>
            <a:ext cx="648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373800" y="1316160"/>
            <a:ext cx="792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u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53080" y="131616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237440" y="1316160"/>
            <a:ext cx="9349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umen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84800" y="907920"/>
            <a:ext cx="8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12720" y="3573360"/>
            <a:ext cx="647640" cy="231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332000" y="3573360"/>
            <a:ext cx="647640" cy="231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tad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52720" y="3573360"/>
            <a:ext cx="792000" cy="231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916360" y="3573360"/>
            <a:ext cx="792000" cy="231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zár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380360" y="4076640"/>
            <a:ext cx="1152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tárid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>
            <a:hlinkClick r:id="" action="ppaction://hlinkshowjump?jump=previousslide"/>
          </p:cNvPr>
          <p:cNvSpPr/>
          <p:nvPr/>
        </p:nvSpPr>
        <p:spPr>
          <a:xfrm rot="16200000">
            <a:off x="6706440" y="2637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19640" y="2671920"/>
            <a:ext cx="1440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rat_targya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18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500720" y="2637000"/>
            <a:ext cx="73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000080" y="2606760"/>
            <a:ext cx="69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v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>
            <a:hlinkClick r:id="" action="ppaction://hlinkshowjump?jump=previousslide"/>
          </p:cNvPr>
          <p:cNvSpPr/>
          <p:nvPr/>
        </p:nvSpPr>
        <p:spPr>
          <a:xfrm rot="16200000">
            <a:off x="3599640" y="25646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835280" y="260028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ervezeti_egyseg/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erv_egys_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83640" y="2927520"/>
            <a:ext cx="96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Iktat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03480" y="1758960"/>
            <a:ext cx="837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Belső 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836720" y="2959200"/>
            <a:ext cx="647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a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29080" y="2960640"/>
            <a:ext cx="647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a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557440" y="3032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771640" y="4437000"/>
            <a:ext cx="77328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rgosseg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25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635280" y="4437000"/>
            <a:ext cx="122400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irat_tip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932360" y="4437000"/>
            <a:ext cx="12049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rat_targy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227640" y="4437000"/>
            <a:ext cx="10717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380360" y="4437000"/>
            <a:ext cx="10713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lintezes_idej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41360" y="5216400"/>
            <a:ext cx="1959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_konyv/belso= 51303 – bels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_konyv/aktiv=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_konyv/lathato=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1260000" y="1557360"/>
            <a:ext cx="5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ze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838160" y="1547640"/>
            <a:ext cx="280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cimzett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/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311640" y="1957320"/>
            <a:ext cx="149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ktronikus irat másol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789440" y="1955880"/>
            <a:ext cx="151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_masol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>
            <a:hlinkClick r:id="" action="ppaction://hlinkshowjump?jump=previousslide"/>
          </p:cNvPr>
          <p:cNvSpPr/>
          <p:nvPr/>
        </p:nvSpPr>
        <p:spPr>
          <a:xfrm rot="16200000">
            <a:off x="4682160" y="1521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08000" y="1197000"/>
            <a:ext cx="1447920" cy="210960"/>
          </a:xfrm>
          <a:prstGeom prst="rect">
            <a:avLst/>
          </a:prstGeom>
          <a:solidFill>
            <a:srgbClr val="dddddd">
              <a:alpha val="56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065240" y="1197000"/>
            <a:ext cx="73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539720" y="62064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2971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0020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7083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212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>
            <a:hlinkClick r:id="" action="ppaction://hlinkshowjump?jump=previousslide"/>
          </p:cNvPr>
          <p:cNvSpPr/>
          <p:nvPr/>
        </p:nvSpPr>
        <p:spPr>
          <a:xfrm>
            <a:off x="6141960" y="612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>
            <a:hlinkClick r:id="" action="ppaction://hlinkshowjump?jump=nextslide"/>
          </p:cNvPr>
          <p:cNvSpPr/>
          <p:nvPr/>
        </p:nvSpPr>
        <p:spPr>
          <a:xfrm>
            <a:off x="664524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>
            <a:hlinkClick r:id="" action="ppaction://hlinkshowjump?jump=firstslide"/>
          </p:cNvPr>
          <p:cNvSpPr/>
          <p:nvPr/>
        </p:nvSpPr>
        <p:spPr>
          <a:xfrm>
            <a:off x="563724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>
            <a:hlinkClick r:id="" action="ppaction://hlinkshowjump?jump=lastslide"/>
          </p:cNvPr>
          <p:cNvSpPr/>
          <p:nvPr/>
        </p:nvSpPr>
        <p:spPr>
          <a:xfrm>
            <a:off x="714996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10720" y="189000"/>
            <a:ext cx="157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első irat iktatás… (frm_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84720" y="1917720"/>
            <a:ext cx="287640" cy="28728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7301"/>
                </a:moveTo>
                <a:lnTo>
                  <a:pt x="4721" y="7301"/>
                </a:lnTo>
                <a:lnTo>
                  <a:pt x="5104" y="7667"/>
                </a:lnTo>
                <a:lnTo>
                  <a:pt x="14312" y="7667"/>
                </a:lnTo>
                <a:lnTo>
                  <a:pt x="14869" y="8224"/>
                </a:lnTo>
                <a:lnTo>
                  <a:pt x="14869" y="8772"/>
                </a:lnTo>
                <a:lnTo>
                  <a:pt x="16715" y="8772"/>
                </a:lnTo>
                <a:lnTo>
                  <a:pt x="17080" y="8224"/>
                </a:lnTo>
                <a:lnTo>
                  <a:pt x="17820" y="8224"/>
                </a:lnTo>
                <a:lnTo>
                  <a:pt x="17820" y="13376"/>
                </a:lnTo>
                <a:lnTo>
                  <a:pt x="17080" y="13376"/>
                </a:lnTo>
                <a:lnTo>
                  <a:pt x="16715" y="12828"/>
                </a:lnTo>
                <a:lnTo>
                  <a:pt x="14869" y="12828"/>
                </a:lnTo>
                <a:lnTo>
                  <a:pt x="14869" y="14107"/>
                </a:lnTo>
                <a:lnTo>
                  <a:pt x="5287" y="14107"/>
                </a:lnTo>
                <a:lnTo>
                  <a:pt x="5287" y="9877"/>
                </a:lnTo>
                <a:lnTo>
                  <a:pt x="5104" y="9877"/>
                </a:lnTo>
                <a:lnTo>
                  <a:pt x="4721" y="10243"/>
                </a:lnTo>
                <a:lnTo>
                  <a:pt x="380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71160" y="2746440"/>
            <a:ext cx="140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ettes ügyirat keres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828800" y="275256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olottes_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149640" y="2709720"/>
            <a:ext cx="288720" cy="28764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81" h="21600">
                <a:moveTo>
                  <a:pt x="0" y="0"/>
                </a:moveTo>
                <a:lnTo>
                  <a:pt x="21681" y="0"/>
                </a:lnTo>
                <a:lnTo>
                  <a:pt x="21681" y="21600"/>
                </a:lnTo>
                <a:lnTo>
                  <a:pt x="0" y="21600"/>
                </a:lnTo>
                <a:close/>
              </a:path>
              <a:path fill="lightenLess" w="21681" h="21600">
                <a:moveTo>
                  <a:pt x="0" y="0"/>
                </a:moveTo>
                <a:lnTo>
                  <a:pt x="21681" y="0"/>
                </a:lnTo>
                <a:lnTo>
                  <a:pt x="20281" y="1400"/>
                </a:lnTo>
                <a:lnTo>
                  <a:pt x="1400" y="1400"/>
                </a:lnTo>
                <a:close/>
              </a:path>
              <a:path fill="darken" w="21681" h="21600">
                <a:moveTo>
                  <a:pt x="21681" y="0"/>
                </a:moveTo>
                <a:lnTo>
                  <a:pt x="21681" y="21600"/>
                </a:lnTo>
                <a:lnTo>
                  <a:pt x="20281" y="20200"/>
                </a:lnTo>
                <a:lnTo>
                  <a:pt x="20281" y="1400"/>
                </a:lnTo>
                <a:close/>
              </a:path>
              <a:path fill="darkenLess" w="21681" h="21600">
                <a:moveTo>
                  <a:pt x="21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1" y="20200"/>
                </a:lnTo>
                <a:close/>
              </a:path>
              <a:path fill="lighten" w="21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1" h="21600">
                <a:moveTo>
                  <a:pt x="108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81" h="21600">
                <a:moveTo>
                  <a:pt x="11946" y="14281"/>
                </a:moveTo>
                <a:lnTo>
                  <a:pt x="11946" y="12323"/>
                </a:lnTo>
                <a:cubicBezTo>
                  <a:pt x="11946" y="11496"/>
                  <a:pt x="12277" y="10800"/>
                  <a:pt x="12877" y="10800"/>
                </a:cubicBezTo>
                <a:cubicBezTo>
                  <a:pt x="14009" y="10800"/>
                  <a:pt x="14905" y="9434"/>
                  <a:pt x="14905" y="7849"/>
                </a:cubicBezTo>
                <a:cubicBezTo>
                  <a:pt x="14905" y="5534"/>
                  <a:pt x="13051" y="3794"/>
                  <a:pt x="10841" y="3794"/>
                </a:cubicBezTo>
                <a:cubicBezTo>
                  <a:pt x="8630" y="3794"/>
                  <a:pt x="6959" y="5534"/>
                  <a:pt x="6959" y="7849"/>
                </a:cubicBezTo>
                <a:lnTo>
                  <a:pt x="8813" y="7849"/>
                </a:lnTo>
                <a:cubicBezTo>
                  <a:pt x="8813" y="6709"/>
                  <a:pt x="9735" y="5821"/>
                  <a:pt x="10841" y="5821"/>
                </a:cubicBezTo>
                <a:cubicBezTo>
                  <a:pt x="11946" y="5821"/>
                  <a:pt x="12877" y="6709"/>
                  <a:pt x="12877" y="7849"/>
                </a:cubicBezTo>
                <a:cubicBezTo>
                  <a:pt x="12877" y="8589"/>
                  <a:pt x="12407" y="9320"/>
                  <a:pt x="11946" y="9320"/>
                </a:cubicBezTo>
                <a:cubicBezTo>
                  <a:pt x="10841" y="9320"/>
                  <a:pt x="9735" y="10800"/>
                  <a:pt x="9735" y="12323"/>
                </a:cubicBezTo>
                <a:lnTo>
                  <a:pt x="973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835280" y="234936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_konyv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egneve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960840" y="2349360"/>
            <a:ext cx="76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>
            <a:hlinkClick r:id="" action="ppaction://hlinkshowjump?jump=previousslide"/>
          </p:cNvPr>
          <p:cNvSpPr/>
          <p:nvPr/>
        </p:nvSpPr>
        <p:spPr>
          <a:xfrm rot="16200000">
            <a:off x="3166200" y="2313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836720" y="3129120"/>
            <a:ext cx="144792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_tipu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876960" y="3129120"/>
            <a:ext cx="89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rat típu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>
            <a:hlinkClick r:id="" action="ppaction://hlinkshowjump?jump=previousslide"/>
          </p:cNvPr>
          <p:cNvSpPr/>
          <p:nvPr/>
        </p:nvSpPr>
        <p:spPr>
          <a:xfrm rot="16200000">
            <a:off x="3168000" y="3092760"/>
            <a:ext cx="215640" cy="287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788000" y="3129120"/>
            <a:ext cx="144756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targy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14640" y="3129120"/>
            <a:ext cx="73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>
            <a:hlinkClick r:id="" action="ppaction://hlinkshowjump?jump=previousslide"/>
          </p:cNvPr>
          <p:cNvSpPr/>
          <p:nvPr/>
        </p:nvSpPr>
        <p:spPr>
          <a:xfrm rot="16200000">
            <a:off x="6192000" y="30772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788000" y="275904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914640" y="275904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>
            <a:hlinkClick r:id="" action="ppaction://hlinkshowjump?jump=previousslide"/>
          </p:cNvPr>
          <p:cNvSpPr/>
          <p:nvPr/>
        </p:nvSpPr>
        <p:spPr>
          <a:xfrm rot="16200000">
            <a:off x="6185520" y="27169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835280" y="350028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_targya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141560" y="3502080"/>
            <a:ext cx="6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>
            <a:hlinkClick r:id="" action="ppaction://hlinkshowjump?jump=previousslide"/>
          </p:cNvPr>
          <p:cNvSpPr/>
          <p:nvPr/>
        </p:nvSpPr>
        <p:spPr>
          <a:xfrm rot="16200000">
            <a:off x="3167640" y="346428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788000" y="234936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922920" y="2349360"/>
            <a:ext cx="761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786200" y="3502080"/>
            <a:ext cx="144792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targys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810240" y="3475080"/>
            <a:ext cx="83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árgyszav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32040" y="382896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elleklet_szam_iratb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73200" y="3828960"/>
            <a:ext cx="112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llékletek 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962280" y="1906560"/>
            <a:ext cx="89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gitalizált 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1906560" y="1916280"/>
            <a:ext cx="142920" cy="144360"/>
            <a:chOff x="1906560" y="1916280"/>
            <a:chExt cx="142920" cy="144360"/>
          </a:xfrm>
        </p:grpSpPr>
        <p:sp>
          <p:nvSpPr>
            <p:cNvPr id="838" name=""/>
            <p:cNvSpPr/>
            <p:nvPr/>
          </p:nvSpPr>
          <p:spPr>
            <a:xfrm>
              <a:off x="1906560" y="191628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41480" y="19447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049120" y="1916280"/>
            <a:ext cx="91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digitalizalt_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564080" y="1197000"/>
            <a:ext cx="1447920" cy="210960"/>
          </a:xfrm>
          <a:prstGeom prst="rect">
            <a:avLst/>
          </a:prstGeom>
          <a:solidFill>
            <a:srgbClr val="dddddd">
              <a:alpha val="56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835440" y="1197000"/>
            <a:ext cx="69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788000" y="386064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lkuldes_m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686760" y="3862440"/>
            <a:ext cx="96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küldés mód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>
            <a:hlinkClick r:id="" action="ppaction://hlinkshowjump?jump=previousslide"/>
          </p:cNvPr>
          <p:cNvSpPr/>
          <p:nvPr/>
        </p:nvSpPr>
        <p:spPr>
          <a:xfrm rot="16200000">
            <a:off x="6192000" y="382500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156440" y="1197000"/>
            <a:ext cx="1447920" cy="210960"/>
          </a:xfrm>
          <a:prstGeom prst="rect">
            <a:avLst/>
          </a:prstGeom>
          <a:solidFill>
            <a:srgbClr val="dddddd">
              <a:alpha val="56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as_dat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ktuális n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265080" y="1197000"/>
            <a:ext cx="93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44200" y="4199040"/>
            <a:ext cx="9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álasz köte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820880" y="4221000"/>
            <a:ext cx="142920" cy="144360"/>
            <a:chOff x="1820880" y="4221000"/>
            <a:chExt cx="142920" cy="144360"/>
          </a:xfrm>
        </p:grpSpPr>
        <p:sp>
          <p:nvSpPr>
            <p:cNvPr id="850" name=""/>
            <p:cNvSpPr/>
            <p:nvPr/>
          </p:nvSpPr>
          <p:spPr>
            <a:xfrm>
              <a:off x="1820880" y="422100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855800" y="42494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1906200" y="4189320"/>
            <a:ext cx="87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valaszkote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942480" y="4941720"/>
            <a:ext cx="659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Automatiku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beállítá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rat állapota: ugyirat_allapot= 51503 – iktat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Szűré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_konyv/belso= 51303 – belső, usernev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/felh_szerv_egys=szervezeti_egyseg/szerv_egys és iktato_konyv/szerv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Hívható képernyők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etekintő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Átad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nté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ezár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808520" y="4192560"/>
            <a:ext cx="144792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lintezes_id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532680" y="4194000"/>
            <a:ext cx="1186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intézés határid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836720" y="4522680"/>
            <a:ext cx="144792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urgosseg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25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187640" y="4524480"/>
            <a:ext cx="54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ürgő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>
            <a:hlinkClick r:id="" action="ppaction://hlinkshowjump?jump=previousslide"/>
          </p:cNvPr>
          <p:cNvSpPr/>
          <p:nvPr/>
        </p:nvSpPr>
        <p:spPr>
          <a:xfrm rot="16200000">
            <a:off x="3239280" y="447228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46836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097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708520" y="457200"/>
            <a:ext cx="792360" cy="368280"/>
          </a:xfrm>
          <a:prstGeom prst="rect">
            <a:avLst/>
          </a:prstGeom>
          <a:solidFill>
            <a:srgbClr val="ff99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76380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421160" y="46044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068800" y="45720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553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20252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68360" y="255600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47640" y="377496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276720" y="3933720"/>
            <a:ext cx="12668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re utasító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524720" y="183996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033640" y="3924360"/>
            <a:ext cx="1224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ő tí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824440" y="3933720"/>
            <a:ext cx="100800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 határid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1364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383280" y="168120"/>
            <a:ext cx="170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ratok… (Ugyirat, view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260880" y="4349880"/>
            <a:ext cx="122364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utasit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/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572000" y="3933720"/>
            <a:ext cx="1224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904680" y="1322280"/>
            <a:ext cx="5587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lép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553760" y="1316160"/>
            <a:ext cx="616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ss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258280" y="1316160"/>
            <a:ext cx="715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059280" y="1332000"/>
            <a:ext cx="502920" cy="2311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618360" y="1316160"/>
            <a:ext cx="5893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284720" y="1316160"/>
            <a:ext cx="57636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933800" y="1316160"/>
            <a:ext cx="648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373800" y="1316160"/>
            <a:ext cx="792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u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653080" y="131616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237440" y="1316160"/>
            <a:ext cx="9349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umen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183000" y="1019160"/>
            <a:ext cx="1141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mélyes 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92200" y="3395520"/>
            <a:ext cx="647640" cy="231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tad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340000" y="3395520"/>
            <a:ext cx="792000" cy="231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203640" y="3395520"/>
            <a:ext cx="792000" cy="231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zár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859280" y="1839960"/>
            <a:ext cx="6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580000" y="1839960"/>
            <a:ext cx="1584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rat_targy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009880" y="4356000"/>
            <a:ext cx="12240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int_tipus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24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610160" y="4368960"/>
            <a:ext cx="12049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tasitas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22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365720"/>
            <a:ext cx="9367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hati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619280" y="2549520"/>
            <a:ext cx="720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a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484360" y="2549520"/>
            <a:ext cx="720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a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47920" y="26352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043280" y="1830240"/>
            <a:ext cx="50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fé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75280" y="4768920"/>
            <a:ext cx="835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lapértelmezetten a nyitott ügyirathoz tartozó ügyintézés jelenik meg (ugyirat/lezarva=n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Dupla kattintásra Személyes iratok megtekintése képernyő hívá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Csak a bejelentkezett felhasználó iratait mutatjuk, aki lehet ügyintézésre utasító és/vagy ügyintéző - usernev 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/id= ugyintezes/ugyintezo vagy ugyint_utasi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04960" y="219240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01560" y="5589720"/>
            <a:ext cx="328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ézet sorrend: elintézésre maradó napok száma növekvő.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619280" y="1830240"/>
            <a:ext cx="280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nev, ugyfelkod, 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619280" y="219060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580000" y="2190600"/>
            <a:ext cx="1584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int_utas_tip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23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498560" y="2205000"/>
            <a:ext cx="1096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 típu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>
            <a:hlinkClick r:id="" action="ppaction://hlinkshowjump?jump=previousslide"/>
          </p:cNvPr>
          <p:cNvSpPr/>
          <p:nvPr/>
        </p:nvSpPr>
        <p:spPr>
          <a:xfrm rot="16200000">
            <a:off x="7190640" y="21549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670280" y="255276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tárid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578560" y="2546280"/>
            <a:ext cx="720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int_hati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443640" y="2546280"/>
            <a:ext cx="720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int_hati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307200" y="26319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9440" y="3917880"/>
            <a:ext cx="7556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901800" y="3917880"/>
            <a:ext cx="1116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fé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28720" y="4349880"/>
            <a:ext cx="115236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nev, ugyfelkod, 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4520" y="4349880"/>
            <a:ext cx="79236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3200" y="5861160"/>
            <a:ext cx="6720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Átadá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: ugyirathoz kiválasztott szignált ügyintéző (ugyintezes/ugyint_utas_tip=52301(szignálás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dhatja át  ügyintézőnek iratot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csak a szignált ügyintézőnek aktív a gomb. Átadás csak ugyanazon a szervezeti egységen belül történhe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Visszaadá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: Visszaadni ügyet csak az ugyirathoz kiválasztott szignált ügyintézőre lehet (ugyintezes/ugyint_utas_tip=5230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Lezárá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: a szignált ügyintéző zárhatja le az iratot, csak a szignált ügyintézőnek aktív  a gomb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322280" y="3398760"/>
            <a:ext cx="801720" cy="231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sszaad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>
            <a:hlinkClick r:id="" action="ppaction://hlinkshowjump?jump=lastslide"/>
          </p:cNvPr>
          <p:cNvSpPr/>
          <p:nvPr/>
        </p:nvSpPr>
        <p:spPr>
          <a:xfrm rot="5400000">
            <a:off x="4190400" y="1788840"/>
            <a:ext cx="216000" cy="2890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9080"/>
              <a:gd name="textAreaBottom" fmla="*/ 275400 h 289080"/>
            </a:gdLst>
            <a:ahLst/>
            <a:rect l="textAreaLeft" t="textAreaTop" r="textAreaRight" b="textAreaBottom"/>
            <a:pathLst>
              <a:path w="21600" h="28896">
                <a:moveTo>
                  <a:pt x="0" y="0"/>
                </a:moveTo>
                <a:lnTo>
                  <a:pt x="21600" y="0"/>
                </a:lnTo>
                <a:lnTo>
                  <a:pt x="21600" y="28896"/>
                </a:lnTo>
                <a:lnTo>
                  <a:pt x="0" y="28896"/>
                </a:lnTo>
                <a:close/>
              </a:path>
              <a:path fill="lightenLess" w="21600" h="288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96">
                <a:moveTo>
                  <a:pt x="21600" y="0"/>
                </a:moveTo>
                <a:lnTo>
                  <a:pt x="21600" y="28896"/>
                </a:lnTo>
                <a:lnTo>
                  <a:pt x="20200" y="27496"/>
                </a:lnTo>
                <a:lnTo>
                  <a:pt x="20200" y="1400"/>
                </a:lnTo>
                <a:close/>
              </a:path>
              <a:path fill="darkenLess" w="21600" h="28896">
                <a:moveTo>
                  <a:pt x="21600" y="28896"/>
                </a:moveTo>
                <a:lnTo>
                  <a:pt x="0" y="28896"/>
                </a:lnTo>
                <a:lnTo>
                  <a:pt x="1400" y="27496"/>
                </a:lnTo>
                <a:lnTo>
                  <a:pt x="20200" y="27496"/>
                </a:lnTo>
                <a:close/>
              </a:path>
              <a:path fill="lighten" w="21600" h="28896">
                <a:moveTo>
                  <a:pt x="0" y="288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96"/>
                </a:lnTo>
                <a:close/>
              </a:path>
              <a:path fill="darken" w="21600" h="28896">
                <a:moveTo>
                  <a:pt x="14299" y="14448"/>
                </a:moveTo>
                <a:lnTo>
                  <a:pt x="3794" y="21454"/>
                </a:lnTo>
                <a:lnTo>
                  <a:pt x="3794" y="7441"/>
                </a:lnTo>
                <a:close/>
              </a:path>
              <a:path fill="darken" w="21600" h="28896">
                <a:moveTo>
                  <a:pt x="16144" y="7441"/>
                </a:moveTo>
                <a:lnTo>
                  <a:pt x="16144" y="21454"/>
                </a:lnTo>
                <a:lnTo>
                  <a:pt x="17806" y="21454"/>
                </a:lnTo>
                <a:lnTo>
                  <a:pt x="17806" y="74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457880" y="182412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394160" y="174456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014480" y="2913120"/>
            <a:ext cx="53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zá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1619280" y="2952720"/>
            <a:ext cx="142920" cy="144360"/>
            <a:chOff x="1619280" y="2952720"/>
            <a:chExt cx="142920" cy="144360"/>
          </a:xfrm>
        </p:grpSpPr>
        <p:sp>
          <p:nvSpPr>
            <p:cNvPr id="923" name=""/>
            <p:cNvSpPr/>
            <p:nvPr/>
          </p:nvSpPr>
          <p:spPr>
            <a:xfrm>
              <a:off x="1619280" y="295272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654200" y="29811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1780920" y="2895480"/>
            <a:ext cx="93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ugyirat/lezar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877080" y="3933720"/>
            <a:ext cx="100800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intézésre maradó nap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905520" y="4365720"/>
            <a:ext cx="93672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ktuális nap-ugyint_hati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7918560" y="3943440"/>
            <a:ext cx="1008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7907400" y="4375080"/>
            <a:ext cx="121104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3355200" y="189000"/>
            <a:ext cx="208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(Személyes irat megtekintés frm_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492360" y="2946240"/>
            <a:ext cx="2592360" cy="2178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_ta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844720" y="98100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565440" y="99072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284720" y="98100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076720" y="99072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836720" y="2514600"/>
            <a:ext cx="16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fé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492360" y="2514600"/>
            <a:ext cx="259236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 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ugyfelnev, cím…, ugyfel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763640" y="3306600"/>
            <a:ext cx="172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rat típus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492360" y="3305160"/>
            <a:ext cx="2592360" cy="2174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_tipu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4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800360" y="4803840"/>
            <a:ext cx="172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 leírá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492360" y="4816440"/>
            <a:ext cx="259236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asi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800360" y="5518080"/>
            <a:ext cx="172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 dátu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492360" y="5538960"/>
            <a:ext cx="1440000" cy="215640"/>
          </a:xfrm>
          <a:prstGeom prst="rect">
            <a:avLst/>
          </a:prstGeom>
          <a:solidFill>
            <a:srgbClr val="dddddd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da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800360" y="5877000"/>
            <a:ext cx="172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492360" y="5899320"/>
            <a:ext cx="2592360" cy="2887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00360" y="5160960"/>
            <a:ext cx="172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i határidő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492360" y="5175360"/>
            <a:ext cx="1440000" cy="2156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hati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154240" y="1506600"/>
            <a:ext cx="162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Iktatott anyag – ugyirat táb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697480" y="1866960"/>
            <a:ext cx="79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 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700000" y="2227320"/>
            <a:ext cx="76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 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489480" y="1866960"/>
            <a:ext cx="143964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_konyv/megneve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511440" y="2214720"/>
            <a:ext cx="1440000" cy="2156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007960" y="2195640"/>
            <a:ext cx="93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940360" y="2195640"/>
            <a:ext cx="1440000" cy="2156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836720" y="2946240"/>
            <a:ext cx="16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tárgy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140360" y="366696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3794" y="7369"/>
                </a:moveTo>
                <a:lnTo>
                  <a:pt x="4707" y="7369"/>
                </a:lnTo>
                <a:lnTo>
                  <a:pt x="5090" y="7734"/>
                </a:lnTo>
                <a:lnTo>
                  <a:pt x="14299" y="7734"/>
                </a:lnTo>
                <a:lnTo>
                  <a:pt x="14856" y="8291"/>
                </a:lnTo>
                <a:lnTo>
                  <a:pt x="14856" y="8840"/>
                </a:lnTo>
                <a:lnTo>
                  <a:pt x="16701" y="8840"/>
                </a:lnTo>
                <a:lnTo>
                  <a:pt x="17067" y="8291"/>
                </a:lnTo>
                <a:lnTo>
                  <a:pt x="17806" y="8291"/>
                </a:lnTo>
                <a:lnTo>
                  <a:pt x="17806" y="13444"/>
                </a:lnTo>
                <a:lnTo>
                  <a:pt x="17067" y="13444"/>
                </a:lnTo>
                <a:lnTo>
                  <a:pt x="16701" y="12896"/>
                </a:lnTo>
                <a:lnTo>
                  <a:pt x="14856" y="12896"/>
                </a:lnTo>
                <a:lnTo>
                  <a:pt x="14856" y="14175"/>
                </a:lnTo>
                <a:lnTo>
                  <a:pt x="5273" y="14175"/>
                </a:lnTo>
                <a:lnTo>
                  <a:pt x="5273" y="9945"/>
                </a:lnTo>
                <a:lnTo>
                  <a:pt x="5090" y="9945"/>
                </a:lnTo>
                <a:lnTo>
                  <a:pt x="4707" y="10311"/>
                </a:lnTo>
                <a:lnTo>
                  <a:pt x="3794" y="1031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555640" y="3735360"/>
            <a:ext cx="163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rat adatok megtekinté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2880" y="3683160"/>
            <a:ext cx="103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frm_530_1 hív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692360" y="4459320"/>
            <a:ext cx="172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re utasító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492360" y="4470480"/>
            <a:ext cx="259236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utasit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felh/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147760" y="408636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Ügyintézés  - ugyintezes táb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4072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611280"/>
            <a:ext cx="648000" cy="21564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5432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3240" y="6127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93960" y="6127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212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6141960" y="612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664524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563724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lastslide"/>
          </p:cNvPr>
          <p:cNvSpPr/>
          <p:nvPr/>
        </p:nvSpPr>
        <p:spPr>
          <a:xfrm>
            <a:off x="714996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11080" y="189000"/>
            <a:ext cx="149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ó könyv  … (frm…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7480" y="1916280"/>
            <a:ext cx="79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gjegy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1960560"/>
            <a:ext cx="2376360" cy="2080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egjegy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60920" y="1541520"/>
            <a:ext cx="76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30680" y="1536840"/>
            <a:ext cx="2376360" cy="2538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evezet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vezeti_egyseg/szerv_eg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30680" y="1211400"/>
            <a:ext cx="2376360" cy="2156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egneve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7640" y="1197000"/>
            <a:ext cx="83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gneve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 rot="16200000">
            <a:off x="5255280" y="1521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40720" y="3352680"/>
            <a:ext cx="43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ktí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43280" y="3406680"/>
            <a:ext cx="142920" cy="144360"/>
            <a:chOff x="2843280" y="3406680"/>
            <a:chExt cx="142920" cy="144360"/>
          </a:xfrm>
        </p:grpSpPr>
        <p:sp>
          <p:nvSpPr>
            <p:cNvPr id="108" name=""/>
            <p:cNvSpPr/>
            <p:nvPr/>
          </p:nvSpPr>
          <p:spPr>
            <a:xfrm>
              <a:off x="2843280" y="340668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78200" y="34351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000600" y="3359160"/>
            <a:ext cx="41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akti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6800" y="3625920"/>
            <a:ext cx="56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áthat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843280" y="3679920"/>
            <a:ext cx="142920" cy="144360"/>
            <a:chOff x="2843280" y="3679920"/>
            <a:chExt cx="142920" cy="144360"/>
          </a:xfrm>
        </p:grpSpPr>
        <p:sp>
          <p:nvSpPr>
            <p:cNvPr id="113" name=""/>
            <p:cNvSpPr/>
            <p:nvPr/>
          </p:nvSpPr>
          <p:spPr>
            <a:xfrm>
              <a:off x="2843280" y="367992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78200" y="37083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00240" y="363204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latha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38480" y="2367000"/>
            <a:ext cx="53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jöv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843280" y="2421000"/>
            <a:ext cx="142920" cy="144360"/>
            <a:chOff x="2843280" y="2421000"/>
            <a:chExt cx="142920" cy="144360"/>
          </a:xfrm>
        </p:grpSpPr>
        <p:sp>
          <p:nvSpPr>
            <p:cNvPr id="118" name=""/>
            <p:cNvSpPr/>
            <p:nvPr/>
          </p:nvSpPr>
          <p:spPr>
            <a:xfrm>
              <a:off x="2843280" y="242100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78200" y="24494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982960" y="2349360"/>
            <a:ext cx="15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Iktatokonyv_tipus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Q513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37760" y="2630520"/>
            <a:ext cx="56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en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841480" y="2684520"/>
            <a:ext cx="142920" cy="144360"/>
            <a:chOff x="2841480" y="2684520"/>
            <a:chExt cx="142920" cy="144360"/>
          </a:xfrm>
        </p:grpSpPr>
        <p:sp>
          <p:nvSpPr>
            <p:cNvPr id="123" name=""/>
            <p:cNvSpPr/>
            <p:nvPr/>
          </p:nvSpPr>
          <p:spPr>
            <a:xfrm>
              <a:off x="2841480" y="268452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76400" y="27129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982960" y="2637000"/>
            <a:ext cx="15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Iktatokonyv_tipus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Q513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23080" y="2878200"/>
            <a:ext cx="46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ls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841480" y="2922480"/>
            <a:ext cx="142920" cy="144360"/>
            <a:chOff x="2841480" y="2922480"/>
            <a:chExt cx="142920" cy="144360"/>
          </a:xfrm>
        </p:grpSpPr>
        <p:sp>
          <p:nvSpPr>
            <p:cNvPr id="128" name=""/>
            <p:cNvSpPr/>
            <p:nvPr/>
          </p:nvSpPr>
          <p:spPr>
            <a:xfrm>
              <a:off x="2841480" y="292248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76400" y="29509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81520" y="2851200"/>
            <a:ext cx="15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Iktatokonyv_tipus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Q513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3875760" y="189000"/>
            <a:ext cx="141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 visszaadás   (frm_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49200" y="549360"/>
            <a:ext cx="4745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 u="sng">
                <a:solidFill>
                  <a:srgbClr val="000000"/>
                </a:solidFill>
                <a:uFillTx/>
                <a:latin typeface="Arial"/>
              </a:rPr>
              <a:t>Ügyirat – információs sáv - 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iktato_id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iktato_konyv/megnevezes, iktatoszam, iktatas_dat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ugyfel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ugyfelkod,ugyfelnev,irat_targya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Q518 kodmegnev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826920" y="198900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re utasítás dátu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627280" y="1989000"/>
            <a:ext cx="144000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utasi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528920" y="107172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239920" y="106668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987640" y="106668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755880" y="1052640"/>
            <a:ext cx="648000" cy="21564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900000" y="1557360"/>
            <a:ext cx="16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re utasító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627280" y="1557360"/>
            <a:ext cx="259236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utasito --&gt; felh/usernev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77440" y="4581360"/>
            <a:ext cx="83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 leszürkített adatokban azt az ugyintezes rekord adatokat jelenítjük meg, ahol az ugyintezes/ugyint_utas_tip=52301, ugyint_tipus=52401 (vagy felh/vezerlo=5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utomatikus beállítá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ntéző típus – ugyint_tipus=523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ntézésre utasítás típusa – ugyint_utas_tip = 524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26920" y="233532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627280" y="2347920"/>
            <a:ext cx="2592360" cy="2174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asita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22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826920" y="269568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 leírá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627280" y="2708280"/>
            <a:ext cx="259236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asi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826920" y="364500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sszaadás dátu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627280" y="3645000"/>
            <a:ext cx="1440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da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826920" y="400356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sszaadás o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627280" y="4003560"/>
            <a:ext cx="25923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760" y="1341360"/>
            <a:ext cx="154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900" spc="-1" strike="noStrike" u="sng">
                <a:solidFill>
                  <a:srgbClr val="000000"/>
                </a:solidFill>
                <a:uFillTx/>
                <a:latin typeface="Arial"/>
              </a:rPr>
              <a:t>ugyintezes adatok kiírá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826920" y="305604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i határidő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627280" y="3068640"/>
            <a:ext cx="144000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hati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208480" y="1528920"/>
            <a:ext cx="299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ezes/ugyint_utas_tip=52301, ugyint_tipus=524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46836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097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708520" y="457200"/>
            <a:ext cx="792360" cy="368280"/>
          </a:xfrm>
          <a:prstGeom prst="rect">
            <a:avLst/>
          </a:prstGeom>
          <a:solidFill>
            <a:srgbClr val="ff99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76380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421160" y="46044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068800" y="45720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553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720252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468360" y="276876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47640" y="377496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924360" y="3933720"/>
            <a:ext cx="12668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szá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7843680" y="20527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340000" y="3943440"/>
            <a:ext cx="15112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66200" y="3933720"/>
            <a:ext cx="1008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ár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1364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375720" y="168120"/>
            <a:ext cx="29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Vállalkozási szerződés… (Vallalkozasi_szerz, view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924360" y="436572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zod_sz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219640" y="3933720"/>
            <a:ext cx="1224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904680" y="1535040"/>
            <a:ext cx="5587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lép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53760" y="1528920"/>
            <a:ext cx="616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ss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258280" y="1528920"/>
            <a:ext cx="715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059280" y="1528920"/>
            <a:ext cx="502920" cy="2311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618360" y="1528920"/>
            <a:ext cx="5893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284720" y="1528920"/>
            <a:ext cx="57636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933800" y="1528920"/>
            <a:ext cx="648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373800" y="1528920"/>
            <a:ext cx="792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u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653080" y="152892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37440" y="1528920"/>
            <a:ext cx="9349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umen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828040" y="9810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jövő vállalkozási szerződ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enő vállalkozási szerződ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843800" y="2398680"/>
            <a:ext cx="103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877000" y="2398680"/>
            <a:ext cx="1584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erzod_szsz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297160" y="4356000"/>
            <a:ext cx="15541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_konyv/megneve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257800" y="4368960"/>
            <a:ext cx="12049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zod_szmett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7702560" y="4365720"/>
            <a:ext cx="9367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targys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619280" y="2762280"/>
            <a:ext cx="720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a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484360" y="2762280"/>
            <a:ext cx="720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a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347920" y="28479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043280" y="2043000"/>
            <a:ext cx="50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fé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038960" y="24051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ár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619280" y="2043000"/>
            <a:ext cx="280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nev, ugyfelkod, 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19280" y="240336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targys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>
            <a:hlinkClick r:id="" action="ppaction://hlinkshowjump?jump=previousslide"/>
          </p:cNvPr>
          <p:cNvSpPr/>
          <p:nvPr/>
        </p:nvSpPr>
        <p:spPr>
          <a:xfrm rot="16200000">
            <a:off x="7632000" y="202500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572000" y="278136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907320" y="2778120"/>
            <a:ext cx="865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erzod_szmet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772320" y="28735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68360" y="3933720"/>
            <a:ext cx="1800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fé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68360" y="4356000"/>
            <a:ext cx="1800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nev, ugyfelkod, 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>
            <a:hlinkClick r:id="" action="ppaction://hlinkshowjump?jump=lastslide"/>
          </p:cNvPr>
          <p:cNvSpPr/>
          <p:nvPr/>
        </p:nvSpPr>
        <p:spPr>
          <a:xfrm rot="5400000">
            <a:off x="4209480" y="2023920"/>
            <a:ext cx="216000" cy="2890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9080"/>
              <a:gd name="textAreaBottom" fmla="*/ 275400 h 289080"/>
            </a:gdLst>
            <a:ahLst/>
            <a:rect l="textAreaLeft" t="textAreaTop" r="textAreaRight" b="textAreaBottom"/>
            <a:pathLst>
              <a:path w="21600" h="28896">
                <a:moveTo>
                  <a:pt x="0" y="0"/>
                </a:moveTo>
                <a:lnTo>
                  <a:pt x="21600" y="0"/>
                </a:lnTo>
                <a:lnTo>
                  <a:pt x="21600" y="28896"/>
                </a:lnTo>
                <a:lnTo>
                  <a:pt x="0" y="28896"/>
                </a:lnTo>
                <a:close/>
              </a:path>
              <a:path fill="lightenLess" w="21600" h="288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96">
                <a:moveTo>
                  <a:pt x="21600" y="0"/>
                </a:moveTo>
                <a:lnTo>
                  <a:pt x="21600" y="28896"/>
                </a:lnTo>
                <a:lnTo>
                  <a:pt x="20200" y="27496"/>
                </a:lnTo>
                <a:lnTo>
                  <a:pt x="20200" y="1400"/>
                </a:lnTo>
                <a:close/>
              </a:path>
              <a:path fill="darkenLess" w="21600" h="28896">
                <a:moveTo>
                  <a:pt x="21600" y="28896"/>
                </a:moveTo>
                <a:lnTo>
                  <a:pt x="0" y="28896"/>
                </a:lnTo>
                <a:lnTo>
                  <a:pt x="1400" y="27496"/>
                </a:lnTo>
                <a:lnTo>
                  <a:pt x="20200" y="27496"/>
                </a:lnTo>
                <a:close/>
              </a:path>
              <a:path fill="lighten" w="21600" h="28896">
                <a:moveTo>
                  <a:pt x="0" y="288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96"/>
                </a:lnTo>
                <a:close/>
              </a:path>
              <a:path fill="darken" w="21600" h="28896">
                <a:moveTo>
                  <a:pt x="14299" y="14448"/>
                </a:moveTo>
                <a:lnTo>
                  <a:pt x="3794" y="21454"/>
                </a:lnTo>
                <a:lnTo>
                  <a:pt x="3794" y="7441"/>
                </a:lnTo>
                <a:close/>
              </a:path>
              <a:path fill="darken" w="21600" h="28896">
                <a:moveTo>
                  <a:pt x="16144" y="7441"/>
                </a:moveTo>
                <a:lnTo>
                  <a:pt x="16144" y="21454"/>
                </a:lnTo>
                <a:lnTo>
                  <a:pt x="17806" y="21454"/>
                </a:lnTo>
                <a:lnTo>
                  <a:pt x="17806" y="74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457880" y="20368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427640" y="19890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478560" y="3933720"/>
            <a:ext cx="10796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lejá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478560" y="4365720"/>
            <a:ext cx="11509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zod_szmeddi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897520" y="2778120"/>
            <a:ext cx="865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erzod_szmet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072400" y="2048040"/>
            <a:ext cx="76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869080" y="2052720"/>
            <a:ext cx="1738080" cy="20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o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o_konyv/megnevez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952800" y="466884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zod_sz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325600" y="4659480"/>
            <a:ext cx="15541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_konyv/megneve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273640" y="4672080"/>
            <a:ext cx="12049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zod_szda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731000" y="4668840"/>
            <a:ext cx="9367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targys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96800" y="4659480"/>
            <a:ext cx="180036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nev, ugyfelkod, 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507000" y="4668840"/>
            <a:ext cx="115128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zodes_leja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5720" y="5300640"/>
            <a:ext cx="9030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ejövő vállalkozási szerződések: Azok a szerződések látszanak, ahol az ugyirat_tipus=51401 (bejövő vállalkozási szerződés), és élő a szerződés – szerzod_szmeddig is nu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imenő vállalkozási szerződések: ugyirat_tipus=51402 (kimenő vállalkozási szerződé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orrend: szerzod_szmettol csökken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09840" y="312912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lő szerződé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1619280" y="3168720"/>
            <a:ext cx="142920" cy="144360"/>
            <a:chOff x="1619280" y="3168720"/>
            <a:chExt cx="142920" cy="144360"/>
          </a:xfrm>
        </p:grpSpPr>
        <p:sp>
          <p:nvSpPr>
            <p:cNvPr id="1049" name=""/>
            <p:cNvSpPr/>
            <p:nvPr/>
          </p:nvSpPr>
          <p:spPr>
            <a:xfrm>
              <a:off x="1619280" y="316872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654200" y="31971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1759320" y="314172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szerzod_szmeddig é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szerzod_szfeltig is nu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258720" y="3132000"/>
            <a:ext cx="102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járt szerződ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4253040" y="3168720"/>
            <a:ext cx="142920" cy="144360"/>
            <a:chOff x="4253040" y="3168720"/>
            <a:chExt cx="142920" cy="144360"/>
          </a:xfrm>
        </p:grpSpPr>
        <p:sp>
          <p:nvSpPr>
            <p:cNvPr id="1054" name=""/>
            <p:cNvSpPr/>
            <p:nvPr/>
          </p:nvSpPr>
          <p:spPr>
            <a:xfrm>
              <a:off x="4253040" y="316872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287960" y="31971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6" name=""/>
          <p:cNvSpPr/>
          <p:nvPr/>
        </p:nvSpPr>
        <p:spPr>
          <a:xfrm>
            <a:off x="4326120" y="3108240"/>
            <a:ext cx="166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szerzod_szmeddig is not nu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013080" y="3129120"/>
            <a:ext cx="42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6445080" y="3160800"/>
            <a:ext cx="142920" cy="144360"/>
            <a:chOff x="6445080" y="3160800"/>
            <a:chExt cx="142920" cy="144360"/>
          </a:xfrm>
        </p:grpSpPr>
        <p:sp>
          <p:nvSpPr>
            <p:cNvPr id="1059" name=""/>
            <p:cNvSpPr/>
            <p:nvPr/>
          </p:nvSpPr>
          <p:spPr>
            <a:xfrm>
              <a:off x="6445080" y="316080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480000" y="31892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3871800" y="189000"/>
            <a:ext cx="21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ejövő  vállalkozási szerződés  (frm_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403280" y="1197000"/>
            <a:ext cx="10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627280" y="1197000"/>
            <a:ext cx="2449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_konyv/megneve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620720" y="155736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ípu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627280" y="1557360"/>
            <a:ext cx="244944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_tipu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4=5140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826920" y="232092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fé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627280" y="2349360"/>
            <a:ext cx="259236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asita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22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826920" y="268128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627280" y="2708280"/>
            <a:ext cx="25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targys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826920" y="341460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 vé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627280" y="3429000"/>
            <a:ext cx="1440000" cy="216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zod_szmeddi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826920" y="37879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vége feltétel bekövetkezéséi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627280" y="3803760"/>
            <a:ext cx="2592360" cy="288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zod_szfelti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826920" y="304308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kezd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627280" y="3070080"/>
            <a:ext cx="1440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zod_szmett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539720" y="62064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2971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0020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7083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212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>
            <a:hlinkClick r:id="" action="ppaction://hlinkshowjump?jump=previousslide"/>
          </p:cNvPr>
          <p:cNvSpPr/>
          <p:nvPr/>
        </p:nvSpPr>
        <p:spPr>
          <a:xfrm>
            <a:off x="6141960" y="612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>
            <a:hlinkClick r:id="" action="ppaction://hlinkshowjump?jump=nextslide"/>
          </p:cNvPr>
          <p:cNvSpPr/>
          <p:nvPr/>
        </p:nvSpPr>
        <p:spPr>
          <a:xfrm>
            <a:off x="664524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>
            <a:hlinkClick r:id="" action="ppaction://hlinkshowjump?jump=firstslide"/>
          </p:cNvPr>
          <p:cNvSpPr/>
          <p:nvPr/>
        </p:nvSpPr>
        <p:spPr>
          <a:xfrm>
            <a:off x="563724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>
            <a:hlinkClick r:id="" action="ppaction://hlinkshowjump?jump=lastslide"/>
          </p:cNvPr>
          <p:cNvSpPr/>
          <p:nvPr/>
        </p:nvSpPr>
        <p:spPr>
          <a:xfrm>
            <a:off x="714996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>
            <a:hlinkClick r:id="" action="ppaction://hlinkshowjump?jump=previousslide"/>
          </p:cNvPr>
          <p:cNvSpPr/>
          <p:nvPr/>
        </p:nvSpPr>
        <p:spPr>
          <a:xfrm rot="16200000">
            <a:off x="5112360" y="11613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940720" y="1197000"/>
            <a:ext cx="53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apjá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227640" y="1413000"/>
            <a:ext cx="1657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956720" y="1413000"/>
            <a:ext cx="287280" cy="2311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150240" y="1436760"/>
            <a:ext cx="178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zod_kapjak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_usernev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zod_kapjak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_usernev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zod_kapjak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_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>
            <a:hlinkClick r:id="" action="ppaction://hlinkshowjump?jump=lastslide"/>
          </p:cNvPr>
          <p:cNvSpPr/>
          <p:nvPr/>
        </p:nvSpPr>
        <p:spPr>
          <a:xfrm rot="5400000">
            <a:off x="5255640" y="2311200"/>
            <a:ext cx="216000" cy="2890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9080"/>
              <a:gd name="textAreaBottom" fmla="*/ 275400 h 289080"/>
            </a:gdLst>
            <a:ahLst/>
            <a:rect l="textAreaLeft" t="textAreaTop" r="textAreaRight" b="textAreaBottom"/>
            <a:pathLst>
              <a:path w="21600" h="28896">
                <a:moveTo>
                  <a:pt x="0" y="0"/>
                </a:moveTo>
                <a:lnTo>
                  <a:pt x="21600" y="0"/>
                </a:lnTo>
                <a:lnTo>
                  <a:pt x="21600" y="28896"/>
                </a:lnTo>
                <a:lnTo>
                  <a:pt x="0" y="28896"/>
                </a:lnTo>
                <a:close/>
              </a:path>
              <a:path fill="lightenLess" w="21600" h="288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96">
                <a:moveTo>
                  <a:pt x="21600" y="0"/>
                </a:moveTo>
                <a:lnTo>
                  <a:pt x="21600" y="28896"/>
                </a:lnTo>
                <a:lnTo>
                  <a:pt x="20200" y="27496"/>
                </a:lnTo>
                <a:lnTo>
                  <a:pt x="20200" y="1400"/>
                </a:lnTo>
                <a:close/>
              </a:path>
              <a:path fill="darkenLess" w="21600" h="28896">
                <a:moveTo>
                  <a:pt x="21600" y="28896"/>
                </a:moveTo>
                <a:lnTo>
                  <a:pt x="0" y="28896"/>
                </a:lnTo>
                <a:lnTo>
                  <a:pt x="1400" y="27496"/>
                </a:lnTo>
                <a:lnTo>
                  <a:pt x="20200" y="27496"/>
                </a:lnTo>
                <a:close/>
              </a:path>
              <a:path fill="lighten" w="21600" h="28896">
                <a:moveTo>
                  <a:pt x="0" y="288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96"/>
                </a:lnTo>
                <a:close/>
              </a:path>
              <a:path fill="darken" w="21600" h="28896">
                <a:moveTo>
                  <a:pt x="14299" y="14448"/>
                </a:moveTo>
                <a:lnTo>
                  <a:pt x="3794" y="21454"/>
                </a:lnTo>
                <a:lnTo>
                  <a:pt x="3794" y="7441"/>
                </a:lnTo>
                <a:close/>
              </a:path>
              <a:path fill="darken" w="21600" h="28896">
                <a:moveTo>
                  <a:pt x="16144" y="7441"/>
                </a:moveTo>
                <a:lnTo>
                  <a:pt x="16144" y="21454"/>
                </a:lnTo>
                <a:lnTo>
                  <a:pt x="17806" y="21454"/>
                </a:lnTo>
                <a:lnTo>
                  <a:pt x="17806" y="74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473800" y="227664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826920" y="420696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gjegy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27280" y="4221000"/>
            <a:ext cx="5257800" cy="432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egjegy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826920" y="1954080"/>
            <a:ext cx="172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ződés 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633760" y="1943280"/>
            <a:ext cx="1439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erzod_sz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948600" y="5454720"/>
            <a:ext cx="57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rat típus alapértelmezetten beállítot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ás dátuma iktatas_dat aktualizálódik, alapértelmezetten az aktuális n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imenő vállalkozási szerződés karbantartó u.a., csak az ugyirat_tipus=51402 (kimenő vállalkozási szerződé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49280" y="94140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78000" y="48888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89440" y="490680"/>
            <a:ext cx="792360" cy="368280"/>
          </a:xfrm>
          <a:prstGeom prst="rect">
            <a:avLst/>
          </a:prstGeom>
          <a:solidFill>
            <a:srgbClr val="ff99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45080" y="48888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02080" y="4935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49720" y="49068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34000" y="48888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83440" y="48888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64200" y="201600"/>
            <a:ext cx="170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ratok… (Ugyirat, view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5600" y="1355760"/>
            <a:ext cx="5587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lép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34680" y="1349280"/>
            <a:ext cx="616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ss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39200" y="1349280"/>
            <a:ext cx="715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0200" y="1355760"/>
            <a:ext cx="503280" cy="231120"/>
          </a:xfrm>
          <a:prstGeom prst="rect">
            <a:avLst/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21600" y="1355760"/>
            <a:ext cx="589320" cy="23112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5640" y="1349280"/>
            <a:ext cx="57636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15080" y="134928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54720" y="1349280"/>
            <a:ext cx="79236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u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34000" y="134928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18360" y="1349280"/>
            <a:ext cx="9349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umen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37480" y="1822320"/>
            <a:ext cx="73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ató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63680" y="280188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25520" y="1822320"/>
            <a:ext cx="1738440" cy="20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o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o_konyv/megnevez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25520" y="280980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 rot="16200000">
            <a:off x="7303320" y="17866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10240" y="1822320"/>
            <a:ext cx="16574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/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nev, ugyfelkod, cí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4600" y="182232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fé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83320" y="18223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 rot="16200000">
            <a:off x="3990240" y="17866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 rot="16200000">
            <a:off x="7096680" y="218340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10240" y="221760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rat_targya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18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90960" y="2184480"/>
            <a:ext cx="6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90680" y="2152800"/>
            <a:ext cx="69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v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 rot="16200000">
            <a:off x="3979080" y="209736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25520" y="2146320"/>
            <a:ext cx="1729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ervezeti_egyseg/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erv_egys_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2473200"/>
            <a:ext cx="761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27320" y="2505240"/>
            <a:ext cx="647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rat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19320" y="2506680"/>
            <a:ext cx="647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rat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48040" y="25779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61640" y="2478240"/>
            <a:ext cx="93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10240" y="2505240"/>
            <a:ext cx="647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a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02240" y="2506680"/>
            <a:ext cx="648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as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30960" y="25779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3357720"/>
            <a:ext cx="813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14440" y="3497400"/>
            <a:ext cx="12668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fé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8200" y="3497400"/>
            <a:ext cx="1116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16200" y="3495600"/>
            <a:ext cx="1224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llap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46640" y="3516480"/>
            <a:ext cx="115272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52560" y="3497400"/>
            <a:ext cx="792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űrgős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860640"/>
            <a:ext cx="140328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konyv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_konyv/megneve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57280" y="3857760"/>
            <a:ext cx="122400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nev, ugyfelkod, ci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69000" y="3505320"/>
            <a:ext cx="1224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atl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61280" y="3519360"/>
            <a:ext cx="1152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52560" y="3857760"/>
            <a:ext cx="77328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rgosseg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25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16200" y="3857760"/>
            <a:ext cx="12240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irat_allapot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15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32360" y="3865680"/>
            <a:ext cx="12049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törzsszám + cím,utca, hs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08560" y="3870360"/>
            <a:ext cx="10717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61280" y="3822840"/>
            <a:ext cx="1071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rat_targya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18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1960" y="844560"/>
            <a:ext cx="8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4072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611280"/>
            <a:ext cx="648000" cy="21564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5432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3240" y="6127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93960" y="6127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212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6141960" y="612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664524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563724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lastslide"/>
          </p:cNvPr>
          <p:cNvSpPr/>
          <p:nvPr/>
        </p:nvSpPr>
        <p:spPr>
          <a:xfrm>
            <a:off x="714996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13240" y="189000"/>
            <a:ext cx="117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rat … (frm…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44520" y="2300400"/>
            <a:ext cx="66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típu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55880" y="2494080"/>
            <a:ext cx="1513080" cy="196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irat_tipus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14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66840" y="2693880"/>
            <a:ext cx="6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55880" y="2851200"/>
            <a:ext cx="151128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rat_targy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18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97400" y="3386160"/>
            <a:ext cx="113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érkez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55880" y="3543480"/>
            <a:ext cx="1513080" cy="1933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eerkeze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51440" y="1914480"/>
            <a:ext cx="50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fé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55880" y="2081160"/>
            <a:ext cx="2376360" cy="208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ugyfelnev, ugyfelkod, 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47840" y="5589720"/>
            <a:ext cx="149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ktronikus irat másol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27440" y="5589720"/>
            <a:ext cx="1512720" cy="2156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_masol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45280" y="3746520"/>
            <a:ext cx="106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érkezés mód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55880" y="3873600"/>
            <a:ext cx="1511280" cy="2156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eerkezes_m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20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60920" y="1541520"/>
            <a:ext cx="76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27440" y="1522440"/>
            <a:ext cx="2376360" cy="2538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konyv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_konyv/megneve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24200" y="1197000"/>
            <a:ext cx="1447920" cy="210960"/>
          </a:xfrm>
          <a:prstGeom prst="rect">
            <a:avLst/>
          </a:prstGeom>
          <a:gradFill rotWithShape="0">
            <a:gsLst>
              <a:gs pos="0">
                <a:srgbClr val="dddddd">
                  <a:alpha val="56078"/>
                </a:srgbClr>
              </a:gs>
              <a:gs pos="100000">
                <a:srgbClr val="e2e2e2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rkeztet_sor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34680" y="1197000"/>
            <a:ext cx="121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i sor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32240" y="551808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59240" y="1538280"/>
            <a:ext cx="73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08760" y="1557360"/>
            <a:ext cx="1512720" cy="193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42000" y="1197000"/>
            <a:ext cx="113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1197000"/>
            <a:ext cx="1512720" cy="193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rkezte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13360" y="5211720"/>
            <a:ext cx="53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llap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35360" y="5229360"/>
            <a:ext cx="1512720" cy="2156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irat_allapot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15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82320" y="3054240"/>
            <a:ext cx="65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árgysz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55880" y="3197160"/>
            <a:ext cx="151308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targys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99360" y="4106880"/>
            <a:ext cx="93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55880" y="4222800"/>
            <a:ext cx="1521000" cy="2253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04240" y="4856040"/>
            <a:ext cx="112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intézési határid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4720" y="4941720"/>
            <a:ext cx="151308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lintezes_id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25720" y="4508640"/>
            <a:ext cx="761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46520" y="4581360"/>
            <a:ext cx="151272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3160" y="630864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z adatok csak megtekinthető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97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08520" y="457200"/>
            <a:ext cx="792360" cy="368280"/>
          </a:xfrm>
          <a:prstGeom prst="rect">
            <a:avLst/>
          </a:prstGeom>
          <a:solidFill>
            <a:srgbClr val="ff99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6380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21160" y="46044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68800" y="45720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0252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6880" y="2276640"/>
            <a:ext cx="73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ató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73080" y="325584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5280" y="2276640"/>
            <a:ext cx="1738080" cy="20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o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ktato_konyv/megnevez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35280" y="3284640"/>
            <a:ext cx="1439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previousslide"/>
          </p:cNvPr>
          <p:cNvSpPr/>
          <p:nvPr/>
        </p:nvSpPr>
        <p:spPr>
          <a:xfrm rot="16200000">
            <a:off x="6912720" y="224028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19640" y="2276640"/>
            <a:ext cx="1657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/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nev, ugyfelkod, cí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64000" y="227664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ad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3933720"/>
            <a:ext cx="813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33520" y="4076640"/>
            <a:ext cx="12668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érkez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7280" y="4076640"/>
            <a:ext cx="1116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llap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227664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16200" y="4076640"/>
            <a:ext cx="1224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ad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6360" y="4076640"/>
            <a:ext cx="1152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71640" y="4076640"/>
            <a:ext cx="792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űrgős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0920" y="4437000"/>
            <a:ext cx="115236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_allap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712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16760" y="189000"/>
            <a:ext cx="170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ratok… (Ugyirat, view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 rot="16200000">
            <a:off x="3599640" y="224028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76360" y="4437000"/>
            <a:ext cx="122400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eerkeze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889520" y="4076640"/>
            <a:ext cx="1224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ze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5640" y="1552680"/>
            <a:ext cx="109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jövő 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enő 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lső 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mélyes 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4680" y="1322280"/>
            <a:ext cx="5587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lép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53760" y="1316160"/>
            <a:ext cx="616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ss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58280" y="1316160"/>
            <a:ext cx="7156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amé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60720" y="1316160"/>
            <a:ext cx="50328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18360" y="1316160"/>
            <a:ext cx="5893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84720" y="1316160"/>
            <a:ext cx="57636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33800" y="1316160"/>
            <a:ext cx="648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é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800" y="1316160"/>
            <a:ext cx="79200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mu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53080" y="1316160"/>
            <a:ext cx="64764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37440" y="1316160"/>
            <a:ext cx="934920" cy="23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umen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84800" y="907920"/>
            <a:ext cx="8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9960" y="3573360"/>
            <a:ext cx="724680" cy="231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51600" y="3573360"/>
            <a:ext cx="680760" cy="231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ignál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68360" y="3573360"/>
            <a:ext cx="648000" cy="231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87640" y="3573360"/>
            <a:ext cx="647640" cy="231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tad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08360" y="3573360"/>
            <a:ext cx="792360" cy="231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nté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3573360"/>
            <a:ext cx="792000" cy="231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zár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80360" y="4076640"/>
            <a:ext cx="1152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 rot="16200000">
            <a:off x="6706440" y="2637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19640" y="2671920"/>
            <a:ext cx="1440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rat_targya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18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00720" y="2638440"/>
            <a:ext cx="6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00080" y="2606760"/>
            <a:ext cx="69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rv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 rot="16200000">
            <a:off x="3599640" y="25646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35280" y="260028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ervezeti_egyseg/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erv_egys_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17800" y="2927520"/>
            <a:ext cx="761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3480" y="1758960"/>
            <a:ext cx="90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Bejövő ir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36720" y="2959200"/>
            <a:ext cx="647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rat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29080" y="2960640"/>
            <a:ext cx="647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rat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57440" y="3032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81680" y="2955960"/>
            <a:ext cx="113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19640" y="2959200"/>
            <a:ext cx="647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keztet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12000" y="2960640"/>
            <a:ext cx="647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keztet_d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40360" y="3032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71640" y="4437000"/>
            <a:ext cx="773280" cy="45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rgosseg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25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35280" y="4437000"/>
            <a:ext cx="122400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gyfelnev, ugyfelkod, c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32360" y="4437000"/>
            <a:ext cx="120492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cimzett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felh/user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227640" y="4437000"/>
            <a:ext cx="1071720" cy="231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80360" y="4437000"/>
            <a:ext cx="1071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rat_targya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18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7840" y="539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52320" y="5359320"/>
            <a:ext cx="3022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ókönyv típus: Iktato_konyv/bejovo = 51301 - bejöv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Láthatóság: iktato_konyv/lathato=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4072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96880" y="62064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5432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73240" y="6127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93960" y="6127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212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6141960" y="612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664524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firstslide"/>
          </p:cNvPr>
          <p:cNvSpPr/>
          <p:nvPr/>
        </p:nvSpPr>
        <p:spPr>
          <a:xfrm>
            <a:off x="563724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" action="ppaction://hlinkshowjump?jump=lastslide"/>
          </p:cNvPr>
          <p:cNvSpPr/>
          <p:nvPr/>
        </p:nvSpPr>
        <p:spPr>
          <a:xfrm>
            <a:off x="714996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11800" y="189000"/>
            <a:ext cx="1508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 érkeztetés… (frm…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1600" y="1884240"/>
            <a:ext cx="113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bontás dátu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832040" y="1903320"/>
            <a:ext cx="1512720" cy="1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bont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67040" y="1925640"/>
            <a:ext cx="62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bont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24400" y="1903320"/>
            <a:ext cx="1655640" cy="21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felh/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ser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" action="ppaction://hlinkshowjump?jump=previousslide"/>
          </p:cNvPr>
          <p:cNvSpPr/>
          <p:nvPr/>
        </p:nvSpPr>
        <p:spPr>
          <a:xfrm rot="16200000">
            <a:off x="6115680" y="18676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6680" y="2176560"/>
            <a:ext cx="113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érkez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35280" y="2205000"/>
            <a:ext cx="151272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eerkeze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930200" y="1566720"/>
            <a:ext cx="5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ze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06920" y="1557360"/>
            <a:ext cx="280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6600" y="2552760"/>
            <a:ext cx="149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ktronikus irat másol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835280" y="2565360"/>
            <a:ext cx="151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_masol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43680" y="2192400"/>
            <a:ext cx="106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érkezés mód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433760" y="2220840"/>
            <a:ext cx="1646280" cy="1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eerkezes_m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20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18440" y="1557360"/>
            <a:ext cx="81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adó ne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32040" y="1557360"/>
            <a:ext cx="280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ugyfelnev, ugyfelkod, 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previousslide"/>
          </p:cNvPr>
          <p:cNvSpPr/>
          <p:nvPr/>
        </p:nvSpPr>
        <p:spPr>
          <a:xfrm rot="16200000">
            <a:off x="4677480" y="1521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previousslide"/>
          </p:cNvPr>
          <p:cNvSpPr/>
          <p:nvPr/>
        </p:nvSpPr>
        <p:spPr>
          <a:xfrm rot="16200000">
            <a:off x="8352720" y="15310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" action="ppaction://hlinkshowjump?jump=previousslide"/>
          </p:cNvPr>
          <p:cNvSpPr/>
          <p:nvPr/>
        </p:nvSpPr>
        <p:spPr>
          <a:xfrm rot="16200000">
            <a:off x="6112440" y="215640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1197000"/>
            <a:ext cx="1447560" cy="210960"/>
          </a:xfrm>
          <a:prstGeom prst="rect">
            <a:avLst/>
          </a:prstGeom>
          <a:gradFill rotWithShape="0">
            <a:gsLst>
              <a:gs pos="0">
                <a:srgbClr val="dddddd">
                  <a:alpha val="56078"/>
                </a:srgbClr>
              </a:gs>
              <a:gs pos="100000">
                <a:srgbClr val="e2e2e2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rkeztet_sor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5240" y="1197000"/>
            <a:ext cx="121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i sor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348000" y="252720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92360" y="1187280"/>
            <a:ext cx="6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1640" y="1197000"/>
            <a:ext cx="1512720" cy="193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rkeztet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9120" y="3102120"/>
            <a:ext cx="5704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 tábla aktualizálá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Automatikus beállítá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Érkeztetve: erkeztetve=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rat állapot: ugyirat_allapot=51401 - érkeztet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Érkeztetés dátuma: erkeztet_dat=aktuális napi dát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Érkeztetési sorszám: erkezet_sorszam 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inden évben újrainduló sorszám, évforduló az aktuális napból jö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Szűré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bontó: felh/vezerlo_szam=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739120" y="1184400"/>
            <a:ext cx="113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75640" y="1197000"/>
            <a:ext cx="1512720" cy="193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rkezte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167440" y="5689440"/>
            <a:ext cx="10792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hati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41600" y="1884240"/>
            <a:ext cx="113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bontás dátu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35280" y="1903320"/>
            <a:ext cx="1512720" cy="196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bont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67040" y="1925640"/>
            <a:ext cx="62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bont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427640" y="1890720"/>
            <a:ext cx="1655640" cy="217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felh/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user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6680" y="2185920"/>
            <a:ext cx="113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érkez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35280" y="2189160"/>
            <a:ext cx="1512720" cy="193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eerkeze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200" y="1566720"/>
            <a:ext cx="5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ze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08720" y="1557360"/>
            <a:ext cx="280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50920" y="2552760"/>
            <a:ext cx="149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ktronikus irat másol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449600" y="2565360"/>
            <a:ext cx="1513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_masol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35880" y="5680080"/>
            <a:ext cx="1186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intézés határide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49600" y="5072040"/>
            <a:ext cx="60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48360" y="5086440"/>
            <a:ext cx="1655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asita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Q522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43680" y="2192400"/>
            <a:ext cx="106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érkezés mód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27640" y="2205000"/>
            <a:ext cx="1646280" cy="18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eerkezes_m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Q520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48360" y="4732200"/>
            <a:ext cx="2736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ez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/id, user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61440" y="4726080"/>
            <a:ext cx="111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ignált ügyintéz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018440" y="1557360"/>
            <a:ext cx="81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adó ne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832040" y="1557360"/>
            <a:ext cx="280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ugyfelnev, ugyfelkod, 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previousslide"/>
          </p:cNvPr>
          <p:cNvSpPr/>
          <p:nvPr/>
        </p:nvSpPr>
        <p:spPr>
          <a:xfrm rot="16200000">
            <a:off x="4678920" y="152136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previousslide"/>
          </p:cNvPr>
          <p:cNvSpPr/>
          <p:nvPr/>
        </p:nvSpPr>
        <p:spPr>
          <a:xfrm rot="16200000">
            <a:off x="8352720" y="1521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previousslide"/>
          </p:cNvPr>
          <p:cNvSpPr/>
          <p:nvPr/>
        </p:nvSpPr>
        <p:spPr>
          <a:xfrm rot="16200000">
            <a:off x="6112440" y="215640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05120" y="1197000"/>
            <a:ext cx="1447560" cy="210960"/>
          </a:xfrm>
          <a:prstGeom prst="rect">
            <a:avLst/>
          </a:prstGeom>
          <a:gradFill rotWithShape="0">
            <a:gsLst>
              <a:gs pos="0">
                <a:srgbClr val="dddddd">
                  <a:alpha val="56078"/>
                </a:srgbClr>
              </a:gs>
              <a:gs pos="100000">
                <a:srgbClr val="e2e2e2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rkeztet_sor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5240" y="1197000"/>
            <a:ext cx="121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i sor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4072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39720" y="62064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971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020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083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212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previousslide"/>
          </p:cNvPr>
          <p:cNvSpPr/>
          <p:nvPr/>
        </p:nvSpPr>
        <p:spPr>
          <a:xfrm>
            <a:off x="6141960" y="612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664524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firstslide"/>
          </p:cNvPr>
          <p:cNvSpPr/>
          <p:nvPr/>
        </p:nvSpPr>
        <p:spPr>
          <a:xfrm>
            <a:off x="563724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" action="ppaction://hlinkshowjump?jump=lastslide"/>
          </p:cNvPr>
          <p:cNvSpPr/>
          <p:nvPr/>
        </p:nvSpPr>
        <p:spPr>
          <a:xfrm>
            <a:off x="714996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12160" y="189000"/>
            <a:ext cx="122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ignálás… (frm_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962680" y="252720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previousslide"/>
          </p:cNvPr>
          <p:cNvSpPr/>
          <p:nvPr/>
        </p:nvSpPr>
        <p:spPr>
          <a:xfrm rot="16200000">
            <a:off x="7920720" y="470880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previousslide"/>
          </p:cNvPr>
          <p:cNvSpPr/>
          <p:nvPr/>
        </p:nvSpPr>
        <p:spPr>
          <a:xfrm rot="16200000">
            <a:off x="6839640" y="505008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48280" y="537048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57720" y="5370480"/>
            <a:ext cx="2737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asitas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49320" y="2571840"/>
            <a:ext cx="89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gitalizált 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844640" y="2598840"/>
            <a:ext cx="142920" cy="144360"/>
            <a:chOff x="1844640" y="2598840"/>
            <a:chExt cx="142920" cy="144360"/>
          </a:xfrm>
        </p:grpSpPr>
        <p:sp>
          <p:nvSpPr>
            <p:cNvPr id="381" name=""/>
            <p:cNvSpPr/>
            <p:nvPr/>
          </p:nvSpPr>
          <p:spPr>
            <a:xfrm>
              <a:off x="1844640" y="259884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79560" y="26272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977480" y="2565360"/>
            <a:ext cx="91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digitalizalt_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28080" y="6021360"/>
            <a:ext cx="54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ürgő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48360" y="6021360"/>
            <a:ext cx="1655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urgosseg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Q525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 rot="16200000">
            <a:off x="6863400" y="5985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7280" y="3068640"/>
            <a:ext cx="118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Szignált ügyintéz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00000" y="333864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649520" y="333360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68440" y="33433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08240" y="33433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10160" y="3703680"/>
            <a:ext cx="111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ignált ügyintéz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932280"/>
            <a:ext cx="1944720" cy="216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ez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/id, 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38600" y="3716280"/>
            <a:ext cx="60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622600" y="3932280"/>
            <a:ext cx="1368360" cy="216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tasitas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Q522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70560" y="371808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68720" y="3932280"/>
            <a:ext cx="2158920" cy="216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asi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300720" y="3932280"/>
            <a:ext cx="1079640" cy="216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hati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9640" y="429264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329520" y="371628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596720" y="3705120"/>
            <a:ext cx="54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ürgő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51640" y="3933720"/>
            <a:ext cx="900360" cy="216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urgosseg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25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49600" y="4437000"/>
            <a:ext cx="62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ignál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148360" y="4437000"/>
            <a:ext cx="2735280" cy="21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utasit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_id, 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previousslide"/>
          </p:cNvPr>
          <p:cNvSpPr/>
          <p:nvPr/>
        </p:nvSpPr>
        <p:spPr>
          <a:xfrm rot="16200000">
            <a:off x="7914240" y="440100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10280" y="3040200"/>
            <a:ext cx="389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- ugyintezes tabla karbantartása (csak egy szignált ügyintéző lehet!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-6840" y="4365720"/>
            <a:ext cx="3804840" cy="2151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Automatikus beállítások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ugyintezes  táb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Ügyirat kapcsolat -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_id aktualizál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Ügyintézésre utasítás típusa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– kodert=52301 - szignál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Ügyintézésre utasítás dátuma –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ugyint_utasit_dat=ugyirat/iktat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Ügyintéző típus –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tipus – kodert=52401 – szignált ügyintéz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Ugyirat táb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Ügyirat állapot – ugyirat_allapot=51502 - szignál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Szűré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Szignáló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: ugyint_utasito – felh tábla szerint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csak azok akiknek a vezerlo_szam=1+2+3+4+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062240" y="331920"/>
            <a:ext cx="198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asználók betekintésre (frm_  )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835280" y="2708280"/>
            <a:ext cx="26654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ez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/id, 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87280" y="2719440"/>
            <a:ext cx="66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tekint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47640" y="11779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97160" y="11732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16080" y="118260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755880" y="118260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previousslide"/>
          </p:cNvPr>
          <p:cNvSpPr/>
          <p:nvPr/>
        </p:nvSpPr>
        <p:spPr>
          <a:xfrm rot="16200000">
            <a:off x="4536360" y="26503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1471680"/>
            <a:ext cx="66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tekint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1700280"/>
            <a:ext cx="2808000" cy="216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ez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/id, 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76640" y="1471680"/>
            <a:ext cx="60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788000" y="1700280"/>
            <a:ext cx="1368360" cy="216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tasitas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Q522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02560" y="148608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300720" y="1700280"/>
            <a:ext cx="2158920" cy="216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asi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35280" y="2060640"/>
            <a:ext cx="2808000" cy="216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ez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/id, 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2421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144440" y="3013200"/>
            <a:ext cx="60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44640" y="3025800"/>
            <a:ext cx="2656080" cy="25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asita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Q522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 rot="16200000">
            <a:off x="4536360" y="29901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55720" y="335772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asítás leír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35280" y="3357720"/>
            <a:ext cx="640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asi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86240" y="260280"/>
            <a:ext cx="76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Betekintő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788000" y="2060640"/>
            <a:ext cx="1368360" cy="216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utasitas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Q522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319800" y="2060640"/>
            <a:ext cx="2158920" cy="216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asit_leir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42400" y="4432320"/>
            <a:ext cx="5507280" cy="17398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Automatikus beállítások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Ügyirat kapcsolat -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_id aktualizál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Ügyintézésre utasítás típusa: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utas_tip – kodert=52303 - betekin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Ügyintézésre utasító: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utasito</a:t>
            </a: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_id alapján</a:t>
            </a: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hol az ugyint_utas_tip=523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Ügyintézésre utasítás dátuma –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alapértelmezetten: ugyint_utasit_dat=ugyirat/iktatas_dat de felüllírhat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Ügyintéző típus –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tipus – kodert=52403 – betekint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Szűré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Betekintő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: ugyintezo – felh tábla alapján bárk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440400" y="2708280"/>
            <a:ext cx="1800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nt_utasit_dat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763520" y="269388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tekintésre utasítás dátu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025280" y="687240"/>
            <a:ext cx="47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 u="sng">
                <a:solidFill>
                  <a:srgbClr val="000000"/>
                </a:solidFill>
                <a:uFillTx/>
                <a:latin typeface="Arial"/>
              </a:rPr>
              <a:t>Ügyirat – információs sáv /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iktato_id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iktato_konyv/megnevezes, iktatoszam, iktatas_dat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ugyfel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ugyfelkod,ugyfelnev,irat_targya</a:t>
            </a:r>
            <a:r>
              <a:rPr b="0" i="1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Q518 kodmegnev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741600" y="1884240"/>
            <a:ext cx="113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bontás dátu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35280" y="1903320"/>
            <a:ext cx="1512720" cy="196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bonta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44840" y="1927080"/>
            <a:ext cx="62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bont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138560" y="1892160"/>
            <a:ext cx="1655640" cy="21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felbonto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felh/id, user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06680" y="2185920"/>
            <a:ext cx="113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érkezés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835280" y="2189160"/>
            <a:ext cx="1512720" cy="193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eerkezes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930200" y="1566720"/>
            <a:ext cx="5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zet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508720" y="1557360"/>
            <a:ext cx="280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Cimzett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h/id, user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09680" y="251604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ktronikus ira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ásol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140360" y="2593800"/>
            <a:ext cx="151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_masol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940000" y="21337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érkezé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ód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70800" y="2205000"/>
            <a:ext cx="1646280" cy="18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eerkezes_mo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520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018440" y="1557360"/>
            <a:ext cx="81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adó ne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1557360"/>
            <a:ext cx="2808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/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felnev, ugyfelkod, ci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previousslide"/>
          </p:cNvPr>
          <p:cNvSpPr/>
          <p:nvPr/>
        </p:nvSpPr>
        <p:spPr>
          <a:xfrm rot="16200000">
            <a:off x="4678920" y="152136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" action="ppaction://hlinkshowjump?jump=previousslide"/>
          </p:cNvPr>
          <p:cNvSpPr/>
          <p:nvPr/>
        </p:nvSpPr>
        <p:spPr>
          <a:xfrm rot="16200000">
            <a:off x="8352720" y="15310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" action="ppaction://hlinkshowjump?jump=previousslide"/>
          </p:cNvPr>
          <p:cNvSpPr/>
          <p:nvPr/>
        </p:nvSpPr>
        <p:spPr>
          <a:xfrm rot="16200000">
            <a:off x="8352720" y="21693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828800" y="1197000"/>
            <a:ext cx="1447920" cy="210960"/>
          </a:xfrm>
          <a:prstGeom prst="rect">
            <a:avLst/>
          </a:prstGeom>
          <a:gradFill rotWithShape="0">
            <a:gsLst>
              <a:gs pos="0">
                <a:srgbClr val="dddddd">
                  <a:alpha val="56078"/>
                </a:srgbClr>
              </a:gs>
              <a:gs pos="100000">
                <a:srgbClr val="e2e2e2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rkeztet_sor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8480" y="1197000"/>
            <a:ext cx="121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ési sor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39720" y="62064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971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020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70836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21240" y="620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6141960" y="612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664524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firstslide"/>
          </p:cNvPr>
          <p:cNvSpPr/>
          <p:nvPr/>
        </p:nvSpPr>
        <p:spPr>
          <a:xfrm>
            <a:off x="563724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lastslide"/>
          </p:cNvPr>
          <p:cNvSpPr/>
          <p:nvPr/>
        </p:nvSpPr>
        <p:spPr>
          <a:xfrm>
            <a:off x="714996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510360" y="1890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ejövő irat iktatás… (frm_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651640" y="2565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3360" y="907920"/>
            <a:ext cx="286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Érkeztetés után nem módosítható adatok leszűrkít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96440" y="3592440"/>
            <a:ext cx="140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ettes ügyirat keres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954080" y="3598920"/>
            <a:ext cx="136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olottes_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274920" y="3556080"/>
            <a:ext cx="289080" cy="28728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35" h="21600">
                <a:moveTo>
                  <a:pt x="0" y="0"/>
                </a:moveTo>
                <a:lnTo>
                  <a:pt x="21735" y="0"/>
                </a:lnTo>
                <a:lnTo>
                  <a:pt x="21735" y="21600"/>
                </a:lnTo>
                <a:lnTo>
                  <a:pt x="0" y="21600"/>
                </a:lnTo>
                <a:close/>
              </a:path>
              <a:path fill="lightenLess" w="21735" h="21600">
                <a:moveTo>
                  <a:pt x="0" y="0"/>
                </a:moveTo>
                <a:lnTo>
                  <a:pt x="21735" y="0"/>
                </a:lnTo>
                <a:lnTo>
                  <a:pt x="20335" y="1400"/>
                </a:lnTo>
                <a:lnTo>
                  <a:pt x="1400" y="1400"/>
                </a:lnTo>
                <a:close/>
              </a:path>
              <a:path fill="darken" w="21735" h="21600">
                <a:moveTo>
                  <a:pt x="21735" y="0"/>
                </a:moveTo>
                <a:lnTo>
                  <a:pt x="21735" y="21600"/>
                </a:lnTo>
                <a:lnTo>
                  <a:pt x="20335" y="20200"/>
                </a:lnTo>
                <a:lnTo>
                  <a:pt x="20335" y="1400"/>
                </a:lnTo>
                <a:close/>
              </a:path>
              <a:path fill="darkenLess" w="21735" h="21600">
                <a:moveTo>
                  <a:pt x="21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5" y="20200"/>
                </a:lnTo>
                <a:close/>
              </a:path>
              <a:path fill="lighten" w="21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5" h="21600">
                <a:moveTo>
                  <a:pt x="108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735" h="21600">
                <a:moveTo>
                  <a:pt x="11973" y="14281"/>
                </a:moveTo>
                <a:lnTo>
                  <a:pt x="11973" y="12323"/>
                </a:lnTo>
                <a:cubicBezTo>
                  <a:pt x="11973" y="11496"/>
                  <a:pt x="12304" y="10800"/>
                  <a:pt x="12904" y="10800"/>
                </a:cubicBezTo>
                <a:cubicBezTo>
                  <a:pt x="14036" y="10800"/>
                  <a:pt x="14932" y="9434"/>
                  <a:pt x="14932" y="7849"/>
                </a:cubicBezTo>
                <a:cubicBezTo>
                  <a:pt x="14932" y="5534"/>
                  <a:pt x="13078" y="3794"/>
                  <a:pt x="10868" y="3794"/>
                </a:cubicBezTo>
                <a:cubicBezTo>
                  <a:pt x="8657" y="3794"/>
                  <a:pt x="6986" y="5534"/>
                  <a:pt x="6986" y="7849"/>
                </a:cubicBezTo>
                <a:lnTo>
                  <a:pt x="8840" y="7849"/>
                </a:lnTo>
                <a:cubicBezTo>
                  <a:pt x="8840" y="6709"/>
                  <a:pt x="9762" y="5821"/>
                  <a:pt x="10868" y="5821"/>
                </a:cubicBezTo>
                <a:cubicBezTo>
                  <a:pt x="11973" y="5821"/>
                  <a:pt x="12904" y="6709"/>
                  <a:pt x="12904" y="7849"/>
                </a:cubicBezTo>
                <a:cubicBezTo>
                  <a:pt x="12904" y="8589"/>
                  <a:pt x="12434" y="9320"/>
                  <a:pt x="11973" y="9320"/>
                </a:cubicBezTo>
                <a:cubicBezTo>
                  <a:pt x="10868" y="9320"/>
                  <a:pt x="9762" y="10800"/>
                  <a:pt x="9762" y="12323"/>
                </a:cubicBezTo>
                <a:lnTo>
                  <a:pt x="9762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3360" y="3195720"/>
            <a:ext cx="1447920" cy="210960"/>
          </a:xfrm>
          <a:prstGeom prst="rect">
            <a:avLst/>
          </a:prstGeom>
          <a:gradFill rotWithShape="0">
            <a:gsLst>
              <a:gs pos="0">
                <a:srgbClr val="dddddd">
                  <a:alpha val="56078"/>
                </a:srgbClr>
              </a:gs>
              <a:gs pos="100000">
                <a:srgbClr val="e2e2e2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624720" y="3195720"/>
            <a:ext cx="73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960560" y="3195720"/>
            <a:ext cx="144792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_i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o_konyv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egnevezes,szerv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086480" y="3195720"/>
            <a:ext cx="76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ktatóköny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" action="ppaction://hlinkshowjump?jump=previousslide"/>
          </p:cNvPr>
          <p:cNvSpPr/>
          <p:nvPr/>
        </p:nvSpPr>
        <p:spPr>
          <a:xfrm rot="16200000">
            <a:off x="3355200" y="315936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95280" y="306864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62000" y="3975120"/>
            <a:ext cx="144792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irat_tipu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4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002240" y="3975120"/>
            <a:ext cx="89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rat típu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previousslide"/>
          </p:cNvPr>
          <p:cNvSpPr/>
          <p:nvPr/>
        </p:nvSpPr>
        <p:spPr>
          <a:xfrm rot="16200000">
            <a:off x="3293280" y="39394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913280" y="3975120"/>
            <a:ext cx="144792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gytargy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7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040280" y="3975120"/>
            <a:ext cx="73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" action="ppaction://hlinkshowjump?jump=previousslide"/>
          </p:cNvPr>
          <p:cNvSpPr/>
          <p:nvPr/>
        </p:nvSpPr>
        <p:spPr>
          <a:xfrm rot="16200000">
            <a:off x="6301440" y="393300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913280" y="3605040"/>
            <a:ext cx="144792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048200" y="362736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previousslide"/>
          </p:cNvPr>
          <p:cNvSpPr/>
          <p:nvPr/>
        </p:nvSpPr>
        <p:spPr>
          <a:xfrm rot="16200000">
            <a:off x="6311160" y="35632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60560" y="4348080"/>
            <a:ext cx="144792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_targya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18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239840" y="4348080"/>
            <a:ext cx="6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tárg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 rot="16200000">
            <a:off x="3278880" y="42998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913280" y="3195720"/>
            <a:ext cx="144792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ra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48200" y="3195720"/>
            <a:ext cx="761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at dátu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11840" y="4348080"/>
            <a:ext cx="144756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targys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35880" y="4321080"/>
            <a:ext cx="83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árgyszav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60560" y="4708440"/>
            <a:ext cx="144792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elleklet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34080" y="4680000"/>
            <a:ext cx="165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llékletek száma tényleg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913280" y="4683240"/>
            <a:ext cx="144792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elleklet_szam_iratb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754440" y="46353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llékletek szá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ügyiratban jelöl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960560" y="5068800"/>
            <a:ext cx="1447920" cy="2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ulso_azonosi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96680" y="5045040"/>
            <a:ext cx="115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ülső ügyirat 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923000" y="5067360"/>
            <a:ext cx="144756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ulso_ugyinte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25720" y="5043600"/>
            <a:ext cx="99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ülső ügyintéz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949320" y="2552760"/>
            <a:ext cx="89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gitalizált 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851120" y="2593800"/>
            <a:ext cx="142920" cy="144360"/>
            <a:chOff x="1851120" y="2593800"/>
            <a:chExt cx="142920" cy="144360"/>
          </a:xfrm>
        </p:grpSpPr>
        <p:sp>
          <p:nvSpPr>
            <p:cNvPr id="502" name=""/>
            <p:cNvSpPr/>
            <p:nvPr/>
          </p:nvSpPr>
          <p:spPr>
            <a:xfrm>
              <a:off x="1851120" y="259380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886040" y="26222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1977480" y="2565360"/>
            <a:ext cx="91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digitalizalt_ir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995400" y="5402160"/>
            <a:ext cx="89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álaszköte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897200" y="5443560"/>
            <a:ext cx="142560" cy="144360"/>
            <a:chOff x="1897200" y="5443560"/>
            <a:chExt cx="142560" cy="144360"/>
          </a:xfrm>
        </p:grpSpPr>
        <p:sp>
          <p:nvSpPr>
            <p:cNvPr id="507" name=""/>
            <p:cNvSpPr/>
            <p:nvPr/>
          </p:nvSpPr>
          <p:spPr>
            <a:xfrm>
              <a:off x="1897200" y="5443560"/>
              <a:ext cx="1425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931760" y="547200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2023560" y="5415120"/>
            <a:ext cx="87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valaszkote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19640" y="2181240"/>
            <a:ext cx="6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rkeztet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138560" y="2205000"/>
            <a:ext cx="1655640" cy="217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rkezteto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felh/id, user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41160" y="5864400"/>
            <a:ext cx="5188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Szűré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Iktatókönyv: iktato_konyv/bejovo=y, aktiv=y, lathato=y,  szervezet =szervezeti_egyseg/szerv_eg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Törzsszám: lehet ingatlan, epulet, albetet i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utomatikus beállítás: ugyirat/iktatva=y, ugyirat/ugyirat_allapot=51503 - iktat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02:53:01Z</dcterms:created>
  <dc:creator>Mariann</dc:creator>
  <dc:description/>
  <dc:language>en-US</dc:language>
  <cp:lastModifiedBy>Mariann</cp:lastModifiedBy>
  <dcterms:modified xsi:type="dcterms:W3CDTF">2013-11-06T14:09:17Z</dcterms:modified>
  <cp:revision>89</cp:revision>
  <dc:subject/>
  <dc:title>1. dia</dc:title>
</cp:coreProperties>
</file>