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AB1-EFEB-478D-BA69-241BD048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EEB-2B9C-4ABC-90C8-69756B71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6FF-682B-462D-8266-6AEA0BE1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BA4-9BDE-4BBD-97A8-2DC6ABA4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3A2-2E1D-4DA5-BACE-86046509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E60-F78E-445F-8BFE-A3DAE49F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AC8-D2AB-4C05-83EA-E938917A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B8F-4A13-473E-8155-E868C912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226-371C-47B4-A020-CAC10230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D45-A5B6-4998-ABEB-9BC3821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E64-1CC1-4675-918B-3830E339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062-32BE-4862-933A-6D7E92EB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7349-54F1-4210-AF82-8D53C8319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9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97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08520" y="45720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638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1160" y="46044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6880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35280" y="123516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960" y="152244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080" y="1803240"/>
            <a:ext cx="115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Laká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endeltet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 rot="16200000">
            <a:off x="3061440" y="178776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9040" y="1258920"/>
            <a:ext cx="144000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korzet_id/korzet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5800" y="1536840"/>
            <a:ext cx="144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betet/lb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60600" y="1844640"/>
            <a:ext cx="1439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betet/lb_lakas_rendeltetes_k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 rot="16200000">
            <a:off x="6489000" y="18100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1519200"/>
            <a:ext cx="171936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betet/lb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3360" y="1846440"/>
            <a:ext cx="144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betet/lb_tulajdonv_k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51760" y="154476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02760" y="1811160"/>
            <a:ext cx="10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visz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66000" y="1878120"/>
            <a:ext cx="67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resítv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 rot="16200000">
            <a:off x="6561720" y="123228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94280" y="1268280"/>
            <a:ext cx="1511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betet/lb_lakhaszn_j_k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00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124452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 használat 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9760" y="22557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94040" y="234000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 visz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240" y="2340000"/>
            <a:ext cx="1871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10560" y="12160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24160" y="234936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lap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2349360"/>
            <a:ext cx="115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terü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3480" y="2349360"/>
            <a:ext cx="792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41560" y="270828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ajdonv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600" y="2708280"/>
            <a:ext cx="1979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utca + lb_hsz + lb_emelet + 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57640" y="2708280"/>
            <a:ext cx="1224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ullapsz_elej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5440" y="2708280"/>
            <a:ext cx="123228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tulhanyad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ap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90840" y="2708280"/>
            <a:ext cx="12520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haszn_j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36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81480" y="168120"/>
            <a:ext cx="181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akás adatok… (Lakas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 rot="16200000">
            <a:off x="3107520" y="1232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94640" y="1916280"/>
            <a:ext cx="142920" cy="144360"/>
            <a:chOff x="7694640" y="1916280"/>
            <a:chExt cx="142920" cy="144360"/>
          </a:xfrm>
        </p:grpSpPr>
        <p:sp>
          <p:nvSpPr>
            <p:cNvPr id="81" name=""/>
            <p:cNvSpPr/>
            <p:nvPr/>
          </p:nvSpPr>
          <p:spPr>
            <a:xfrm>
              <a:off x="7694640" y="191628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29560" y="19447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822800" y="1868400"/>
            <a:ext cx="84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lbetet/lb_u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87520" y="2708280"/>
            <a:ext cx="7840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2708280"/>
            <a:ext cx="1260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alapter_ok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33640" y="304164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ajdonv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998800"/>
            <a:ext cx="1979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utca + lb_hsz + lb_emelet + 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9720" y="3127320"/>
            <a:ext cx="1224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ullapsz_elej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9600" y="3084480"/>
            <a:ext cx="7840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28960" y="347184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ajdonv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429000"/>
            <a:ext cx="1979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utca + lb_hsz + lb_emelet + lb_aj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5040" y="3535200"/>
            <a:ext cx="1224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ullapsz_elej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4920" y="3517920"/>
            <a:ext cx="7840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273400"/>
            <a:ext cx="122400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hányad alapító okirat sz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56640" y="2273400"/>
            <a:ext cx="128736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használat 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5440" y="3125880"/>
            <a:ext cx="123228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tulhanyad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ap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84520" y="3549600"/>
            <a:ext cx="123228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tulhanyad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ap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4720" y="3112920"/>
            <a:ext cx="126036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alapter_ok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3560760"/>
            <a:ext cx="126036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alapter_ok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90840" y="3122640"/>
            <a:ext cx="12520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haszn_j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90840" y="3564000"/>
            <a:ext cx="12520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haszn_j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200" y="494172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b_lakas=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2020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05480" y="4245120"/>
            <a:ext cx="172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ajdonv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3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334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527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7344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580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1214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662472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561672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lastslide"/>
          </p:cNvPr>
          <p:cNvSpPr/>
          <p:nvPr/>
        </p:nvSpPr>
        <p:spPr>
          <a:xfrm>
            <a:off x="71294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20080" y="239760"/>
            <a:ext cx="174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akás adatok… (lakas, view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86064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ajdoni_hany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42280" y="1643040"/>
            <a:ext cx="92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rajzi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0360" y="1650960"/>
            <a:ext cx="1295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helyrajzi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4160" y="1031760"/>
            <a:ext cx="1070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zonosító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8120" y="189720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ár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1922400"/>
            <a:ext cx="151308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var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 rot="16200000">
            <a:off x="2952000" y="187992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7400" y="1919160"/>
            <a:ext cx="41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1919160"/>
            <a:ext cx="129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2880" y="191916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sz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40720" y="1928880"/>
            <a:ext cx="503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hs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8080" y="1905120"/>
            <a:ext cx="51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r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63880" y="1913040"/>
            <a:ext cx="1513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b-korze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korzet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37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 rot="16200000">
            <a:off x="5464800" y="18766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3680" y="2198520"/>
            <a:ext cx="73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épcsőhá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2227320"/>
            <a:ext cx="720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epcsoha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11040" y="2201760"/>
            <a:ext cx="53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e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9080" y="2227320"/>
            <a:ext cx="9349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eme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63836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0040" y="164772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9880" y="24876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pszám el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97160" y="2560680"/>
            <a:ext cx="151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lapsz_el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0" y="24876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pszám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17800" y="256068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lapsz_v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840" y="2975040"/>
            <a:ext cx="18478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,vagyonkezelési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23400" y="3855960"/>
            <a:ext cx="105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hány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19080" y="3892680"/>
            <a:ext cx="102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os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34000" y="4227480"/>
            <a:ext cx="84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észtulaj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7440" y="4245120"/>
            <a:ext cx="10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visz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4554360"/>
            <a:ext cx="149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os vál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41040" y="4900680"/>
            <a:ext cx="107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ás kezelő szer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94000" y="4929120"/>
            <a:ext cx="135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ás kezelő szerv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10160" y="3892680"/>
            <a:ext cx="3313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ajdonos_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0920" y="4253040"/>
            <a:ext cx="136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resztulaj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541760"/>
            <a:ext cx="1368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ulajval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00440" y="4900680"/>
            <a:ext cx="338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maskezelo_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089080" y="4973760"/>
            <a:ext cx="142920" cy="144360"/>
            <a:chOff x="2089080" y="4973760"/>
            <a:chExt cx="142920" cy="144360"/>
          </a:xfrm>
        </p:grpSpPr>
        <p:sp>
          <p:nvSpPr>
            <p:cNvPr id="152" name=""/>
            <p:cNvSpPr/>
            <p:nvPr/>
          </p:nvSpPr>
          <p:spPr>
            <a:xfrm>
              <a:off x="2089080" y="497376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24000" y="50022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94560" y="4929120"/>
            <a:ext cx="88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b_maskeze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 rot="16200000">
            <a:off x="6369840" y="42166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65080" y="222732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j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1520" y="2227320"/>
            <a:ext cx="9349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aj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5480" y="452916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jogi_rendezett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3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55360" y="4529160"/>
            <a:ext cx="109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gi rendezett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 rot="16200000">
            <a:off x="6369840" y="45014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44800" y="3578400"/>
            <a:ext cx="144756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tulhanyad_alap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9320" y="352584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hányad társasház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ító okirat szer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2240" y="3274920"/>
            <a:ext cx="4304520" cy="231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orzsszam + lb_varos + lb_utca + lb_hsz + lb_lepcsohaz + lb_emelet +lb_aj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7760" y="1341360"/>
            <a:ext cx="5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Épü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341360"/>
            <a:ext cx="2448000" cy="262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0000"/>
                </a:solidFill>
                <a:latin typeface="Arial"/>
              </a:rPr>
              <a:t>epulet/id</a:t>
            </a:r>
            <a:r>
              <a:rPr b="0" lang="hu-HU" sz="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ff0000"/>
                </a:solidFill>
                <a:latin typeface="Arial"/>
              </a:rPr>
              <a:t>ep_torzsszam,ep_utca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0000"/>
                </a:solidFill>
                <a:latin typeface="Arial"/>
              </a:rPr>
              <a:t>ep_hazszam,ep_lepcsoha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rot="16200000">
            <a:off x="3888360" y="132444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08000" y="1413000"/>
            <a:ext cx="1224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alapter_ok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38240" y="76500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haszn_j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0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4520" y="189000"/>
            <a:ext cx="8665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2160" y="76500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 használat 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2960" y="765000"/>
            <a:ext cx="115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Laká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endeltet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5040" y="1400040"/>
            <a:ext cx="179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terület alapító okirat szer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6520" y="765000"/>
            <a:ext cx="1657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rendeltete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9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 rot="16200000">
            <a:off x="3312360" y="729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 rot="16200000">
            <a:off x="6912720" y="729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76800" y="1403280"/>
            <a:ext cx="165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teljes_alapteru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65120" y="1413000"/>
            <a:ext cx="105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jes alapterü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07080" y="3328920"/>
            <a:ext cx="62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Örzend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865160" y="3368520"/>
            <a:ext cx="142920" cy="144360"/>
            <a:chOff x="1865160" y="3368520"/>
            <a:chExt cx="142920" cy="144360"/>
          </a:xfrm>
        </p:grpSpPr>
        <p:sp>
          <p:nvSpPr>
            <p:cNvPr id="180" name=""/>
            <p:cNvSpPr/>
            <p:nvPr/>
          </p:nvSpPr>
          <p:spPr>
            <a:xfrm>
              <a:off x="1865160" y="336852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0080" y="33969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982160" y="3316320"/>
            <a:ext cx="75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b_orzen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360" y="4044960"/>
            <a:ext cx="166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71.01.01. előtt épü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874880" y="4108320"/>
            <a:ext cx="142920" cy="144360"/>
            <a:chOff x="1874880" y="4108320"/>
            <a:chExt cx="142920" cy="144360"/>
          </a:xfrm>
        </p:grpSpPr>
        <p:sp>
          <p:nvSpPr>
            <p:cNvPr id="185" name=""/>
            <p:cNvSpPr/>
            <p:nvPr/>
          </p:nvSpPr>
          <p:spPr>
            <a:xfrm>
              <a:off x="1874880" y="410832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9800" y="41367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977840" y="4064040"/>
            <a:ext cx="123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b_lakas_1971_elot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56840" y="3708360"/>
            <a:ext cx="42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874880" y="3747960"/>
            <a:ext cx="142920" cy="144360"/>
            <a:chOff x="1874880" y="3747960"/>
            <a:chExt cx="142920" cy="144360"/>
          </a:xfrm>
        </p:grpSpPr>
        <p:sp>
          <p:nvSpPr>
            <p:cNvPr id="190" name=""/>
            <p:cNvSpPr/>
            <p:nvPr/>
          </p:nvSpPr>
          <p:spPr>
            <a:xfrm>
              <a:off x="1874880" y="374796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09800" y="37764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81080" y="370368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b_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8520" y="3699000"/>
            <a:ext cx="102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resí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7080" y="3697200"/>
            <a:ext cx="1295280" cy="2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uresites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2520" y="2693880"/>
            <a:ext cx="12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tlagos belmagas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270828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belmagass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0600" y="2637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 fűtött helyiségeine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érfog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2752560"/>
            <a:ext cx="1513080" cy="2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futott_hely_t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6960" y="1697040"/>
            <a:ext cx="119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znos alapterü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98640" y="1730520"/>
            <a:ext cx="1609560" cy="18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hasznos_alapteru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67160" y="1716120"/>
            <a:ext cx="168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V szerinti  alapterü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73560" y="1714680"/>
            <a:ext cx="1656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IKV_h_teru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6880" y="2044800"/>
            <a:ext cx="156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reállítás tervezett 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98640" y="2060640"/>
            <a:ext cx="1584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helyreall_terv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58960" y="204804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reállítás tényleges 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7960" y="2060640"/>
            <a:ext cx="1616040" cy="22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helyreall_teny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88920" y="2421000"/>
            <a:ext cx="194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obák száma (d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242100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szoba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73400" y="2421000"/>
            <a:ext cx="107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élszobá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91200" y="2416320"/>
            <a:ext cx="151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felszoba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32120" y="1058760"/>
            <a:ext cx="136836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0000"/>
                </a:solidFill>
                <a:latin typeface="Arial"/>
              </a:rPr>
              <a:t>Lb_lakas_komfort_kod</a:t>
            </a:r>
            <a:r>
              <a:rPr b="0" lang="hu-HU" sz="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0000"/>
                </a:solidFill>
                <a:latin typeface="Arial"/>
              </a:rPr>
              <a:t>Q501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2720" y="1052640"/>
            <a:ext cx="137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Lakás komfort fokoz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 rot="16200000">
            <a:off x="3312360" y="10162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6080" y="2986200"/>
            <a:ext cx="105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Főzési lehető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3000240"/>
            <a:ext cx="136836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0000"/>
                </a:solidFill>
                <a:latin typeface="Arial"/>
              </a:rPr>
              <a:t>lb_lakas_fozes_kod</a:t>
            </a:r>
            <a:r>
              <a:rPr b="0" lang="hu-HU" sz="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0000"/>
                </a:solidFill>
                <a:latin typeface="Arial"/>
              </a:rPr>
              <a:t>Q511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 rot="16200000">
            <a:off x="3312360" y="296100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7000" y="466560"/>
            <a:ext cx="4304520" cy="231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orzsszam + lb_varos + lb_utca + lb_hsz + lb_lepcsohaz + lb_emelet +lb_aj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4040" y="1628640"/>
            <a:ext cx="151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nyvszerinti bruttó érté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7640" y="1647720"/>
            <a:ext cx="10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brutto_ert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8320" y="260280"/>
            <a:ext cx="8269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61480" y="1644480"/>
            <a:ext cx="96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uttó érték év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0600" y="1657440"/>
            <a:ext cx="1079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brutto_ertek_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00" y="1944720"/>
            <a:ext cx="87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sült érté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49440" y="1963800"/>
            <a:ext cx="1081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becsult_ert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1951200"/>
            <a:ext cx="103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sült érték év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16200" y="1951200"/>
            <a:ext cx="1081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becsult_ertek_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6800" y="896760"/>
            <a:ext cx="85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llag mutat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62040" y="903240"/>
            <a:ext cx="1027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allagmuta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07120" y="82224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Állagmutató kó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rm.ren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907920"/>
            <a:ext cx="208908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allagmutato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47 kode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 rot="16200000">
            <a:off x="5760000" y="87192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240" y="2971800"/>
            <a:ext cx="7948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jegy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3228840"/>
            <a:ext cx="8280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megjegy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0000" y="1268280"/>
            <a:ext cx="122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galom képessé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1268280"/>
            <a:ext cx="208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orgalomkep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47 kode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rot="16200000">
            <a:off x="3672720" y="1232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3760" y="2295360"/>
            <a:ext cx="94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galmi érté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47640" y="2314440"/>
            <a:ext cx="10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orgalmi_ert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7400" y="2292480"/>
            <a:ext cx="111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análásra kijelö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651120" y="2332080"/>
            <a:ext cx="142920" cy="144360"/>
            <a:chOff x="3651120" y="2332080"/>
            <a:chExt cx="142920" cy="144360"/>
          </a:xfrm>
        </p:grpSpPr>
        <p:sp>
          <p:nvSpPr>
            <p:cNvPr id="241" name=""/>
            <p:cNvSpPr/>
            <p:nvPr/>
          </p:nvSpPr>
          <p:spPr>
            <a:xfrm>
              <a:off x="3651120" y="233208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86040" y="23605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764880" y="2279520"/>
            <a:ext cx="131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b_lakas_szanalasra_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1880" y="25732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érlemény használat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ték növelhetősé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2611440"/>
            <a:ext cx="712800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hasznn_ertek_no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8880" y="549360"/>
            <a:ext cx="4304520" cy="231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orzsszam + lb_varos + lb_utca + lb_hsz + lb_lepcsohaz + lb_emelet +lb_aj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39720" y="1390680"/>
            <a:ext cx="9810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űszaki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9920" y="3087720"/>
            <a:ext cx="226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ízmérővel való ellátott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440080" y="3108240"/>
            <a:ext cx="142920" cy="144360"/>
            <a:chOff x="2440080" y="3108240"/>
            <a:chExt cx="142920" cy="144360"/>
          </a:xfrm>
        </p:grpSpPr>
        <p:sp>
          <p:nvSpPr>
            <p:cNvPr id="250" name=""/>
            <p:cNvSpPr/>
            <p:nvPr/>
          </p:nvSpPr>
          <p:spPr>
            <a:xfrm>
              <a:off x="2440080" y="310824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75000" y="31366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45920" y="3063960"/>
            <a:ext cx="94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bmsz_vizme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5280" y="2276640"/>
            <a:ext cx="172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msz_melegviz_ell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43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94840" y="2276640"/>
            <a:ext cx="123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eg víz ellátott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 rot="16200000">
            <a:off x="6839640" y="22402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50960" y="2637000"/>
            <a:ext cx="172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msz_futesi_mod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4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5880" y="2603520"/>
            <a:ext cx="74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űtési mó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 rot="16200000">
            <a:off x="3347280" y="260064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65360" y="229392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msz_kozmu_ell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26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6440" y="2281320"/>
            <a:ext cx="112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zmű ellátott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 rot="16200000">
            <a:off x="3351960" y="2259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306864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akas_vizmero_szer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7480" y="3068640"/>
            <a:ext cx="16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ízmérő felszerel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020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76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334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527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7344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6580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61214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662472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firstslide"/>
          </p:cNvPr>
          <p:cNvSpPr/>
          <p:nvPr/>
        </p:nvSpPr>
        <p:spPr>
          <a:xfrm>
            <a:off x="561672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lastslide"/>
          </p:cNvPr>
          <p:cNvSpPr/>
          <p:nvPr/>
        </p:nvSpPr>
        <p:spPr>
          <a:xfrm>
            <a:off x="71294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15400" y="239760"/>
            <a:ext cx="298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akás műszaki adatai… (Lakas_muszaki_adat, view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5800" y="1700280"/>
            <a:ext cx="4304520" cy="231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orzsszam + lb_varos + lb_utca + lb_hsz + lb_lepcsohaz + lb_emelet +lb_aj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340000" y="2565360"/>
            <a:ext cx="489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4160" y="476280"/>
            <a:ext cx="10008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iség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46960" y="339264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 rot="16200000">
            <a:off x="5472720" y="33901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1484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tipu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3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9280" y="893880"/>
            <a:ext cx="1368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9560" y="898560"/>
            <a:ext cx="1368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nevez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59280" y="907920"/>
            <a:ext cx="8650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sszú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76560" y="907920"/>
            <a:ext cx="863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éles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59280" y="907920"/>
            <a:ext cx="936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terü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15080" y="907920"/>
            <a:ext cx="115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nő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10280" y="917640"/>
            <a:ext cx="100836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ználat je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19280" y="1484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lakashelyiseg_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148428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hosszus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95640" y="148428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szeless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13280" y="148428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alapteru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6000" y="148428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minosite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86520" y="1484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hasznalat_jelleg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6 kod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844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tipu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3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19280" y="1844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lakashelyiseg_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0720" y="184464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hosszus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184464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szeless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13280" y="184464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alapteru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96000" y="184464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minosite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86520" y="184464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hasznalat_jelleg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6 kod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220500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tipu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3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19280" y="220500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lakashelyiseg_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59280" y="2205000"/>
            <a:ext cx="863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hosszus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95640" y="220500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szeless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32360" y="220500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alapteru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29480" y="220500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minosite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220500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hasznalat_jelleg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6 kod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92360" y="3425760"/>
            <a:ext cx="194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tipu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3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92360" y="3857760"/>
            <a:ext cx="1944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lakashelyiseg_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2360" y="4218120"/>
            <a:ext cx="863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hosszus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32360" y="4218120"/>
            <a:ext cx="863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szeless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4578480"/>
            <a:ext cx="863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alapteru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25840" y="493704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minosite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30520" y="52974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hasznalat_jelleg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6 kod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25840" y="565776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burkolat_anyaga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7 kod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35200" y="60181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_burkolat_allaga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8 kod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 rot="16200000">
            <a:off x="5472720" y="382140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38080" y="3857760"/>
            <a:ext cx="83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neve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75880" y="4205160"/>
            <a:ext cx="75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sszú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12800" y="4205160"/>
            <a:ext cx="71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éles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000" y="4568760"/>
            <a:ext cx="73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terü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1640" y="4925880"/>
            <a:ext cx="67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nő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63400" y="5284800"/>
            <a:ext cx="105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ználat je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2920" y="5645160"/>
            <a:ext cx="101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rkolat anya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41600" y="600876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urkolat alla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29304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56120" y="2933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24280" y="29354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10080" y="2933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00840" y="263700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iség karbantar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previousslide"/>
          </p:cNvPr>
          <p:cNvSpPr/>
          <p:nvPr/>
        </p:nvSpPr>
        <p:spPr>
          <a:xfrm>
            <a:off x="5794200" y="292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6297480" y="2925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firstslide"/>
          </p:cNvPr>
          <p:cNvSpPr/>
          <p:nvPr/>
        </p:nvSpPr>
        <p:spPr>
          <a:xfrm>
            <a:off x="5289480" y="292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8083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16238" y="3794"/>
                </a:lnTo>
                <a:lnTo>
                  <a:pt x="16238" y="17806"/>
                </a:lnTo>
                <a:lnTo>
                  <a:pt x="145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lastslide"/>
          </p:cNvPr>
          <p:cNvSpPr/>
          <p:nvPr/>
        </p:nvSpPr>
        <p:spPr>
          <a:xfrm>
            <a:off x="6802560" y="2925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340000" y="2565360"/>
            <a:ext cx="48960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3800" y="476280"/>
            <a:ext cx="11728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endezés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03840" y="339264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previousslide"/>
          </p:cNvPr>
          <p:cNvSpPr/>
          <p:nvPr/>
        </p:nvSpPr>
        <p:spPr>
          <a:xfrm rot="16200000">
            <a:off x="5472720" y="33901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9280" y="1484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280" y="893880"/>
            <a:ext cx="1368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19280" y="907920"/>
            <a:ext cx="1368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ende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59280" y="907920"/>
            <a:ext cx="8650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nyi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76560" y="907920"/>
            <a:ext cx="145908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osz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V és bérlő közö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08720" y="907920"/>
            <a:ext cx="151272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serére/felújításra kötele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19280" y="1484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berendezes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0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60720" y="148428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menniys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84720" y="148428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megoszl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60920" y="1484280"/>
            <a:ext cx="1890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javitasra_kot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360" y="3425760"/>
            <a:ext cx="194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0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92360" y="3857760"/>
            <a:ext cx="1944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berendezes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0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92360" y="4218120"/>
            <a:ext cx="863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mennyis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360" y="4578480"/>
            <a:ext cx="863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megoszl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25840" y="4937040"/>
            <a:ext cx="1838160" cy="22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javitasra_kot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 rot="16200000">
            <a:off x="5471280" y="38250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04680" y="3838680"/>
            <a:ext cx="79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ende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14760" y="420516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nyi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90120" y="453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oszlás IKV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s bérlő közö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41440" y="492588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serére/felújítás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tele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84360" y="29304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56120" y="2933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24280" y="29354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10080" y="2933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00840" y="2637000"/>
            <a:ext cx="140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endezés karbantar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5794200" y="292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6297480" y="2925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firstslide"/>
          </p:cNvPr>
          <p:cNvSpPr/>
          <p:nvPr/>
        </p:nvSpPr>
        <p:spPr>
          <a:xfrm>
            <a:off x="5289480" y="292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8083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16238" y="3794"/>
                </a:lnTo>
                <a:lnTo>
                  <a:pt x="16238" y="17806"/>
                </a:lnTo>
                <a:lnTo>
                  <a:pt x="145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lastslide"/>
          </p:cNvPr>
          <p:cNvSpPr/>
          <p:nvPr/>
        </p:nvSpPr>
        <p:spPr>
          <a:xfrm>
            <a:off x="6802560" y="2925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 rot="16200000">
            <a:off x="5409360" y="4896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340000" y="2565360"/>
            <a:ext cx="489600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3080" y="476280"/>
            <a:ext cx="14090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gyasztásmérő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07120" y="339264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 rot="16200000">
            <a:off x="5976000" y="33901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484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ogymero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277 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893880"/>
            <a:ext cx="1368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19280" y="907920"/>
            <a:ext cx="1368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Gyári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59280" y="907920"/>
            <a:ext cx="8650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érő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95640" y="907920"/>
            <a:ext cx="10810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gyasztóh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19560" y="90792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 azonosí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19280" y="1484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gyari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60720" y="148428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mer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67280" y="1484280"/>
            <a:ext cx="1009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ogyasztoh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148428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ugyfelaz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95640" y="3425760"/>
            <a:ext cx="194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ogymero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277 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95640" y="3857760"/>
            <a:ext cx="1944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gyari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4218120"/>
            <a:ext cx="19447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mer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95640" y="4581360"/>
            <a:ext cx="194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ogyasztoh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4941720"/>
            <a:ext cx="1838520" cy="22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ugyfelaz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04000" y="383868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Gyári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18760" y="420516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érő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7760" y="4537080"/>
            <a:ext cx="9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gyasztóh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12760" y="4935600"/>
            <a:ext cx="103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 azonosí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84360" y="29304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56120" y="2933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24280" y="29354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10080" y="2933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00120" y="2637000"/>
            <a:ext cx="164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gyasztásmérő karbantar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5794200" y="292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6297480" y="2925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firstslide"/>
          </p:cNvPr>
          <p:cNvSpPr/>
          <p:nvPr/>
        </p:nvSpPr>
        <p:spPr>
          <a:xfrm>
            <a:off x="5289480" y="292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8083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16238" y="3794"/>
                </a:lnTo>
                <a:lnTo>
                  <a:pt x="16238" y="17806"/>
                </a:lnTo>
                <a:lnTo>
                  <a:pt x="145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" action="ppaction://hlinkshowjump?jump=lastslide"/>
          </p:cNvPr>
          <p:cNvSpPr/>
          <p:nvPr/>
        </p:nvSpPr>
        <p:spPr>
          <a:xfrm>
            <a:off x="6802560" y="2925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77040" y="907920"/>
            <a:ext cx="11476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szere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629480" y="907920"/>
            <a:ext cx="11192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szere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372360" y="148428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elszerel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96360" y="148428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eszerel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9280" y="17668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ogymero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277 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19280" y="17668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gyari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60720" y="1766880"/>
            <a:ext cx="86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mer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067280" y="1766880"/>
            <a:ext cx="1009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ogyasztoh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48360" y="176688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ugyfelaz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72360" y="176688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elszerel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96360" y="176688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eszerel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95640" y="5300640"/>
            <a:ext cx="1079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felszerel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5589720"/>
            <a:ext cx="1079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leszerel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5640" y="5877000"/>
            <a:ext cx="1079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b_hitelesít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69840" y="5303880"/>
            <a:ext cx="118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szerel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69840" y="5576760"/>
            <a:ext cx="115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szerel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70200" y="5877000"/>
            <a:ext cx="113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telesí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1T23:41:48Z</dcterms:created>
  <dc:creator>Mariann</dc:creator>
  <dc:description/>
  <dc:language>en-US</dc:language>
  <cp:lastModifiedBy>Mariann</cp:lastModifiedBy>
  <dcterms:modified xsi:type="dcterms:W3CDTF">2013-11-18T13:33:52Z</dcterms:modified>
  <cp:revision>26</cp:revision>
  <dc:subject/>
  <dc:title>1. dia</dc:title>
</cp:coreProperties>
</file>