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027B-4203-431F-8194-D9B07265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D6EE-D25A-4198-9FF9-60E4DFF4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2D22-45F5-45A9-943C-3BD28531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2CB8-FF1F-4733-8010-DA507FD3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2B71-5A05-42CC-B6A6-F757AB57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D565-C729-48C7-98CE-7B509876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920F-6ACF-45F6-8855-41FBB080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5673-688B-4825-BD22-9AD31D00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89DC-2D70-49F4-939D-69262BE8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876B-EEC0-4926-9FE0-C6B012B6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4027-F1A6-40FE-9B2F-A5384D32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C33-0A5F-49AC-9F01-FAAF105D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65A1-3A2B-486B-A7FC-3CCA96DED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95280" y="136440"/>
            <a:ext cx="8647920" cy="3672720"/>
            <a:chOff x="395280" y="136440"/>
            <a:chExt cx="8647920" cy="3672720"/>
          </a:xfrm>
        </p:grpSpPr>
        <p:sp>
          <p:nvSpPr>
            <p:cNvPr id="42" name=""/>
            <p:cNvSpPr/>
            <p:nvPr/>
          </p:nvSpPr>
          <p:spPr>
            <a:xfrm>
              <a:off x="611280" y="907920"/>
              <a:ext cx="813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203640" y="476280"/>
              <a:ext cx="5950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24360" y="476280"/>
              <a:ext cx="718920" cy="368280"/>
            </a:xfrm>
            <a:prstGeom prst="rect">
              <a:avLst/>
            </a:prstGeom>
            <a:solidFill>
              <a:srgbClr val="ff9900">
                <a:alpha val="7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örzse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716360" y="476280"/>
              <a:ext cx="59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64000" y="476280"/>
              <a:ext cx="59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12000" y="476280"/>
              <a:ext cx="5950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659640" y="476280"/>
              <a:ext cx="5950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08720" y="476280"/>
              <a:ext cx="59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9120" y="1236600"/>
              <a:ext cx="1096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Ügyfélnév/cégnév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75960" y="1535040"/>
              <a:ext cx="660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Érvény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78040" y="1824120"/>
              <a:ext cx="787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-mail van?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16200000">
              <a:off x="3167640" y="1521360"/>
              <a:ext cx="216000" cy="28764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640"/>
                <a:gd name="textAreaBottom" fmla="*/ 273960 h 287640"/>
              </a:gdLst>
              <a:ahLst/>
              <a:rect l="textAreaLeft" t="textAreaTop" r="textAreaRight" b="textAreaBottom"/>
              <a:pathLst>
                <a:path w="21600" h="28752">
                  <a:moveTo>
                    <a:pt x="0" y="0"/>
                  </a:moveTo>
                  <a:lnTo>
                    <a:pt x="21600" y="0"/>
                  </a:lnTo>
                  <a:lnTo>
                    <a:pt x="21600" y="28752"/>
                  </a:lnTo>
                  <a:lnTo>
                    <a:pt x="0" y="28752"/>
                  </a:lnTo>
                  <a:close/>
                </a:path>
                <a:path fill="lightenLess" w="21600" h="2875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52">
                  <a:moveTo>
                    <a:pt x="21600" y="0"/>
                  </a:moveTo>
                  <a:lnTo>
                    <a:pt x="21600" y="28752"/>
                  </a:lnTo>
                  <a:lnTo>
                    <a:pt x="20200" y="27352"/>
                  </a:lnTo>
                  <a:lnTo>
                    <a:pt x="20200" y="1400"/>
                  </a:lnTo>
                  <a:close/>
                </a:path>
                <a:path fill="darkenLess" w="21600" h="28752">
                  <a:moveTo>
                    <a:pt x="21600" y="28752"/>
                  </a:moveTo>
                  <a:lnTo>
                    <a:pt x="0" y="28752"/>
                  </a:lnTo>
                  <a:lnTo>
                    <a:pt x="1400" y="27352"/>
                  </a:lnTo>
                  <a:lnTo>
                    <a:pt x="20200" y="27352"/>
                  </a:lnTo>
                  <a:close/>
                </a:path>
                <a:path fill="lighten" w="21600" h="28752">
                  <a:moveTo>
                    <a:pt x="0" y="2875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52"/>
                  </a:lnTo>
                  <a:close/>
                </a:path>
                <a:path fill="darken" w="21600" h="28752">
                  <a:moveTo>
                    <a:pt x="3794" y="14376"/>
                  </a:moveTo>
                  <a:lnTo>
                    <a:pt x="17806" y="7370"/>
                  </a:lnTo>
                  <a:lnTo>
                    <a:pt x="17806" y="2138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>
              <a:hlinkClick r:id="" action="ppaction://hlinkshowjump?jump=previousslide"/>
            </p:cNvPr>
            <p:cNvSpPr/>
            <p:nvPr/>
          </p:nvSpPr>
          <p:spPr>
            <a:xfrm rot="16200000">
              <a:off x="3167640" y="1808640"/>
              <a:ext cx="216000" cy="28764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640"/>
                <a:gd name="textAreaBottom" fmla="*/ 273960 h 287640"/>
              </a:gdLst>
              <a:ahLst/>
              <a:rect l="textAreaLeft" t="textAreaTop" r="textAreaRight" b="textAreaBottom"/>
              <a:pathLst>
                <a:path w="21600" h="28752">
                  <a:moveTo>
                    <a:pt x="0" y="0"/>
                  </a:moveTo>
                  <a:lnTo>
                    <a:pt x="21600" y="0"/>
                  </a:lnTo>
                  <a:lnTo>
                    <a:pt x="21600" y="28752"/>
                  </a:lnTo>
                  <a:lnTo>
                    <a:pt x="0" y="28752"/>
                  </a:lnTo>
                  <a:close/>
                </a:path>
                <a:path fill="lightenLess" w="21600" h="2875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52">
                  <a:moveTo>
                    <a:pt x="21600" y="0"/>
                  </a:moveTo>
                  <a:lnTo>
                    <a:pt x="21600" y="28752"/>
                  </a:lnTo>
                  <a:lnTo>
                    <a:pt x="20200" y="27352"/>
                  </a:lnTo>
                  <a:lnTo>
                    <a:pt x="20200" y="1400"/>
                  </a:lnTo>
                  <a:close/>
                </a:path>
                <a:path fill="darkenLess" w="21600" h="28752">
                  <a:moveTo>
                    <a:pt x="21600" y="28752"/>
                  </a:moveTo>
                  <a:lnTo>
                    <a:pt x="0" y="28752"/>
                  </a:lnTo>
                  <a:lnTo>
                    <a:pt x="1400" y="27352"/>
                  </a:lnTo>
                  <a:lnTo>
                    <a:pt x="20200" y="27352"/>
                  </a:lnTo>
                  <a:close/>
                </a:path>
                <a:path fill="lighten" w="21600" h="28752">
                  <a:moveTo>
                    <a:pt x="0" y="2875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52"/>
                  </a:lnTo>
                  <a:close/>
                </a:path>
                <a:path fill="darken" w="21600" h="28752">
                  <a:moveTo>
                    <a:pt x="3794" y="14376"/>
                  </a:moveTo>
                  <a:lnTo>
                    <a:pt x="17806" y="7370"/>
                  </a:lnTo>
                  <a:lnTo>
                    <a:pt x="17806" y="2138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00280" y="1247760"/>
              <a:ext cx="1719360" cy="23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ugyfel/ugyfelnev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92360" y="1557360"/>
              <a:ext cx="14396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ugyfel/ugyfelerveny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92360" y="1836720"/>
              <a:ext cx="14396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>
              <a:hlinkClick r:id="" action="ppaction://hlinkshowjump?jump=previousslide"/>
            </p:cNvPr>
            <p:cNvSpPr/>
            <p:nvPr/>
          </p:nvSpPr>
          <p:spPr>
            <a:xfrm rot="16200000">
              <a:off x="5904720" y="1516320"/>
              <a:ext cx="215640" cy="287280"/>
            </a:xfrm>
            <a:custGeom>
              <a:avLst/>
              <a:gdLst>
                <a:gd name="textAreaLeft" fmla="*/ 13680 w 215640"/>
                <a:gd name="textAreaRight" fmla="*/ 201960 w 21564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64">
                  <a:moveTo>
                    <a:pt x="0" y="0"/>
                  </a:moveTo>
                  <a:lnTo>
                    <a:pt x="21600" y="0"/>
                  </a:lnTo>
                  <a:lnTo>
                    <a:pt x="21600" y="28764"/>
                  </a:lnTo>
                  <a:lnTo>
                    <a:pt x="0" y="28764"/>
                  </a:lnTo>
                  <a:close/>
                </a:path>
                <a:path fill="lightenLess" w="21600" h="28764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64">
                  <a:moveTo>
                    <a:pt x="21600" y="0"/>
                  </a:moveTo>
                  <a:lnTo>
                    <a:pt x="21600" y="28764"/>
                  </a:lnTo>
                  <a:lnTo>
                    <a:pt x="20200" y="27364"/>
                  </a:lnTo>
                  <a:lnTo>
                    <a:pt x="20200" y="1400"/>
                  </a:lnTo>
                  <a:close/>
                </a:path>
                <a:path fill="darkenLess" w="21600" h="28764">
                  <a:moveTo>
                    <a:pt x="21600" y="28764"/>
                  </a:moveTo>
                  <a:lnTo>
                    <a:pt x="0" y="28764"/>
                  </a:lnTo>
                  <a:lnTo>
                    <a:pt x="1400" y="27364"/>
                  </a:lnTo>
                  <a:lnTo>
                    <a:pt x="20200" y="27364"/>
                  </a:lnTo>
                  <a:close/>
                </a:path>
                <a:path fill="lighten" w="21600" h="28764">
                  <a:moveTo>
                    <a:pt x="0" y="28764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64"/>
                  </a:lnTo>
                  <a:close/>
                </a:path>
                <a:path fill="darken" w="21600" h="28764">
                  <a:moveTo>
                    <a:pt x="3794" y="14382"/>
                  </a:moveTo>
                  <a:lnTo>
                    <a:pt x="17806" y="7376"/>
                  </a:lnTo>
                  <a:lnTo>
                    <a:pt x="17806" y="2138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>
              <a:hlinkClick r:id="" action="ppaction://hlinkshowjump?jump=previousslide"/>
            </p:cNvPr>
            <p:cNvSpPr/>
            <p:nvPr/>
          </p:nvSpPr>
          <p:spPr>
            <a:xfrm rot="16200000">
              <a:off x="5904720" y="180432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37000" y="1243080"/>
              <a:ext cx="1719360" cy="23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ugyfel/ugyfelvar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29080" y="1552680"/>
              <a:ext cx="144000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ugyfel/ugyfelcsopid</a:t>
              </a: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ugyfelcsop/csoport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29080" y="1832040"/>
              <a:ext cx="1440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ugyfel/ugyfeljelleg</a:t>
              </a: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12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74320" y="1243080"/>
              <a:ext cx="480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ár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72200" y="1531800"/>
              <a:ext cx="916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Ügyfél csopo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62920" y="1806480"/>
              <a:ext cx="808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Ügyfél jelle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>
              <a:hlinkClick r:id="" action="ppaction://hlinkshowjump?jump=previousslide"/>
            </p:cNvPr>
            <p:cNvSpPr/>
            <p:nvPr/>
          </p:nvSpPr>
          <p:spPr>
            <a:xfrm rot="16200000">
              <a:off x="8641440" y="1516320"/>
              <a:ext cx="215640" cy="287280"/>
            </a:xfrm>
            <a:custGeom>
              <a:avLst/>
              <a:gdLst>
                <a:gd name="textAreaLeft" fmla="*/ 13680 w 215640"/>
                <a:gd name="textAreaRight" fmla="*/ 201960 w 21564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64">
                  <a:moveTo>
                    <a:pt x="0" y="0"/>
                  </a:moveTo>
                  <a:lnTo>
                    <a:pt x="21600" y="0"/>
                  </a:lnTo>
                  <a:lnTo>
                    <a:pt x="21600" y="28764"/>
                  </a:lnTo>
                  <a:lnTo>
                    <a:pt x="0" y="28764"/>
                  </a:lnTo>
                  <a:close/>
                </a:path>
                <a:path fill="lightenLess" w="21600" h="28764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64">
                  <a:moveTo>
                    <a:pt x="21600" y="0"/>
                  </a:moveTo>
                  <a:lnTo>
                    <a:pt x="21600" y="28764"/>
                  </a:lnTo>
                  <a:lnTo>
                    <a:pt x="20200" y="27364"/>
                  </a:lnTo>
                  <a:lnTo>
                    <a:pt x="20200" y="1400"/>
                  </a:lnTo>
                  <a:close/>
                </a:path>
                <a:path fill="darkenLess" w="21600" h="28764">
                  <a:moveTo>
                    <a:pt x="21600" y="28764"/>
                  </a:moveTo>
                  <a:lnTo>
                    <a:pt x="0" y="28764"/>
                  </a:lnTo>
                  <a:lnTo>
                    <a:pt x="1400" y="27364"/>
                  </a:lnTo>
                  <a:lnTo>
                    <a:pt x="20200" y="27364"/>
                  </a:lnTo>
                  <a:close/>
                </a:path>
                <a:path fill="lighten" w="21600" h="28764">
                  <a:moveTo>
                    <a:pt x="0" y="28764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64"/>
                  </a:lnTo>
                  <a:close/>
                </a:path>
                <a:path fill="darken" w="21600" h="28764">
                  <a:moveTo>
                    <a:pt x="3794" y="14382"/>
                  </a:moveTo>
                  <a:lnTo>
                    <a:pt x="17806" y="7376"/>
                  </a:lnTo>
                  <a:lnTo>
                    <a:pt x="17806" y="2138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165800" y="1552680"/>
              <a:ext cx="144000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ugyfel/ugyfeltipusa--.&gt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204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300000" y="1557360"/>
              <a:ext cx="788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Ügyfél típ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5960" y="2276640"/>
              <a:ext cx="813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5280" y="2349360"/>
              <a:ext cx="1873080" cy="2311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Ügyfélnév/cégnév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36760" y="2349360"/>
              <a:ext cx="1658880" cy="2311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í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64360" y="1247760"/>
              <a:ext cx="1719360" cy="23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ugyfel/ugyfelkepvisel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51120" y="1247760"/>
              <a:ext cx="68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épvisel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18040" y="2349360"/>
              <a:ext cx="849240" cy="2311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Ügyfél jelle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96080" y="2349360"/>
              <a:ext cx="838080" cy="36828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lefonszá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759720" y="2349360"/>
              <a:ext cx="647640" cy="2311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axszá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80440" y="2349360"/>
              <a:ext cx="792000" cy="2311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mai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44080" y="2349360"/>
              <a:ext cx="691920" cy="36828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Ügyfélkó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54320" y="2349360"/>
              <a:ext cx="914400" cy="36828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Ügyfél csopo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5280" y="2708280"/>
              <a:ext cx="187308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ugyfelnev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54040" y="2720880"/>
              <a:ext cx="166068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ugyfelirsz,ugyfelvaros,ugyfelut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95720" y="2708280"/>
              <a:ext cx="917640" cy="3373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ugyfelcsop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csoport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65920" y="2709720"/>
              <a:ext cx="98532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12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89040" y="2708280"/>
              <a:ext cx="61056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ugyfelt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65120" y="2717640"/>
              <a:ext cx="64260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ugyfelfa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51640" y="2717640"/>
              <a:ext cx="86544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ugyfelemai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68560" y="2717640"/>
              <a:ext cx="67464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ugyfelko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5280" y="3078000"/>
              <a:ext cx="187308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ugyfelnev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54040" y="3090960"/>
              <a:ext cx="166068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ugyfelirsz,ugyfelvaros,ugyfelut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95720" y="3078000"/>
              <a:ext cx="917640" cy="3373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ugyfelcsop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csoport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65920" y="3079800"/>
              <a:ext cx="98532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12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89040" y="3078000"/>
              <a:ext cx="61056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ugyfelt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65120" y="3087720"/>
              <a:ext cx="64260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ugyfelfa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51640" y="3087720"/>
              <a:ext cx="86544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ugyfelemai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68560" y="3087720"/>
              <a:ext cx="67464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ugyfelko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5280" y="3471840"/>
              <a:ext cx="187308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ugyfelnev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54040" y="3484440"/>
              <a:ext cx="166068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ugyfelirsz,ugyfelvaros,ugyfelut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95720" y="3471840"/>
              <a:ext cx="917640" cy="3373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ugyfelcsop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csoport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65920" y="3473280"/>
              <a:ext cx="98532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12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89040" y="3471840"/>
              <a:ext cx="61056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ugyfelt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65120" y="3481560"/>
              <a:ext cx="64260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ugyfelfa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51640" y="3481560"/>
              <a:ext cx="86544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ugyfelemai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68560" y="3481560"/>
              <a:ext cx="67464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ugyfelko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0200" y="13644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KV EI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85880" y="189000"/>
              <a:ext cx="2457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Partnerek, ügyfelek… (Ügyfelek, view501_1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-36360" y="115920"/>
            <a:ext cx="9180360" cy="6742080"/>
            <a:chOff x="-36360" y="115920"/>
            <a:chExt cx="9180360" cy="6742080"/>
          </a:xfrm>
        </p:grpSpPr>
        <p:sp>
          <p:nvSpPr>
            <p:cNvPr id="107" name=""/>
            <p:cNvSpPr/>
            <p:nvPr/>
          </p:nvSpPr>
          <p:spPr>
            <a:xfrm>
              <a:off x="20520" y="4940280"/>
              <a:ext cx="3527640" cy="122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360" y="4699080"/>
              <a:ext cx="389520" cy="23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í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-36360" y="5011560"/>
              <a:ext cx="404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Irsz.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-25920" y="5372280"/>
              <a:ext cx="420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tca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-33120" y="5803920"/>
              <a:ext cx="415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sz.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440" y="6442200"/>
              <a:ext cx="9036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ugyfelmegjegyz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440" y="6442200"/>
              <a:ext cx="9036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ugyfelmegjegyz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154800" y="115920"/>
              <a:ext cx="8989200" cy="6742080"/>
              <a:chOff x="154800" y="115920"/>
              <a:chExt cx="8989200" cy="6742080"/>
            </a:xfrm>
          </p:grpSpPr>
          <p:sp>
            <p:nvSpPr>
              <p:cNvPr id="115" name=""/>
              <p:cNvSpPr/>
              <p:nvPr/>
            </p:nvSpPr>
            <p:spPr>
              <a:xfrm>
                <a:off x="783720" y="849240"/>
                <a:ext cx="724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Ügyfél név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15960" y="861840"/>
                <a:ext cx="3351240" cy="21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Ugyfelnev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13040" y="1150920"/>
                <a:ext cx="692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övid név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432240" y="1150920"/>
                <a:ext cx="142560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ugyfelrovidnev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88960" y="1441440"/>
                <a:ext cx="91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ölöttes ügyfé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515960" y="1441440"/>
                <a:ext cx="271008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ugyfelfolott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>
                <a:hlinkClick r:id="" action="ppaction://hlinkshowjump?jump=previousslide"/>
              </p:cNvPr>
              <p:cNvSpPr/>
              <p:nvPr/>
            </p:nvSpPr>
            <p:spPr>
              <a:xfrm rot="16200000">
                <a:off x="7608600" y="828000"/>
                <a:ext cx="217800" cy="284400"/>
              </a:xfrm>
              <a:custGeom>
                <a:avLst/>
                <a:gdLst>
                  <a:gd name="textAreaLeft" fmla="*/ 14040 w 217800"/>
                  <a:gd name="textAreaRight" fmla="*/ 203760 w 217800"/>
                  <a:gd name="textAreaTop" fmla="*/ 14040 h 284400"/>
                  <a:gd name="textAreaBottom" fmla="*/ 270360 h 284400"/>
                </a:gdLst>
                <a:ahLst/>
                <a:rect l="textAreaLeft" t="textAreaTop" r="textAreaRight" b="textAreaBottom"/>
                <a:pathLst>
                  <a:path w="21600" h="28194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8194"/>
                    </a:lnTo>
                    <a:lnTo>
                      <a:pt x="0" y="28194"/>
                    </a:lnTo>
                    <a:close/>
                  </a:path>
                  <a:path fill="lightenLess" w="21600" h="28194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8194">
                    <a:moveTo>
                      <a:pt x="21600" y="0"/>
                    </a:moveTo>
                    <a:lnTo>
                      <a:pt x="21600" y="28194"/>
                    </a:lnTo>
                    <a:lnTo>
                      <a:pt x="20200" y="26794"/>
                    </a:lnTo>
                    <a:lnTo>
                      <a:pt x="20200" y="1400"/>
                    </a:lnTo>
                    <a:close/>
                  </a:path>
                  <a:path fill="darkenLess" w="21600" h="28194">
                    <a:moveTo>
                      <a:pt x="21600" y="28194"/>
                    </a:moveTo>
                    <a:lnTo>
                      <a:pt x="0" y="28194"/>
                    </a:lnTo>
                    <a:lnTo>
                      <a:pt x="1400" y="26794"/>
                    </a:lnTo>
                    <a:lnTo>
                      <a:pt x="20200" y="26794"/>
                    </a:lnTo>
                    <a:close/>
                  </a:path>
                  <a:path fill="lighten" w="21600" h="28194">
                    <a:moveTo>
                      <a:pt x="0" y="28194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6794"/>
                    </a:lnTo>
                    <a:close/>
                  </a:path>
                  <a:path fill="darken" w="21600" h="28194">
                    <a:moveTo>
                      <a:pt x="3794" y="14097"/>
                    </a:moveTo>
                    <a:lnTo>
                      <a:pt x="17806" y="7091"/>
                    </a:lnTo>
                    <a:lnTo>
                      <a:pt x="17806" y="2110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515960" y="565200"/>
                <a:ext cx="641520" cy="216000"/>
              </a:xfrm>
              <a:custGeom>
                <a:avLst/>
                <a:gdLst>
                  <a:gd name="textAreaLeft" fmla="*/ 13680 w 641520"/>
                  <a:gd name="textAreaRight" fmla="*/ 627840 w 641520"/>
                  <a:gd name="textAreaTop" fmla="*/ 13680 h 216000"/>
                  <a:gd name="textAreaBottom" fmla="*/ 202320 h 216000"/>
                </a:gdLst>
                <a:ahLst/>
                <a:rect l="textAreaLeft" t="textAreaTop" r="textAreaRight" b="textAreaBottom"/>
                <a:pathLst>
                  <a:path w="64081" h="21600">
                    <a:moveTo>
                      <a:pt x="0" y="0"/>
                    </a:moveTo>
                    <a:lnTo>
                      <a:pt x="64081" y="0"/>
                    </a:lnTo>
                    <a:lnTo>
                      <a:pt x="64081" y="21600"/>
                    </a:lnTo>
                    <a:lnTo>
                      <a:pt x="0" y="21600"/>
                    </a:lnTo>
                    <a:close/>
                  </a:path>
                  <a:path fill="lightenLess" w="64081" h="21600">
                    <a:moveTo>
                      <a:pt x="0" y="0"/>
                    </a:moveTo>
                    <a:lnTo>
                      <a:pt x="64081" y="0"/>
                    </a:lnTo>
                    <a:lnTo>
                      <a:pt x="62681" y="1400"/>
                    </a:lnTo>
                    <a:lnTo>
                      <a:pt x="1400" y="1400"/>
                    </a:lnTo>
                    <a:close/>
                  </a:path>
                  <a:path fill="darken" w="64081" h="21600">
                    <a:moveTo>
                      <a:pt x="64081" y="0"/>
                    </a:moveTo>
                    <a:lnTo>
                      <a:pt x="64081" y="21600"/>
                    </a:lnTo>
                    <a:lnTo>
                      <a:pt x="62681" y="20200"/>
                    </a:lnTo>
                    <a:lnTo>
                      <a:pt x="62681" y="1400"/>
                    </a:lnTo>
                    <a:close/>
                  </a:path>
                  <a:path fill="darkenLess" w="64081" h="21600">
                    <a:moveTo>
                      <a:pt x="64081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62681" y="20200"/>
                    </a:lnTo>
                    <a:close/>
                  </a:path>
                  <a:path fill="lighten" w="64081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Új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00400" y="565200"/>
                <a:ext cx="641160" cy="216000"/>
              </a:xfrm>
              <a:custGeom>
                <a:avLst/>
                <a:gdLst>
                  <a:gd name="textAreaLeft" fmla="*/ 13680 w 641160"/>
                  <a:gd name="textAreaRight" fmla="*/ 627480 w 641160"/>
                  <a:gd name="textAreaTop" fmla="*/ 13680 h 216000"/>
                  <a:gd name="textAreaBottom" fmla="*/ 202320 h 216000"/>
                </a:gdLst>
                <a:ahLst/>
                <a:rect l="textAreaLeft" t="textAreaTop" r="textAreaRight" b="textAreaBottom"/>
                <a:pathLst>
                  <a:path w="64045" h="21600">
                    <a:moveTo>
                      <a:pt x="0" y="0"/>
                    </a:moveTo>
                    <a:lnTo>
                      <a:pt x="64045" y="0"/>
                    </a:lnTo>
                    <a:lnTo>
                      <a:pt x="64045" y="21600"/>
                    </a:lnTo>
                    <a:lnTo>
                      <a:pt x="0" y="21600"/>
                    </a:lnTo>
                    <a:close/>
                  </a:path>
                  <a:path fill="lightenLess" w="64045" h="21600">
                    <a:moveTo>
                      <a:pt x="0" y="0"/>
                    </a:moveTo>
                    <a:lnTo>
                      <a:pt x="64045" y="0"/>
                    </a:lnTo>
                    <a:lnTo>
                      <a:pt x="62645" y="1400"/>
                    </a:lnTo>
                    <a:lnTo>
                      <a:pt x="1400" y="1400"/>
                    </a:lnTo>
                    <a:close/>
                  </a:path>
                  <a:path fill="darken" w="64045" h="21600">
                    <a:moveTo>
                      <a:pt x="64045" y="0"/>
                    </a:moveTo>
                    <a:lnTo>
                      <a:pt x="64045" y="21600"/>
                    </a:lnTo>
                    <a:lnTo>
                      <a:pt x="62645" y="20200"/>
                    </a:lnTo>
                    <a:lnTo>
                      <a:pt x="62645" y="1400"/>
                    </a:lnTo>
                    <a:close/>
                  </a:path>
                  <a:path fill="darkenLess" w="64045" h="21600">
                    <a:moveTo>
                      <a:pt x="64045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62645" y="20200"/>
                    </a:lnTo>
                    <a:close/>
                  </a:path>
                  <a:path fill="lighten" w="64045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endbe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013200" y="565200"/>
                <a:ext cx="641160" cy="216000"/>
              </a:xfrm>
              <a:custGeom>
                <a:avLst/>
                <a:gdLst>
                  <a:gd name="textAreaLeft" fmla="*/ 13680 w 641160"/>
                  <a:gd name="textAreaRight" fmla="*/ 627480 w 641160"/>
                  <a:gd name="textAreaTop" fmla="*/ 13680 h 216000"/>
                  <a:gd name="textAreaBottom" fmla="*/ 202320 h 216000"/>
                </a:gdLst>
                <a:ahLst/>
                <a:rect l="textAreaLeft" t="textAreaTop" r="textAreaRight" b="textAreaBottom"/>
                <a:pathLst>
                  <a:path w="64045" h="21600">
                    <a:moveTo>
                      <a:pt x="0" y="0"/>
                    </a:moveTo>
                    <a:lnTo>
                      <a:pt x="64045" y="0"/>
                    </a:lnTo>
                    <a:lnTo>
                      <a:pt x="64045" y="21600"/>
                    </a:lnTo>
                    <a:lnTo>
                      <a:pt x="0" y="21600"/>
                    </a:lnTo>
                    <a:close/>
                  </a:path>
                  <a:path fill="lightenLess" w="64045" h="21600">
                    <a:moveTo>
                      <a:pt x="0" y="0"/>
                    </a:moveTo>
                    <a:lnTo>
                      <a:pt x="64045" y="0"/>
                    </a:lnTo>
                    <a:lnTo>
                      <a:pt x="62645" y="1400"/>
                    </a:lnTo>
                    <a:lnTo>
                      <a:pt x="1400" y="1400"/>
                    </a:lnTo>
                    <a:close/>
                  </a:path>
                  <a:path fill="darken" w="64045" h="21600">
                    <a:moveTo>
                      <a:pt x="64045" y="0"/>
                    </a:moveTo>
                    <a:lnTo>
                      <a:pt x="64045" y="21600"/>
                    </a:lnTo>
                    <a:lnTo>
                      <a:pt x="62645" y="20200"/>
                    </a:lnTo>
                    <a:lnTo>
                      <a:pt x="62645" y="1400"/>
                    </a:lnTo>
                    <a:close/>
                  </a:path>
                  <a:path fill="darkenLess" w="64045" h="21600">
                    <a:moveTo>
                      <a:pt x="64045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62645" y="20200"/>
                    </a:lnTo>
                    <a:close/>
                  </a:path>
                  <a:path fill="lighten" w="64045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égse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26000" y="565200"/>
                <a:ext cx="641160" cy="216000"/>
              </a:xfrm>
              <a:custGeom>
                <a:avLst/>
                <a:gdLst>
                  <a:gd name="textAreaLeft" fmla="*/ 13680 w 641160"/>
                  <a:gd name="textAreaRight" fmla="*/ 627480 w 641160"/>
                  <a:gd name="textAreaTop" fmla="*/ 13680 h 216000"/>
                  <a:gd name="textAreaBottom" fmla="*/ 202320 h 216000"/>
                </a:gdLst>
                <a:ahLst/>
                <a:rect l="textAreaLeft" t="textAreaTop" r="textAreaRight" b="textAreaBottom"/>
                <a:pathLst>
                  <a:path w="64045" h="21600">
                    <a:moveTo>
                      <a:pt x="0" y="0"/>
                    </a:moveTo>
                    <a:lnTo>
                      <a:pt x="64045" y="0"/>
                    </a:lnTo>
                    <a:lnTo>
                      <a:pt x="64045" y="21600"/>
                    </a:lnTo>
                    <a:lnTo>
                      <a:pt x="0" y="21600"/>
                    </a:lnTo>
                    <a:close/>
                  </a:path>
                  <a:path fill="lightenLess" w="64045" h="21600">
                    <a:moveTo>
                      <a:pt x="0" y="0"/>
                    </a:moveTo>
                    <a:lnTo>
                      <a:pt x="64045" y="0"/>
                    </a:lnTo>
                    <a:lnTo>
                      <a:pt x="62645" y="1400"/>
                    </a:lnTo>
                    <a:lnTo>
                      <a:pt x="1400" y="1400"/>
                    </a:lnTo>
                    <a:close/>
                  </a:path>
                  <a:path fill="darken" w="64045" h="21600">
                    <a:moveTo>
                      <a:pt x="64045" y="0"/>
                    </a:moveTo>
                    <a:lnTo>
                      <a:pt x="64045" y="21600"/>
                    </a:lnTo>
                    <a:lnTo>
                      <a:pt x="62645" y="20200"/>
                    </a:lnTo>
                    <a:lnTo>
                      <a:pt x="62645" y="1400"/>
                    </a:lnTo>
                    <a:close/>
                  </a:path>
                  <a:path fill="darkenLess" w="64045" h="21600">
                    <a:moveTo>
                      <a:pt x="64045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62645" y="20200"/>
                    </a:lnTo>
                    <a:close/>
                  </a:path>
                  <a:path fill="lighten" w="64045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örlé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10080" y="565200"/>
                <a:ext cx="641520" cy="216000"/>
              </a:xfrm>
              <a:custGeom>
                <a:avLst/>
                <a:gdLst>
                  <a:gd name="textAreaLeft" fmla="*/ 13680 w 641520"/>
                  <a:gd name="textAreaRight" fmla="*/ 627840 w 641520"/>
                  <a:gd name="textAreaTop" fmla="*/ 13680 h 216000"/>
                  <a:gd name="textAreaBottom" fmla="*/ 202320 h 216000"/>
                </a:gdLst>
                <a:ahLst/>
                <a:rect l="textAreaLeft" t="textAreaTop" r="textAreaRight" b="textAreaBottom"/>
                <a:pathLst>
                  <a:path w="64081" h="21600">
                    <a:moveTo>
                      <a:pt x="0" y="0"/>
                    </a:moveTo>
                    <a:lnTo>
                      <a:pt x="64081" y="0"/>
                    </a:lnTo>
                    <a:lnTo>
                      <a:pt x="64081" y="21600"/>
                    </a:lnTo>
                    <a:lnTo>
                      <a:pt x="0" y="21600"/>
                    </a:lnTo>
                    <a:close/>
                  </a:path>
                  <a:path fill="lightenLess" w="64081" h="21600">
                    <a:moveTo>
                      <a:pt x="0" y="0"/>
                    </a:moveTo>
                    <a:lnTo>
                      <a:pt x="64081" y="0"/>
                    </a:lnTo>
                    <a:lnTo>
                      <a:pt x="62681" y="1400"/>
                    </a:lnTo>
                    <a:lnTo>
                      <a:pt x="1400" y="1400"/>
                    </a:lnTo>
                    <a:close/>
                  </a:path>
                  <a:path fill="darken" w="64081" h="21600">
                    <a:moveTo>
                      <a:pt x="64081" y="0"/>
                    </a:moveTo>
                    <a:lnTo>
                      <a:pt x="64081" y="21600"/>
                    </a:lnTo>
                    <a:lnTo>
                      <a:pt x="62681" y="20200"/>
                    </a:lnTo>
                    <a:lnTo>
                      <a:pt x="62681" y="1400"/>
                    </a:lnTo>
                    <a:close/>
                  </a:path>
                  <a:path fill="darkenLess" w="64081" h="21600">
                    <a:moveTo>
                      <a:pt x="64081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62681" y="20200"/>
                    </a:lnTo>
                    <a:close/>
                  </a:path>
                  <a:path fill="lighten" w="64081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sato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>
                <a:hlinkClick r:id="" action="ppaction://hlinkshowjump?jump=previousslide"/>
              </p:cNvPr>
              <p:cNvSpPr/>
              <p:nvPr/>
            </p:nvSpPr>
            <p:spPr>
              <a:xfrm>
                <a:off x="6148440" y="565200"/>
                <a:ext cx="428400" cy="216000"/>
              </a:xfrm>
              <a:custGeom>
                <a:avLst/>
                <a:gdLst>
                  <a:gd name="textAreaLeft" fmla="*/ 13680 w 428400"/>
                  <a:gd name="textAreaRight" fmla="*/ 414720 w 428400"/>
                  <a:gd name="textAreaTop" fmla="*/ 13680 h 216000"/>
                  <a:gd name="textAreaBottom" fmla="*/ 202320 h 216000"/>
                </a:gdLst>
                <a:ahLst/>
                <a:rect l="textAreaLeft" t="textAreaTop" r="textAreaRight" b="textAreaBottom"/>
                <a:pathLst>
                  <a:path w="42805" h="21600">
                    <a:moveTo>
                      <a:pt x="0" y="0"/>
                    </a:moveTo>
                    <a:lnTo>
                      <a:pt x="42805" y="0"/>
                    </a:lnTo>
                    <a:lnTo>
                      <a:pt x="42805" y="21600"/>
                    </a:lnTo>
                    <a:lnTo>
                      <a:pt x="0" y="21600"/>
                    </a:lnTo>
                    <a:close/>
                  </a:path>
                  <a:path fill="lightenLess" w="42805" h="21600">
                    <a:moveTo>
                      <a:pt x="0" y="0"/>
                    </a:moveTo>
                    <a:lnTo>
                      <a:pt x="42805" y="0"/>
                    </a:lnTo>
                    <a:lnTo>
                      <a:pt x="41405" y="1400"/>
                    </a:lnTo>
                    <a:lnTo>
                      <a:pt x="1400" y="1400"/>
                    </a:lnTo>
                    <a:close/>
                  </a:path>
                  <a:path fill="darken" w="42805" h="21600">
                    <a:moveTo>
                      <a:pt x="42805" y="0"/>
                    </a:moveTo>
                    <a:lnTo>
                      <a:pt x="42805" y="21600"/>
                    </a:lnTo>
                    <a:lnTo>
                      <a:pt x="41405" y="20200"/>
                    </a:lnTo>
                    <a:lnTo>
                      <a:pt x="41405" y="1400"/>
                    </a:lnTo>
                    <a:close/>
                  </a:path>
                  <a:path fill="darkenLess" w="42805" h="21600">
                    <a:moveTo>
                      <a:pt x="42805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41405" y="20200"/>
                    </a:lnTo>
                    <a:close/>
                  </a:path>
                  <a:path fill="lighten" w="42805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2805" h="21600">
                    <a:moveTo>
                      <a:pt x="14396" y="10800"/>
                    </a:moveTo>
                    <a:lnTo>
                      <a:pt x="28409" y="3794"/>
                    </a:lnTo>
                    <a:lnTo>
                      <a:pt x="28409" y="1780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lőző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>
                <a:hlinkClick r:id="" action="ppaction://hlinkshowjump?jump=nextslide"/>
              </p:cNvPr>
              <p:cNvSpPr/>
              <p:nvPr/>
            </p:nvSpPr>
            <p:spPr>
              <a:xfrm>
                <a:off x="6647040" y="565200"/>
                <a:ext cx="428400" cy="216000"/>
              </a:xfrm>
              <a:custGeom>
                <a:avLst/>
                <a:gdLst>
                  <a:gd name="textAreaLeft" fmla="*/ 13680 w 428400"/>
                  <a:gd name="textAreaRight" fmla="*/ 414720 w 428400"/>
                  <a:gd name="textAreaTop" fmla="*/ 13680 h 216000"/>
                  <a:gd name="textAreaBottom" fmla="*/ 202320 h 216000"/>
                </a:gdLst>
                <a:ahLst/>
                <a:rect l="textAreaLeft" t="textAreaTop" r="textAreaRight" b="textAreaBottom"/>
                <a:pathLst>
                  <a:path w="42805" h="21600">
                    <a:moveTo>
                      <a:pt x="0" y="0"/>
                    </a:moveTo>
                    <a:lnTo>
                      <a:pt x="42805" y="0"/>
                    </a:lnTo>
                    <a:lnTo>
                      <a:pt x="42805" y="21600"/>
                    </a:lnTo>
                    <a:lnTo>
                      <a:pt x="0" y="21600"/>
                    </a:lnTo>
                    <a:close/>
                  </a:path>
                  <a:path fill="lightenLess" w="42805" h="21600">
                    <a:moveTo>
                      <a:pt x="0" y="0"/>
                    </a:moveTo>
                    <a:lnTo>
                      <a:pt x="42805" y="0"/>
                    </a:lnTo>
                    <a:lnTo>
                      <a:pt x="41405" y="1400"/>
                    </a:lnTo>
                    <a:lnTo>
                      <a:pt x="1400" y="1400"/>
                    </a:lnTo>
                    <a:close/>
                  </a:path>
                  <a:path fill="darken" w="42805" h="21600">
                    <a:moveTo>
                      <a:pt x="42805" y="0"/>
                    </a:moveTo>
                    <a:lnTo>
                      <a:pt x="42805" y="21600"/>
                    </a:lnTo>
                    <a:lnTo>
                      <a:pt x="41405" y="20200"/>
                    </a:lnTo>
                    <a:lnTo>
                      <a:pt x="41405" y="1400"/>
                    </a:lnTo>
                    <a:close/>
                  </a:path>
                  <a:path fill="darkenLess" w="42805" h="21600">
                    <a:moveTo>
                      <a:pt x="42805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41405" y="20200"/>
                    </a:lnTo>
                    <a:close/>
                  </a:path>
                  <a:path fill="lighten" w="42805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2805" h="21600">
                    <a:moveTo>
                      <a:pt x="14396" y="3794"/>
                    </a:moveTo>
                    <a:lnTo>
                      <a:pt x="28409" y="10800"/>
                    </a:lnTo>
                    <a:lnTo>
                      <a:pt x="14396" y="1780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Következő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>
                <a:hlinkClick r:id="" action="ppaction://hlinkshowjump?jump=firstslide"/>
              </p:cNvPr>
              <p:cNvSpPr/>
              <p:nvPr/>
            </p:nvSpPr>
            <p:spPr>
              <a:xfrm>
                <a:off x="5649840" y="565200"/>
                <a:ext cx="426960" cy="216000"/>
              </a:xfrm>
              <a:custGeom>
                <a:avLst/>
                <a:gdLst>
                  <a:gd name="textAreaLeft" fmla="*/ 13680 w 426960"/>
                  <a:gd name="textAreaRight" fmla="*/ 413280 w 426960"/>
                  <a:gd name="textAreaTop" fmla="*/ 13680 h 216000"/>
                  <a:gd name="textAreaBottom" fmla="*/ 202320 h 216000"/>
                </a:gdLst>
                <a:ahLst/>
                <a:rect l="textAreaLeft" t="textAreaTop" r="textAreaRight" b="textAreaBottom"/>
                <a:pathLst>
                  <a:path w="42661" h="21600">
                    <a:moveTo>
                      <a:pt x="0" y="0"/>
                    </a:moveTo>
                    <a:lnTo>
                      <a:pt x="42661" y="0"/>
                    </a:lnTo>
                    <a:lnTo>
                      <a:pt x="42661" y="21600"/>
                    </a:lnTo>
                    <a:lnTo>
                      <a:pt x="0" y="21600"/>
                    </a:lnTo>
                    <a:close/>
                  </a:path>
                  <a:path fill="lightenLess" w="42661" h="21600">
                    <a:moveTo>
                      <a:pt x="0" y="0"/>
                    </a:moveTo>
                    <a:lnTo>
                      <a:pt x="42661" y="0"/>
                    </a:lnTo>
                    <a:lnTo>
                      <a:pt x="41261" y="1400"/>
                    </a:lnTo>
                    <a:lnTo>
                      <a:pt x="1400" y="1400"/>
                    </a:lnTo>
                    <a:close/>
                  </a:path>
                  <a:path fill="darken" w="42661" h="21600">
                    <a:moveTo>
                      <a:pt x="42661" y="0"/>
                    </a:moveTo>
                    <a:lnTo>
                      <a:pt x="42661" y="21600"/>
                    </a:lnTo>
                    <a:lnTo>
                      <a:pt x="41261" y="20200"/>
                    </a:lnTo>
                    <a:lnTo>
                      <a:pt x="41261" y="1400"/>
                    </a:lnTo>
                    <a:close/>
                  </a:path>
                  <a:path fill="darkenLess" w="42661" h="21600">
                    <a:moveTo>
                      <a:pt x="42661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41261" y="20200"/>
                    </a:lnTo>
                    <a:close/>
                  </a:path>
                  <a:path fill="lighten" w="42661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2661" h="21600">
                    <a:moveTo>
                      <a:pt x="17832" y="10800"/>
                    </a:moveTo>
                    <a:lnTo>
                      <a:pt x="28337" y="3794"/>
                    </a:lnTo>
                    <a:lnTo>
                      <a:pt x="28337" y="17806"/>
                    </a:lnTo>
                    <a:close/>
                  </a:path>
                  <a:path fill="darken" w="42661" h="21600">
                    <a:moveTo>
                      <a:pt x="14324" y="3794"/>
                    </a:moveTo>
                    <a:lnTo>
                      <a:pt x="15986" y="3794"/>
                    </a:lnTo>
                    <a:lnTo>
                      <a:pt x="15986" y="17806"/>
                    </a:lnTo>
                    <a:lnTo>
                      <a:pt x="14324" y="1780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lső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>
                <a:hlinkClick r:id="" action="ppaction://hlinkshowjump?jump=lastslide"/>
              </p:cNvPr>
              <p:cNvSpPr/>
              <p:nvPr/>
            </p:nvSpPr>
            <p:spPr>
              <a:xfrm>
                <a:off x="7147080" y="565200"/>
                <a:ext cx="428400" cy="216000"/>
              </a:xfrm>
              <a:custGeom>
                <a:avLst/>
                <a:gdLst>
                  <a:gd name="textAreaLeft" fmla="*/ 13680 w 428400"/>
                  <a:gd name="textAreaRight" fmla="*/ 414720 w 428400"/>
                  <a:gd name="textAreaTop" fmla="*/ 13680 h 216000"/>
                  <a:gd name="textAreaBottom" fmla="*/ 202320 h 216000"/>
                </a:gdLst>
                <a:ahLst/>
                <a:rect l="textAreaLeft" t="textAreaTop" r="textAreaRight" b="textAreaBottom"/>
                <a:pathLst>
                  <a:path w="42805" h="21600">
                    <a:moveTo>
                      <a:pt x="0" y="0"/>
                    </a:moveTo>
                    <a:lnTo>
                      <a:pt x="42805" y="0"/>
                    </a:lnTo>
                    <a:lnTo>
                      <a:pt x="42805" y="21600"/>
                    </a:lnTo>
                    <a:lnTo>
                      <a:pt x="0" y="21600"/>
                    </a:lnTo>
                    <a:close/>
                  </a:path>
                  <a:path fill="lightenLess" w="42805" h="21600">
                    <a:moveTo>
                      <a:pt x="0" y="0"/>
                    </a:moveTo>
                    <a:lnTo>
                      <a:pt x="42805" y="0"/>
                    </a:lnTo>
                    <a:lnTo>
                      <a:pt x="41405" y="1400"/>
                    </a:lnTo>
                    <a:lnTo>
                      <a:pt x="1400" y="1400"/>
                    </a:lnTo>
                    <a:close/>
                  </a:path>
                  <a:path fill="darken" w="42805" h="21600">
                    <a:moveTo>
                      <a:pt x="42805" y="0"/>
                    </a:moveTo>
                    <a:lnTo>
                      <a:pt x="42805" y="21600"/>
                    </a:lnTo>
                    <a:lnTo>
                      <a:pt x="41405" y="20200"/>
                    </a:lnTo>
                    <a:lnTo>
                      <a:pt x="41405" y="1400"/>
                    </a:lnTo>
                    <a:close/>
                  </a:path>
                  <a:path fill="darkenLess" w="42805" h="21600">
                    <a:moveTo>
                      <a:pt x="42805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41405" y="20200"/>
                    </a:lnTo>
                    <a:close/>
                  </a:path>
                  <a:path fill="lighten" w="42805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2805" h="21600">
                    <a:moveTo>
                      <a:pt x="24901" y="10800"/>
                    </a:moveTo>
                    <a:lnTo>
                      <a:pt x="14396" y="17806"/>
                    </a:lnTo>
                    <a:lnTo>
                      <a:pt x="14396" y="3794"/>
                    </a:lnTo>
                    <a:close/>
                  </a:path>
                  <a:path fill="darken" w="42805" h="21600">
                    <a:moveTo>
                      <a:pt x="26746" y="3794"/>
                    </a:moveTo>
                    <a:lnTo>
                      <a:pt x="26746" y="17806"/>
                    </a:lnTo>
                    <a:lnTo>
                      <a:pt x="28409" y="17806"/>
                    </a:lnTo>
                    <a:lnTo>
                      <a:pt x="28409" y="3794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tolsó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226040" y="1441440"/>
                <a:ext cx="284040" cy="217440"/>
              </a:xfrm>
              <a:custGeom>
                <a:avLst/>
                <a:gdLst>
                  <a:gd name="textAreaLeft" fmla="*/ 14040 w 284040"/>
                  <a:gd name="textAreaRight" fmla="*/ 270000 w 284040"/>
                  <a:gd name="textAreaTop" fmla="*/ 14040 h 217440"/>
                  <a:gd name="textAreaBottom" fmla="*/ 203400 h 217440"/>
                </a:gdLst>
                <a:ahLst/>
                <a:rect l="textAreaLeft" t="textAreaTop" r="textAreaRight" b="textAreaBottom"/>
                <a:pathLst>
                  <a:path w="28205" h="21600">
                    <a:moveTo>
                      <a:pt x="0" y="0"/>
                    </a:moveTo>
                    <a:lnTo>
                      <a:pt x="28205" y="0"/>
                    </a:lnTo>
                    <a:lnTo>
                      <a:pt x="28205" y="21600"/>
                    </a:lnTo>
                    <a:lnTo>
                      <a:pt x="0" y="21600"/>
                    </a:lnTo>
                    <a:close/>
                  </a:path>
                  <a:path fill="lightenLess" w="28205" h="21600">
                    <a:moveTo>
                      <a:pt x="0" y="0"/>
                    </a:moveTo>
                    <a:lnTo>
                      <a:pt x="28205" y="0"/>
                    </a:lnTo>
                    <a:lnTo>
                      <a:pt x="26805" y="1400"/>
                    </a:lnTo>
                    <a:lnTo>
                      <a:pt x="1400" y="1400"/>
                    </a:lnTo>
                    <a:close/>
                  </a:path>
                  <a:path fill="darken" w="28205" h="21600">
                    <a:moveTo>
                      <a:pt x="28205" y="0"/>
                    </a:moveTo>
                    <a:lnTo>
                      <a:pt x="28205" y="21600"/>
                    </a:lnTo>
                    <a:lnTo>
                      <a:pt x="26805" y="20200"/>
                    </a:lnTo>
                    <a:lnTo>
                      <a:pt x="26805" y="1400"/>
                    </a:lnTo>
                    <a:close/>
                  </a:path>
                  <a:path fill="darkenLess" w="28205" h="21600">
                    <a:moveTo>
                      <a:pt x="28205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6805" y="20200"/>
                    </a:lnTo>
                    <a:close/>
                  </a:path>
                  <a:path fill="lighten" w="28205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34040" y="1441440"/>
                <a:ext cx="72720" cy="217440"/>
              </a:xfrm>
              <a:prstGeom prst="downArrow">
                <a:avLst>
                  <a:gd name="adj1" fmla="val 50000"/>
                  <a:gd name="adj2" fmla="val 74752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11520" y="1441440"/>
                <a:ext cx="284400" cy="217440"/>
              </a:xfrm>
              <a:custGeom>
                <a:avLst/>
                <a:gdLst>
                  <a:gd name="textAreaLeft" fmla="*/ 14040 w 284400"/>
                  <a:gd name="textAreaRight" fmla="*/ 270360 w 284400"/>
                  <a:gd name="textAreaTop" fmla="*/ 14040 h 217440"/>
                  <a:gd name="textAreaBottom" fmla="*/ 203400 h 217440"/>
                </a:gdLst>
                <a:ahLst/>
                <a:rect l="textAreaLeft" t="textAreaTop" r="textAreaRight" b="textAreaBottom"/>
                <a:pathLst>
                  <a:path w="28241" h="21600">
                    <a:moveTo>
                      <a:pt x="0" y="0"/>
                    </a:moveTo>
                    <a:lnTo>
                      <a:pt x="28241" y="0"/>
                    </a:lnTo>
                    <a:lnTo>
                      <a:pt x="28241" y="21600"/>
                    </a:lnTo>
                    <a:lnTo>
                      <a:pt x="0" y="21600"/>
                    </a:lnTo>
                    <a:close/>
                  </a:path>
                  <a:path fill="lightenLess" w="28241" h="21600">
                    <a:moveTo>
                      <a:pt x="0" y="0"/>
                    </a:moveTo>
                    <a:lnTo>
                      <a:pt x="28241" y="0"/>
                    </a:lnTo>
                    <a:lnTo>
                      <a:pt x="26841" y="1400"/>
                    </a:lnTo>
                    <a:lnTo>
                      <a:pt x="1400" y="1400"/>
                    </a:lnTo>
                    <a:close/>
                  </a:path>
                  <a:path fill="darken" w="28241" h="21600">
                    <a:moveTo>
                      <a:pt x="28241" y="0"/>
                    </a:moveTo>
                    <a:lnTo>
                      <a:pt x="28241" y="21600"/>
                    </a:lnTo>
                    <a:lnTo>
                      <a:pt x="26841" y="20200"/>
                    </a:lnTo>
                    <a:lnTo>
                      <a:pt x="26841" y="1400"/>
                    </a:lnTo>
                    <a:close/>
                  </a:path>
                  <a:path fill="darkenLess" w="28241" h="21600">
                    <a:moveTo>
                      <a:pt x="28241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6841" y="20200"/>
                    </a:lnTo>
                    <a:close/>
                  </a:path>
                  <a:path fill="lighten" w="28241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8241" h="21600">
                    <a:moveTo>
                      <a:pt x="14120" y="3794"/>
                    </a:moveTo>
                    <a:arcTo wR="7006" hR="7006" stAng="16200000" swAng="-5400000"/>
                    <a:arcTo wR="7006" hR="7006" stAng="10800000" swAng="-5400000"/>
                    <a:arcTo wR="7006" hR="7006" stAng="5400000" swAng="-5400000"/>
                    <a:arcTo wR="7006" hR="7006" stAng="0" swAng="-5400000"/>
                    <a:close/>
                  </a:path>
                  <a:path fill="lighten" w="28241" h="21600">
                    <a:moveTo>
                      <a:pt x="14120" y="4168"/>
                    </a:moveTo>
                    <a:arcTo wR="1793" hR="1793" stAng="16200000" swAng="-5400000"/>
                    <a:arcTo wR="1793" hR="1793" stAng="10800000" swAng="-5400000"/>
                    <a:arcTo wR="1793" hR="1793" stAng="5400000" swAng="-5400000"/>
                    <a:arcTo wR="1793" hR="1793" stAng="0" swAng="-5400000"/>
                    <a:close/>
                  </a:path>
                  <a:path fill="lighten" w="28241" h="21600">
                    <a:moveTo>
                      <a:pt x="11544" y="8224"/>
                    </a:moveTo>
                    <a:lnTo>
                      <a:pt x="15408" y="8224"/>
                    </a:lnTo>
                    <a:lnTo>
                      <a:pt x="15408" y="15221"/>
                    </a:lnTo>
                    <a:lnTo>
                      <a:pt x="16697" y="15221"/>
                    </a:lnTo>
                    <a:lnTo>
                      <a:pt x="16697" y="16144"/>
                    </a:lnTo>
                    <a:lnTo>
                      <a:pt x="11544" y="16144"/>
                    </a:lnTo>
                    <a:lnTo>
                      <a:pt x="11544" y="15221"/>
                    </a:lnTo>
                    <a:lnTo>
                      <a:pt x="12832" y="15221"/>
                    </a:lnTo>
                    <a:lnTo>
                      <a:pt x="12832" y="9129"/>
                    </a:lnTo>
                    <a:lnTo>
                      <a:pt x="11544" y="912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571920" y="189000"/>
                <a:ext cx="2457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Partnerek, ügyfelek… (Ügyfelek, view501_1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078880" y="861840"/>
                <a:ext cx="8085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Ügyfél jelle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864400" y="861840"/>
                <a:ext cx="1711080" cy="21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Ugyfeljelleg</a:t>
                </a:r>
                <a:r>
                  <a:rPr b="0" lang="hu-HU" sz="9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Q412 kodenev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>
                <a:hlinkClick r:id="" action="ppaction://hlinkshowjump?jump=previousslide"/>
              </p:cNvPr>
              <p:cNvSpPr/>
              <p:nvPr/>
            </p:nvSpPr>
            <p:spPr>
              <a:xfrm rot="16200000">
                <a:off x="7607160" y="1101600"/>
                <a:ext cx="217440" cy="284040"/>
              </a:xfrm>
              <a:custGeom>
                <a:avLst/>
                <a:gdLst>
                  <a:gd name="textAreaLeft" fmla="*/ 14040 w 217440"/>
                  <a:gd name="textAreaRight" fmla="*/ 203400 w 217440"/>
                  <a:gd name="textAreaTop" fmla="*/ 14040 h 284040"/>
                  <a:gd name="textAreaBottom" fmla="*/ 270000 h 284040"/>
                </a:gdLst>
                <a:ahLst/>
                <a:rect l="textAreaLeft" t="textAreaTop" r="textAreaRight" b="textAreaBottom"/>
                <a:pathLst>
                  <a:path w="21600" h="28205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8205"/>
                    </a:lnTo>
                    <a:lnTo>
                      <a:pt x="0" y="28205"/>
                    </a:lnTo>
                    <a:close/>
                  </a:path>
                  <a:path fill="lightenLess" w="21600" h="28205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8205">
                    <a:moveTo>
                      <a:pt x="21600" y="0"/>
                    </a:moveTo>
                    <a:lnTo>
                      <a:pt x="21600" y="28205"/>
                    </a:lnTo>
                    <a:lnTo>
                      <a:pt x="20200" y="26805"/>
                    </a:lnTo>
                    <a:lnTo>
                      <a:pt x="20200" y="1400"/>
                    </a:lnTo>
                    <a:close/>
                  </a:path>
                  <a:path fill="darkenLess" w="21600" h="28205">
                    <a:moveTo>
                      <a:pt x="21600" y="28205"/>
                    </a:moveTo>
                    <a:lnTo>
                      <a:pt x="0" y="28205"/>
                    </a:lnTo>
                    <a:lnTo>
                      <a:pt x="1400" y="26805"/>
                    </a:lnTo>
                    <a:lnTo>
                      <a:pt x="20200" y="26805"/>
                    </a:lnTo>
                    <a:close/>
                  </a:path>
                  <a:path fill="lighten" w="21600" h="28205">
                    <a:moveTo>
                      <a:pt x="0" y="28205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6805"/>
                    </a:lnTo>
                    <a:close/>
                  </a:path>
                  <a:path fill="darken" w="21600" h="28205">
                    <a:moveTo>
                      <a:pt x="3794" y="14102"/>
                    </a:moveTo>
                    <a:lnTo>
                      <a:pt x="17806" y="7096"/>
                    </a:lnTo>
                    <a:lnTo>
                      <a:pt x="17806" y="2110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77800" y="1135080"/>
                <a:ext cx="782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Ügyfél tipu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862600" y="1135080"/>
                <a:ext cx="171144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ugyfeltipusa</a:t>
                </a:r>
                <a:r>
                  <a:rPr b="0" lang="hu-HU" sz="9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Q204 kodenev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>
                <a:hlinkClick r:id="" action="ppaction://hlinkshowjump?jump=previousslide"/>
              </p:cNvPr>
              <p:cNvSpPr/>
              <p:nvPr/>
            </p:nvSpPr>
            <p:spPr>
              <a:xfrm rot="16200000">
                <a:off x="7608960" y="1365120"/>
                <a:ext cx="217440" cy="284400"/>
              </a:xfrm>
              <a:custGeom>
                <a:avLst/>
                <a:gdLst>
                  <a:gd name="textAreaLeft" fmla="*/ 14040 w 217440"/>
                  <a:gd name="textAreaRight" fmla="*/ 203400 w 217440"/>
                  <a:gd name="textAreaTop" fmla="*/ 14040 h 284400"/>
                  <a:gd name="textAreaBottom" fmla="*/ 270360 h 284400"/>
                </a:gdLst>
                <a:ahLst/>
                <a:rect l="textAreaLeft" t="textAreaTop" r="textAreaRight" b="textAreaBottom"/>
                <a:pathLst>
                  <a:path w="21600" h="28241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8241"/>
                    </a:lnTo>
                    <a:lnTo>
                      <a:pt x="0" y="28241"/>
                    </a:lnTo>
                    <a:close/>
                  </a:path>
                  <a:path fill="lightenLess" w="21600" h="28241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8241">
                    <a:moveTo>
                      <a:pt x="21600" y="0"/>
                    </a:moveTo>
                    <a:lnTo>
                      <a:pt x="21600" y="28241"/>
                    </a:lnTo>
                    <a:lnTo>
                      <a:pt x="20200" y="26841"/>
                    </a:lnTo>
                    <a:lnTo>
                      <a:pt x="20200" y="1400"/>
                    </a:lnTo>
                    <a:close/>
                  </a:path>
                  <a:path fill="darkenLess" w="21600" h="28241">
                    <a:moveTo>
                      <a:pt x="21600" y="28241"/>
                    </a:moveTo>
                    <a:lnTo>
                      <a:pt x="0" y="28241"/>
                    </a:lnTo>
                    <a:lnTo>
                      <a:pt x="1400" y="26841"/>
                    </a:lnTo>
                    <a:lnTo>
                      <a:pt x="20200" y="26841"/>
                    </a:lnTo>
                    <a:close/>
                  </a:path>
                  <a:path fill="lighten" w="21600" h="28241">
                    <a:moveTo>
                      <a:pt x="0" y="28241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6841"/>
                    </a:lnTo>
                    <a:close/>
                  </a:path>
                  <a:path fill="darken" w="21600" h="28241">
                    <a:moveTo>
                      <a:pt x="3794" y="14120"/>
                    </a:moveTo>
                    <a:lnTo>
                      <a:pt x="17806" y="7114"/>
                    </a:lnTo>
                    <a:lnTo>
                      <a:pt x="17806" y="2112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935960" y="1398600"/>
                <a:ext cx="916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Ügyfél csopor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864400" y="1398600"/>
                <a:ext cx="171108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Ugyfelcsopid</a:t>
                </a:r>
                <a:r>
                  <a:rPr b="0" lang="hu-HU" sz="8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 ugyfelcsop/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csoportnev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>
                <a:hlinkClick r:id="" action="ppaction://hlinkshowjump?jump=previousslide"/>
              </p:cNvPr>
              <p:cNvSpPr/>
              <p:nvPr/>
            </p:nvSpPr>
            <p:spPr>
              <a:xfrm rot="16200000">
                <a:off x="7608960" y="1639800"/>
                <a:ext cx="217440" cy="284400"/>
              </a:xfrm>
              <a:custGeom>
                <a:avLst/>
                <a:gdLst>
                  <a:gd name="textAreaLeft" fmla="*/ 14040 w 217440"/>
                  <a:gd name="textAreaRight" fmla="*/ 203400 w 217440"/>
                  <a:gd name="textAreaTop" fmla="*/ 14040 h 284400"/>
                  <a:gd name="textAreaBottom" fmla="*/ 270360 h 284400"/>
                </a:gdLst>
                <a:ahLst/>
                <a:rect l="textAreaLeft" t="textAreaTop" r="textAreaRight" b="textAreaBottom"/>
                <a:pathLst>
                  <a:path w="21600" h="28241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8241"/>
                    </a:lnTo>
                    <a:lnTo>
                      <a:pt x="0" y="28241"/>
                    </a:lnTo>
                    <a:close/>
                  </a:path>
                  <a:path fill="lightenLess" w="21600" h="28241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8241">
                    <a:moveTo>
                      <a:pt x="21600" y="0"/>
                    </a:moveTo>
                    <a:lnTo>
                      <a:pt x="21600" y="28241"/>
                    </a:lnTo>
                    <a:lnTo>
                      <a:pt x="20200" y="26841"/>
                    </a:lnTo>
                    <a:lnTo>
                      <a:pt x="20200" y="1400"/>
                    </a:lnTo>
                    <a:close/>
                  </a:path>
                  <a:path fill="darkenLess" w="21600" h="28241">
                    <a:moveTo>
                      <a:pt x="21600" y="28241"/>
                    </a:moveTo>
                    <a:lnTo>
                      <a:pt x="0" y="28241"/>
                    </a:lnTo>
                    <a:lnTo>
                      <a:pt x="1400" y="26841"/>
                    </a:lnTo>
                    <a:lnTo>
                      <a:pt x="20200" y="26841"/>
                    </a:lnTo>
                    <a:close/>
                  </a:path>
                  <a:path fill="lighten" w="21600" h="28241">
                    <a:moveTo>
                      <a:pt x="0" y="28241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6841"/>
                    </a:lnTo>
                    <a:close/>
                  </a:path>
                  <a:path fill="darken" w="21600" h="28241">
                    <a:moveTo>
                      <a:pt x="3794" y="14120"/>
                    </a:moveTo>
                    <a:lnTo>
                      <a:pt x="17806" y="7114"/>
                    </a:lnTo>
                    <a:lnTo>
                      <a:pt x="17806" y="2112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842360" y="1673280"/>
                <a:ext cx="1031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Ügyfél minősíté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864400" y="1673280"/>
                <a:ext cx="171108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ugyfelminosites</a:t>
                </a:r>
                <a:r>
                  <a:rPr b="0" lang="hu-HU" sz="8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Q229 kodenev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86880" y="1711440"/>
                <a:ext cx="839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elefonszá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519200" y="1709640"/>
                <a:ext cx="199548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ugyfelte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6760" y="2021040"/>
                <a:ext cx="678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ax szá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15960" y="2021040"/>
                <a:ext cx="199548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ugyfelfax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79040" y="2286000"/>
                <a:ext cx="683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mail cí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06600" y="2286000"/>
                <a:ext cx="199548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ugyfelemai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794840" y="2021040"/>
                <a:ext cx="1081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ankszámlaszá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62600" y="2021040"/>
                <a:ext cx="199548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ugyfelbankszaml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198040" y="2311560"/>
                <a:ext cx="659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dószá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862600" y="2311560"/>
                <a:ext cx="1995480" cy="21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ugyfeladosza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>
                <a:hlinkClick r:id="" action="ppaction://hlinkshowjump?jump=previousslide"/>
              </p:cNvPr>
              <p:cNvSpPr/>
              <p:nvPr/>
            </p:nvSpPr>
            <p:spPr>
              <a:xfrm rot="16200000">
                <a:off x="3236760" y="2550960"/>
                <a:ext cx="217440" cy="284040"/>
              </a:xfrm>
              <a:custGeom>
                <a:avLst/>
                <a:gdLst>
                  <a:gd name="textAreaLeft" fmla="*/ 14040 w 217440"/>
                  <a:gd name="textAreaRight" fmla="*/ 203400 w 217440"/>
                  <a:gd name="textAreaTop" fmla="*/ 14040 h 284040"/>
                  <a:gd name="textAreaBottom" fmla="*/ 270000 h 284040"/>
                </a:gdLst>
                <a:ahLst/>
                <a:rect l="textAreaLeft" t="textAreaTop" r="textAreaRight" b="textAreaBottom"/>
                <a:pathLst>
                  <a:path w="21600" h="28205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8205"/>
                    </a:lnTo>
                    <a:lnTo>
                      <a:pt x="0" y="28205"/>
                    </a:lnTo>
                    <a:close/>
                  </a:path>
                  <a:path fill="lightenLess" w="21600" h="28205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8205">
                    <a:moveTo>
                      <a:pt x="21600" y="0"/>
                    </a:moveTo>
                    <a:lnTo>
                      <a:pt x="21600" y="28205"/>
                    </a:lnTo>
                    <a:lnTo>
                      <a:pt x="20200" y="26805"/>
                    </a:lnTo>
                    <a:lnTo>
                      <a:pt x="20200" y="1400"/>
                    </a:lnTo>
                    <a:close/>
                  </a:path>
                  <a:path fill="darkenLess" w="21600" h="28205">
                    <a:moveTo>
                      <a:pt x="21600" y="28205"/>
                    </a:moveTo>
                    <a:lnTo>
                      <a:pt x="0" y="28205"/>
                    </a:lnTo>
                    <a:lnTo>
                      <a:pt x="1400" y="26805"/>
                    </a:lnTo>
                    <a:lnTo>
                      <a:pt x="20200" y="26805"/>
                    </a:lnTo>
                    <a:close/>
                  </a:path>
                  <a:path fill="lighten" w="21600" h="28205">
                    <a:moveTo>
                      <a:pt x="0" y="28205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6805"/>
                    </a:lnTo>
                    <a:close/>
                  </a:path>
                  <a:path fill="darken" w="21600" h="28205">
                    <a:moveTo>
                      <a:pt x="3794" y="14102"/>
                    </a:moveTo>
                    <a:lnTo>
                      <a:pt x="17806" y="7096"/>
                    </a:lnTo>
                    <a:lnTo>
                      <a:pt x="17806" y="2110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66360" y="2600280"/>
                <a:ext cx="833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izetési mód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47640" y="2577960"/>
                <a:ext cx="1711440" cy="21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ugyfelfizmod</a:t>
                </a:r>
                <a:r>
                  <a:rPr b="0" lang="hu-HU" sz="9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Q200 kodenev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>
                <a:hlinkClick r:id="" action="ppaction://hlinkshowjump?jump=previousslide"/>
              </p:cNvPr>
              <p:cNvSpPr/>
              <p:nvPr/>
            </p:nvSpPr>
            <p:spPr>
              <a:xfrm rot="16200000">
                <a:off x="3975120" y="2857320"/>
                <a:ext cx="217440" cy="284400"/>
              </a:xfrm>
              <a:custGeom>
                <a:avLst/>
                <a:gdLst>
                  <a:gd name="textAreaLeft" fmla="*/ 14040 w 217440"/>
                  <a:gd name="textAreaRight" fmla="*/ 203400 w 217440"/>
                  <a:gd name="textAreaTop" fmla="*/ 14040 h 284400"/>
                  <a:gd name="textAreaBottom" fmla="*/ 270360 h 284400"/>
                </a:gdLst>
                <a:ahLst/>
                <a:rect l="textAreaLeft" t="textAreaTop" r="textAreaRight" b="textAreaBottom"/>
                <a:pathLst>
                  <a:path w="21600" h="28241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8241"/>
                    </a:lnTo>
                    <a:lnTo>
                      <a:pt x="0" y="28241"/>
                    </a:lnTo>
                    <a:close/>
                  </a:path>
                  <a:path fill="lightenLess" w="21600" h="28241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8241">
                    <a:moveTo>
                      <a:pt x="21600" y="0"/>
                    </a:moveTo>
                    <a:lnTo>
                      <a:pt x="21600" y="28241"/>
                    </a:lnTo>
                    <a:lnTo>
                      <a:pt x="20200" y="26841"/>
                    </a:lnTo>
                    <a:lnTo>
                      <a:pt x="20200" y="1400"/>
                    </a:lnTo>
                    <a:close/>
                  </a:path>
                  <a:path fill="darkenLess" w="21600" h="28241">
                    <a:moveTo>
                      <a:pt x="21600" y="28241"/>
                    </a:moveTo>
                    <a:lnTo>
                      <a:pt x="0" y="28241"/>
                    </a:lnTo>
                    <a:lnTo>
                      <a:pt x="1400" y="26841"/>
                    </a:lnTo>
                    <a:lnTo>
                      <a:pt x="20200" y="26841"/>
                    </a:lnTo>
                    <a:close/>
                  </a:path>
                  <a:path fill="lighten" w="21600" h="28241">
                    <a:moveTo>
                      <a:pt x="0" y="28241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6841"/>
                    </a:lnTo>
                    <a:close/>
                  </a:path>
                  <a:path fill="darken" w="21600" h="28241">
                    <a:moveTo>
                      <a:pt x="3794" y="14120"/>
                    </a:moveTo>
                    <a:lnTo>
                      <a:pt x="17806" y="7114"/>
                    </a:lnTo>
                    <a:lnTo>
                      <a:pt x="17806" y="2112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56280" y="2862360"/>
                <a:ext cx="846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Átutalási nap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230560" y="2890800"/>
                <a:ext cx="171108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ugyfelutalasdatefield</a:t>
                </a:r>
                <a:r>
                  <a:rPr b="0" lang="hu-HU" sz="8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Q kodenev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515960" y="2890800"/>
                <a:ext cx="712800" cy="219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ugyfelutala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819680" y="2600280"/>
                <a:ext cx="10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égjegyzékszá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70520" y="2600280"/>
                <a:ext cx="199548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ugyfelcegjegyzeksza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31160" y="3179880"/>
                <a:ext cx="750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nyja nev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503360" y="3179880"/>
                <a:ext cx="199692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ugyfelanyjanev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52400" y="3182760"/>
                <a:ext cx="712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Szül.hely.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083120" y="3182760"/>
                <a:ext cx="1995480" cy="21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ugyfelszuletesihel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041880" y="3174840"/>
                <a:ext cx="62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Szül.idő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673680" y="3184560"/>
                <a:ext cx="125892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ugyfelszuletesii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899720" y="4060800"/>
                <a:ext cx="3848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év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300400" y="4060800"/>
                <a:ext cx="199548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ugyfelkepvisel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360320" y="4060800"/>
                <a:ext cx="1090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Képviselő névnap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27720" y="4060800"/>
                <a:ext cx="1434960" cy="230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ugyfelkepviselonevnap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731960" y="4330800"/>
                <a:ext cx="5648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elef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00400" y="4349880"/>
                <a:ext cx="128412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ugyfelkepviselote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28920" y="4005360"/>
                <a:ext cx="5632200" cy="725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938480" y="4330800"/>
                <a:ext cx="467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mai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450040" y="4349880"/>
                <a:ext cx="141264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ugyfelkepviseloemai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18480" y="3745080"/>
                <a:ext cx="1058400" cy="231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Képviselő adatok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6040" y="5056200"/>
                <a:ext cx="50004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ugyfelirsz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971280" y="5056200"/>
                <a:ext cx="476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áros: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34960" y="5056200"/>
                <a:ext cx="142092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ugyfelvaro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39560" y="5418000"/>
                <a:ext cx="642960" cy="21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ugyfelutc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015560" y="5418000"/>
                <a:ext cx="505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Közter: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434960" y="5418000"/>
                <a:ext cx="712800" cy="21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ugyfelkozterul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097720" y="5418000"/>
                <a:ext cx="66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Közter.jel.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641680" y="5346720"/>
                <a:ext cx="712800" cy="395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Ugyfelkozterul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jelleg</a:t>
                </a:r>
                <a:r>
                  <a:rPr b="0" lang="hu-HU" sz="8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Q232 kodenev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>
                <a:hlinkClick r:id="" action="ppaction://hlinkshowjump?jump=previousslide"/>
              </p:cNvPr>
              <p:cNvSpPr/>
              <p:nvPr/>
            </p:nvSpPr>
            <p:spPr>
              <a:xfrm rot="16200000">
                <a:off x="3388320" y="5302800"/>
                <a:ext cx="217800" cy="285480"/>
              </a:xfrm>
              <a:custGeom>
                <a:avLst/>
                <a:gdLst>
                  <a:gd name="textAreaLeft" fmla="*/ 14040 w 217800"/>
                  <a:gd name="textAreaRight" fmla="*/ 203760 w 217800"/>
                  <a:gd name="textAreaTop" fmla="*/ 14040 h 285480"/>
                  <a:gd name="textAreaBottom" fmla="*/ 271440 h 285480"/>
                </a:gdLst>
                <a:ahLst/>
                <a:rect l="textAreaLeft" t="textAreaTop" r="textAreaRight" b="textAreaBottom"/>
                <a:pathLst>
                  <a:path w="21600" h="28301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8301"/>
                    </a:lnTo>
                    <a:lnTo>
                      <a:pt x="0" y="28301"/>
                    </a:lnTo>
                    <a:close/>
                  </a:path>
                  <a:path fill="lightenLess" w="21600" h="28301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8301">
                    <a:moveTo>
                      <a:pt x="21600" y="0"/>
                    </a:moveTo>
                    <a:lnTo>
                      <a:pt x="21600" y="28301"/>
                    </a:lnTo>
                    <a:lnTo>
                      <a:pt x="20200" y="26901"/>
                    </a:lnTo>
                    <a:lnTo>
                      <a:pt x="20200" y="1400"/>
                    </a:lnTo>
                    <a:close/>
                  </a:path>
                  <a:path fill="darkenLess" w="21600" h="28301">
                    <a:moveTo>
                      <a:pt x="21600" y="28301"/>
                    </a:moveTo>
                    <a:lnTo>
                      <a:pt x="0" y="28301"/>
                    </a:lnTo>
                    <a:lnTo>
                      <a:pt x="1400" y="26901"/>
                    </a:lnTo>
                    <a:lnTo>
                      <a:pt x="20200" y="26901"/>
                    </a:lnTo>
                    <a:close/>
                  </a:path>
                  <a:path fill="lighten" w="21600" h="28301">
                    <a:moveTo>
                      <a:pt x="0" y="28301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6901"/>
                    </a:lnTo>
                    <a:close/>
                  </a:path>
                  <a:path fill="darken" w="21600" h="28301">
                    <a:moveTo>
                      <a:pt x="3794" y="14150"/>
                    </a:moveTo>
                    <a:lnTo>
                      <a:pt x="17806" y="7144"/>
                    </a:lnTo>
                    <a:lnTo>
                      <a:pt x="17806" y="2115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952960" y="2874960"/>
                <a:ext cx="1070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Ügyfél érvényes?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96240" y="2862360"/>
                <a:ext cx="927000" cy="23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ugyfelerveny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33440" y="5853240"/>
                <a:ext cx="71280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ugyfelhazsza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102320" y="5853240"/>
                <a:ext cx="363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Em: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441440" y="5853240"/>
                <a:ext cx="64296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ugyfelemel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001240" y="5853240"/>
                <a:ext cx="386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jtó: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40000" y="5853240"/>
                <a:ext cx="50004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ugyfelajt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639960" y="4989600"/>
                <a:ext cx="2795760" cy="123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644280" y="4746600"/>
                <a:ext cx="877320" cy="231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Értesítési cí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583080" y="5062680"/>
                <a:ext cx="404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Irsz.: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938760" y="5062680"/>
                <a:ext cx="49824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ugyfeirsz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462200" y="5062680"/>
                <a:ext cx="476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áros: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925880" y="5062680"/>
                <a:ext cx="142092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ugyfertlvaro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593520" y="5424480"/>
                <a:ext cx="420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tca: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932280" y="5424480"/>
                <a:ext cx="64296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ugyfertutc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599000" y="5427720"/>
                <a:ext cx="415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sz.: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938840" y="5427720"/>
                <a:ext cx="71280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ugyferthazsza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618720" y="5791320"/>
                <a:ext cx="363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Em: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57480" y="5791320"/>
                <a:ext cx="64152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ugyfertemele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620600" y="5791320"/>
                <a:ext cx="386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jtó: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959360" y="5791320"/>
                <a:ext cx="50004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ugyfertajt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438960" y="4983120"/>
                <a:ext cx="2705040" cy="123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442920" y="4740120"/>
                <a:ext cx="680760" cy="231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elephel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738840" y="5056200"/>
                <a:ext cx="49860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Ugyfelszal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irsz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19800" y="5056200"/>
                <a:ext cx="476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áros: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683480" y="5056200"/>
                <a:ext cx="142092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ugyfelszallvaro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392520" y="5418000"/>
                <a:ext cx="654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tca/Hsz.: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016760" y="5418000"/>
                <a:ext cx="843120" cy="21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ugyfelszallutc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392880" y="5067360"/>
                <a:ext cx="404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Irsz.: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54800" y="6208560"/>
                <a:ext cx="794880" cy="231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gjegyzé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>
                <a:hlinkClick r:id="" action="ppaction://hlinkshowjump?jump=previousslide"/>
              </p:cNvPr>
              <p:cNvSpPr/>
              <p:nvPr/>
            </p:nvSpPr>
            <p:spPr>
              <a:xfrm rot="16200000">
                <a:off x="8956440" y="6713280"/>
                <a:ext cx="146160" cy="142920"/>
              </a:xfrm>
              <a:custGeom>
                <a:avLst/>
                <a:gdLst>
                  <a:gd name="textAreaLeft" fmla="*/ 9000 w 146160"/>
                  <a:gd name="textAreaRight" fmla="*/ 137160 w 146160"/>
                  <a:gd name="textAreaTop" fmla="*/ 9000 h 142920"/>
                  <a:gd name="textAreaBottom" fmla="*/ 133920 h 142920"/>
                </a:gdLst>
                <a:ahLst/>
                <a:rect l="textAreaLeft" t="textAreaTop" r="textAreaRight" b="textAreaBottom"/>
                <a:pathLst>
                  <a:path w="22088" h="21600">
                    <a:moveTo>
                      <a:pt x="0" y="0"/>
                    </a:moveTo>
                    <a:lnTo>
                      <a:pt x="22088" y="0"/>
                    </a:lnTo>
                    <a:lnTo>
                      <a:pt x="22088" y="21600"/>
                    </a:lnTo>
                    <a:lnTo>
                      <a:pt x="0" y="21600"/>
                    </a:lnTo>
                    <a:close/>
                  </a:path>
                  <a:path fill="lightenLess" w="22088" h="21600">
                    <a:moveTo>
                      <a:pt x="0" y="0"/>
                    </a:moveTo>
                    <a:lnTo>
                      <a:pt x="22088" y="0"/>
                    </a:lnTo>
                    <a:lnTo>
                      <a:pt x="20688" y="1400"/>
                    </a:lnTo>
                    <a:lnTo>
                      <a:pt x="1400" y="1400"/>
                    </a:lnTo>
                    <a:close/>
                  </a:path>
                  <a:path fill="darken" w="22088" h="21600">
                    <a:moveTo>
                      <a:pt x="22088" y="0"/>
                    </a:moveTo>
                    <a:lnTo>
                      <a:pt x="22088" y="21600"/>
                    </a:lnTo>
                    <a:lnTo>
                      <a:pt x="20688" y="20200"/>
                    </a:lnTo>
                    <a:lnTo>
                      <a:pt x="20688" y="1400"/>
                    </a:lnTo>
                    <a:close/>
                  </a:path>
                  <a:path fill="darkenLess" w="22088" h="21600">
                    <a:moveTo>
                      <a:pt x="22088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0688" y="20200"/>
                    </a:lnTo>
                    <a:close/>
                  </a:path>
                  <a:path fill="lighten" w="22088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2088" h="21600">
                    <a:moveTo>
                      <a:pt x="4038" y="10800"/>
                    </a:moveTo>
                    <a:lnTo>
                      <a:pt x="18051" y="3794"/>
                    </a:lnTo>
                    <a:lnTo>
                      <a:pt x="18051" y="1780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>
                <a:hlinkClick r:id="" action="ppaction://hlinkshowjump?jump=nextslide"/>
              </p:cNvPr>
              <p:cNvSpPr/>
              <p:nvPr/>
            </p:nvSpPr>
            <p:spPr>
              <a:xfrm rot="16200000">
                <a:off x="8957520" y="6496560"/>
                <a:ext cx="144360" cy="142920"/>
              </a:xfrm>
              <a:custGeom>
                <a:avLst/>
                <a:gdLst>
                  <a:gd name="textAreaLeft" fmla="*/ 9000 w 144360"/>
                  <a:gd name="textAreaRight" fmla="*/ 135360 w 144360"/>
                  <a:gd name="textAreaTop" fmla="*/ 9000 h 142920"/>
                  <a:gd name="textAreaBottom" fmla="*/ 133920 h 142920"/>
                </a:gdLst>
                <a:ahLst/>
                <a:rect l="textAreaLeft" t="textAreaTop" r="textAreaRight" b="textAreaBottom"/>
                <a:pathLst>
                  <a:path w="21817" h="21600">
                    <a:moveTo>
                      <a:pt x="0" y="0"/>
                    </a:moveTo>
                    <a:lnTo>
                      <a:pt x="21817" y="0"/>
                    </a:lnTo>
                    <a:lnTo>
                      <a:pt x="21817" y="21600"/>
                    </a:lnTo>
                    <a:lnTo>
                      <a:pt x="0" y="21600"/>
                    </a:lnTo>
                    <a:close/>
                  </a:path>
                  <a:path fill="lightenLess" w="21817" h="21600">
                    <a:moveTo>
                      <a:pt x="0" y="0"/>
                    </a:moveTo>
                    <a:lnTo>
                      <a:pt x="21817" y="0"/>
                    </a:lnTo>
                    <a:lnTo>
                      <a:pt x="20417" y="1400"/>
                    </a:lnTo>
                    <a:lnTo>
                      <a:pt x="1400" y="1400"/>
                    </a:lnTo>
                    <a:close/>
                  </a:path>
                  <a:path fill="darken" w="21817" h="21600">
                    <a:moveTo>
                      <a:pt x="21817" y="0"/>
                    </a:moveTo>
                    <a:lnTo>
                      <a:pt x="21817" y="21600"/>
                    </a:lnTo>
                    <a:lnTo>
                      <a:pt x="20417" y="20200"/>
                    </a:lnTo>
                    <a:lnTo>
                      <a:pt x="20417" y="1400"/>
                    </a:lnTo>
                    <a:close/>
                  </a:path>
                  <a:path fill="darkenLess" w="21817" h="21600">
                    <a:moveTo>
                      <a:pt x="21817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0417" y="20200"/>
                    </a:lnTo>
                    <a:close/>
                  </a:path>
                  <a:path fill="lighten" w="21817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1817" h="21600">
                    <a:moveTo>
                      <a:pt x="3902" y="3794"/>
                    </a:moveTo>
                    <a:lnTo>
                      <a:pt x="17915" y="10800"/>
                    </a:lnTo>
                    <a:lnTo>
                      <a:pt x="3902" y="1780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146840" y="2874960"/>
                <a:ext cx="10663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Válallkozói ig.sz.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095800" y="2874960"/>
                <a:ext cx="927000" cy="23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Ugyfelvallalkozo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800" spc="-1" strike="noStrike">
                    <a:solidFill>
                      <a:srgbClr val="000000"/>
                    </a:solidFill>
                    <a:latin typeface="Arial"/>
                  </a:rPr>
                  <a:t>igsza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9440" y="1150920"/>
                <a:ext cx="86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zületési név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515960" y="1150920"/>
                <a:ext cx="128268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ugyfelszulnev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99040" y="3435480"/>
                <a:ext cx="916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Kapcsolattartó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503360" y="3435480"/>
                <a:ext cx="199692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ugyfelkapcstart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40720" y="115920"/>
                <a:ext cx="105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KV EII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>
                <a:hlinkClick r:id="" action="ppaction://hlinkshowjump?jump=previousslide"/>
              </p:cNvPr>
              <p:cNvSpPr/>
              <p:nvPr/>
            </p:nvSpPr>
            <p:spPr>
              <a:xfrm rot="16200000">
                <a:off x="5829120" y="3414600"/>
                <a:ext cx="217440" cy="284040"/>
              </a:xfrm>
              <a:custGeom>
                <a:avLst/>
                <a:gdLst>
                  <a:gd name="textAreaLeft" fmla="*/ 14040 w 217440"/>
                  <a:gd name="textAreaRight" fmla="*/ 203400 w 217440"/>
                  <a:gd name="textAreaTop" fmla="*/ 14040 h 284040"/>
                  <a:gd name="textAreaBottom" fmla="*/ 270000 h 284040"/>
                </a:gdLst>
                <a:ahLst/>
                <a:rect l="textAreaLeft" t="textAreaTop" r="textAreaRight" b="textAreaBottom"/>
                <a:pathLst>
                  <a:path w="21600" h="28205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8205"/>
                    </a:lnTo>
                    <a:lnTo>
                      <a:pt x="0" y="28205"/>
                    </a:lnTo>
                    <a:close/>
                  </a:path>
                  <a:path fill="lightenLess" w="21600" h="28205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8205">
                    <a:moveTo>
                      <a:pt x="21600" y="0"/>
                    </a:moveTo>
                    <a:lnTo>
                      <a:pt x="21600" y="28205"/>
                    </a:lnTo>
                    <a:lnTo>
                      <a:pt x="20200" y="26805"/>
                    </a:lnTo>
                    <a:lnTo>
                      <a:pt x="20200" y="1400"/>
                    </a:lnTo>
                    <a:close/>
                  </a:path>
                  <a:path fill="darkenLess" w="21600" h="28205">
                    <a:moveTo>
                      <a:pt x="21600" y="28205"/>
                    </a:moveTo>
                    <a:lnTo>
                      <a:pt x="0" y="28205"/>
                    </a:lnTo>
                    <a:lnTo>
                      <a:pt x="1400" y="26805"/>
                    </a:lnTo>
                    <a:lnTo>
                      <a:pt x="20200" y="26805"/>
                    </a:lnTo>
                    <a:close/>
                  </a:path>
                  <a:path fill="lighten" w="21600" h="28205">
                    <a:moveTo>
                      <a:pt x="0" y="28205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6805"/>
                    </a:lnTo>
                    <a:close/>
                  </a:path>
                  <a:path fill="darken" w="21600" h="28205">
                    <a:moveTo>
                      <a:pt x="3794" y="14102"/>
                    </a:moveTo>
                    <a:lnTo>
                      <a:pt x="17806" y="7096"/>
                    </a:lnTo>
                    <a:lnTo>
                      <a:pt x="17806" y="2110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081320" y="3448080"/>
                <a:ext cx="1711440" cy="2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ugyfeljaras</a:t>
                </a:r>
                <a:r>
                  <a:rPr b="0" lang="hu-HU" sz="9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Q450 kodenev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495600" y="3435480"/>
                <a:ext cx="5648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ljárás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992560" y="3438360"/>
                <a:ext cx="100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ljárás kezdete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924600" y="3429000"/>
                <a:ext cx="1008000" cy="21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900" spc="-1" strike="noStrike">
                    <a:solidFill>
                      <a:srgbClr val="000000"/>
                    </a:solidFill>
                    <a:latin typeface="Arial"/>
                  </a:rPr>
                  <a:t>ugyfeljaras_dat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2T16:31:05Z</dcterms:created>
  <dc:creator>B--e--n</dc:creator>
  <dc:description/>
  <dc:language>en-US</dc:language>
  <cp:lastModifiedBy>Mariann</cp:lastModifiedBy>
  <dcterms:modified xsi:type="dcterms:W3CDTF">2013-07-19T15:41:27Z</dcterms:modified>
  <cp:revision>33</cp:revision>
  <dc:subject/>
  <dc:title>1. dia</dc:title>
</cp:coreProperties>
</file>