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A95-BAF2-41BE-9BD4-7279C731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0D3-5D64-44D7-8C50-55B1A0C3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536D-EDA2-4359-A604-F3DB0A0A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863-6CC7-4091-89DE-6038EBF0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185A-3BBB-4C0B-B607-553E970F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CDB1-517D-491D-B9C5-518BEDCF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4C78-6024-401F-8714-85FB91E0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4EE-4EC9-47FC-9F23-791982CC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636-5694-4CA0-A7B6-C4F7F291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457-834C-4645-A4B3-0550E365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278-78B9-4BB8-AF62-97649502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CE82-8C42-4C3E-84A5-A432E46B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4A83-EF33-42F8-A0C0-0B733A077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3672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5640" y="6127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76360" y="6127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611280"/>
            <a:ext cx="648000" cy="21564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7388280" y="58428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7891560" y="58428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6883560" y="58428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lastslide"/>
          </p:cNvPr>
          <p:cNvSpPr/>
          <p:nvPr/>
        </p:nvSpPr>
        <p:spPr>
          <a:xfrm>
            <a:off x="8396280" y="58428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98720" y="611280"/>
            <a:ext cx="1009800" cy="215640"/>
          </a:xfrm>
          <a:custGeom>
            <a:avLst/>
            <a:gdLst>
              <a:gd name="textAreaLeft" fmla="*/ 13680 w 1009800"/>
              <a:gd name="textAreaRight" fmla="*/ 996120 w 10098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1016" h="21600">
                <a:moveTo>
                  <a:pt x="0" y="0"/>
                </a:moveTo>
                <a:lnTo>
                  <a:pt x="101016" y="0"/>
                </a:lnTo>
                <a:lnTo>
                  <a:pt x="101016" y="21600"/>
                </a:lnTo>
                <a:lnTo>
                  <a:pt x="0" y="21600"/>
                </a:lnTo>
                <a:close/>
              </a:path>
              <a:path fill="lightenLess" w="101016" h="21600">
                <a:moveTo>
                  <a:pt x="0" y="0"/>
                </a:moveTo>
                <a:lnTo>
                  <a:pt x="101016" y="0"/>
                </a:lnTo>
                <a:lnTo>
                  <a:pt x="99616" y="1400"/>
                </a:lnTo>
                <a:lnTo>
                  <a:pt x="1400" y="1400"/>
                </a:lnTo>
                <a:close/>
              </a:path>
              <a:path fill="darken" w="101016" h="21600">
                <a:moveTo>
                  <a:pt x="101016" y="0"/>
                </a:moveTo>
                <a:lnTo>
                  <a:pt x="101016" y="21600"/>
                </a:lnTo>
                <a:lnTo>
                  <a:pt x="99616" y="20200"/>
                </a:lnTo>
                <a:lnTo>
                  <a:pt x="99616" y="1400"/>
                </a:lnTo>
                <a:close/>
              </a:path>
              <a:path fill="darkenLess" w="101016" h="21600">
                <a:moveTo>
                  <a:pt x="101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616" y="20200"/>
                </a:lnTo>
                <a:close/>
              </a:path>
              <a:path fill="lighten" w="101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zerződés szignálá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59280" y="620640"/>
            <a:ext cx="1009800" cy="216000"/>
          </a:xfrm>
          <a:custGeom>
            <a:avLst/>
            <a:gdLst>
              <a:gd name="textAreaLeft" fmla="*/ 13680 w 1009800"/>
              <a:gd name="textAreaRight" fmla="*/ 996120 w 10098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0848" h="21600">
                <a:moveTo>
                  <a:pt x="0" y="0"/>
                </a:moveTo>
                <a:lnTo>
                  <a:pt x="100848" y="0"/>
                </a:lnTo>
                <a:lnTo>
                  <a:pt x="100848" y="21600"/>
                </a:lnTo>
                <a:lnTo>
                  <a:pt x="0" y="21600"/>
                </a:lnTo>
                <a:close/>
              </a:path>
              <a:path fill="lightenLess" w="100848" h="21600">
                <a:moveTo>
                  <a:pt x="0" y="0"/>
                </a:moveTo>
                <a:lnTo>
                  <a:pt x="100848" y="0"/>
                </a:lnTo>
                <a:lnTo>
                  <a:pt x="99448" y="1400"/>
                </a:lnTo>
                <a:lnTo>
                  <a:pt x="1400" y="1400"/>
                </a:lnTo>
                <a:close/>
              </a:path>
              <a:path fill="darken" w="100848" h="21600">
                <a:moveTo>
                  <a:pt x="100848" y="0"/>
                </a:moveTo>
                <a:lnTo>
                  <a:pt x="100848" y="21600"/>
                </a:lnTo>
                <a:lnTo>
                  <a:pt x="99448" y="20200"/>
                </a:lnTo>
                <a:lnTo>
                  <a:pt x="99448" y="1400"/>
                </a:lnTo>
                <a:close/>
              </a:path>
              <a:path fill="darkenLess" w="100848" h="21600">
                <a:moveTo>
                  <a:pt x="10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448" y="20200"/>
                </a:lnTo>
                <a:close/>
              </a:path>
              <a:path fill="lighten" w="10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zerződés aláírá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6400" y="1103400"/>
            <a:ext cx="5205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38640" y="1585800"/>
            <a:ext cx="2447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/iktato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konyv/megneve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 rot="16200000">
            <a:off x="5828400" y="15501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78680" y="1557360"/>
            <a:ext cx="76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072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13240" y="239760"/>
            <a:ext cx="355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Nemlakás szerződés előkészítés… (nemlakas_szerzodes, view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36840" y="1969920"/>
            <a:ext cx="2448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/ugyirat_tipu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4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10560" y="1969920"/>
            <a:ext cx="89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rat típu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 rot="16200000">
            <a:off x="5821920" y="193392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2330280"/>
            <a:ext cx="2448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/ugytargy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7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02640" y="2330280"/>
            <a:ext cx="89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rat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 rot="16200000">
            <a:off x="5833080" y="22946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38640" y="2690640"/>
            <a:ext cx="2447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/irat_targya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8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77960" y="2662200"/>
            <a:ext cx="6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 rot="16200000">
            <a:off x="5833080" y="265500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5400" y="3078000"/>
            <a:ext cx="2448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/targys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3440" y="3049560"/>
            <a:ext cx="65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árgysz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74520" y="3425760"/>
            <a:ext cx="140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ettes ügyirat keres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38640" y="3438360"/>
            <a:ext cx="2447640" cy="1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/folottes_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86280" y="3409920"/>
            <a:ext cx="289080" cy="28728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35" h="21600">
                <a:moveTo>
                  <a:pt x="0" y="0"/>
                </a:moveTo>
                <a:lnTo>
                  <a:pt x="21735" y="0"/>
                </a:lnTo>
                <a:lnTo>
                  <a:pt x="21735" y="21600"/>
                </a:lnTo>
                <a:lnTo>
                  <a:pt x="0" y="21600"/>
                </a:lnTo>
                <a:close/>
              </a:path>
              <a:path fill="lightenLess" w="21735" h="21600">
                <a:moveTo>
                  <a:pt x="0" y="0"/>
                </a:moveTo>
                <a:lnTo>
                  <a:pt x="21735" y="0"/>
                </a:lnTo>
                <a:lnTo>
                  <a:pt x="20335" y="1400"/>
                </a:lnTo>
                <a:lnTo>
                  <a:pt x="1400" y="1400"/>
                </a:lnTo>
                <a:close/>
              </a:path>
              <a:path fill="darken" w="21735" h="21600">
                <a:moveTo>
                  <a:pt x="21735" y="0"/>
                </a:moveTo>
                <a:lnTo>
                  <a:pt x="21735" y="21600"/>
                </a:lnTo>
                <a:lnTo>
                  <a:pt x="20335" y="20200"/>
                </a:lnTo>
                <a:lnTo>
                  <a:pt x="20335" y="1400"/>
                </a:lnTo>
                <a:close/>
              </a:path>
              <a:path fill="darkenLess" w="21735" h="21600">
                <a:moveTo>
                  <a:pt x="21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5" y="20200"/>
                </a:lnTo>
                <a:close/>
              </a:path>
              <a:path fill="lighten" w="21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5" h="21600">
                <a:moveTo>
                  <a:pt x="108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735" h="21600">
                <a:moveTo>
                  <a:pt x="11973" y="14281"/>
                </a:moveTo>
                <a:lnTo>
                  <a:pt x="11973" y="12323"/>
                </a:lnTo>
                <a:cubicBezTo>
                  <a:pt x="11973" y="11496"/>
                  <a:pt x="12304" y="10800"/>
                  <a:pt x="12904" y="10800"/>
                </a:cubicBezTo>
                <a:cubicBezTo>
                  <a:pt x="14036" y="10800"/>
                  <a:pt x="14932" y="9434"/>
                  <a:pt x="14932" y="7849"/>
                </a:cubicBezTo>
                <a:cubicBezTo>
                  <a:pt x="14932" y="5534"/>
                  <a:pt x="13078" y="3794"/>
                  <a:pt x="10868" y="3794"/>
                </a:cubicBezTo>
                <a:cubicBezTo>
                  <a:pt x="8657" y="3794"/>
                  <a:pt x="6986" y="5534"/>
                  <a:pt x="6986" y="7849"/>
                </a:cubicBezTo>
                <a:lnTo>
                  <a:pt x="8840" y="7849"/>
                </a:lnTo>
                <a:cubicBezTo>
                  <a:pt x="8840" y="6709"/>
                  <a:pt x="9762" y="5821"/>
                  <a:pt x="10868" y="5821"/>
                </a:cubicBezTo>
                <a:cubicBezTo>
                  <a:pt x="11973" y="5821"/>
                  <a:pt x="12904" y="6709"/>
                  <a:pt x="12904" y="7849"/>
                </a:cubicBezTo>
                <a:cubicBezTo>
                  <a:pt x="12904" y="8589"/>
                  <a:pt x="12434" y="9320"/>
                  <a:pt x="11973" y="9320"/>
                </a:cubicBezTo>
                <a:cubicBezTo>
                  <a:pt x="10868" y="9320"/>
                  <a:pt x="9762" y="10800"/>
                  <a:pt x="9762" y="12323"/>
                </a:cubicBezTo>
                <a:lnTo>
                  <a:pt x="9762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65080" y="4048200"/>
            <a:ext cx="391212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 tábla automatikusan kitöltött mező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ószám – iktato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rat állapot – ugyirat_allapot = 51503 (iktatv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fél – ugyfel 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vszerzodes/ugyfel_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Törzsszám – torzsszam 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vszerzodes/albetet/id 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lbetet/lb_torzs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ó – iktato 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/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ás dátuma – iktatas_dat (aktuális napi dátum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va – iktatva = 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ezes tábla automatikus rekord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ignált ügyintéző reko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vszerzodes táblában visszaírása: ugyirat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vszerzodes/ugyirat_i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5:50:46Z</dcterms:created>
  <dc:creator>Mariann</dc:creator>
  <dc:description/>
  <dc:language>en-US</dc:language>
  <cp:lastModifiedBy>Mariann</cp:lastModifiedBy>
  <dcterms:modified xsi:type="dcterms:W3CDTF">2013-12-05T06:26:43Z</dcterms:modified>
  <cp:revision>3</cp:revision>
  <dc:subject/>
  <dc:title>1. dia</dc:title>
</cp:coreProperties>
</file>