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0C6-120B-46D3-B2BD-F76D70E8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5DE-B6A8-40E8-9CBB-AB36E65A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2D0-6324-4660-A3BF-0089702F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9FD-722C-48B3-9115-EA79A11B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D82-8646-4118-A348-19240279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39E-BC05-4908-A888-7072D580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D98-5502-4192-AEDD-43B6FA8B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2AE-C51A-4EDA-BF62-57ABD5E6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BB3-E71C-467E-A538-0701E24D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EC2-4148-4364-87F5-1498975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7F3-A00D-417A-A3FB-7E75C6D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377-D1F8-4E22-B339-48AA18E1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046-ECBE-495C-B71C-0FCBF752A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115920"/>
            <a:ext cx="8659800" cy="3450600"/>
            <a:chOff x="324000" y="115920"/>
            <a:chExt cx="8659800" cy="3450600"/>
          </a:xfrm>
        </p:grpSpPr>
        <p:sp>
          <p:nvSpPr>
            <p:cNvPr id="42" name=""/>
            <p:cNvSpPr/>
            <p:nvPr/>
          </p:nvSpPr>
          <p:spPr>
            <a:xfrm>
              <a:off x="468360" y="907920"/>
              <a:ext cx="81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8448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5280" y="461880"/>
              <a:ext cx="1152360" cy="368280"/>
            </a:xfrm>
            <a:prstGeom prst="rect">
              <a:avLst/>
            </a:prstGeom>
            <a:solidFill>
              <a:srgbClr val="ff9900">
                <a:alpha val="7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atlan műszaki adat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75120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48560" y="45720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08560" y="455760"/>
              <a:ext cx="595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94600" y="457200"/>
              <a:ext cx="595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67440" y="45720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0200" y="1235160"/>
              <a:ext cx="92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Övezet, körz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11360" y="1522440"/>
              <a:ext cx="74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örz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76440" y="1258920"/>
              <a:ext cx="143964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korzet/korzet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49,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73200" y="1536840"/>
              <a:ext cx="144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atlan/ing_torzs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>
              <a:hlinkClick r:id="" action="ppaction://hlinkshowjump?jump=previousslide"/>
            </p:cNvPr>
            <p:cNvSpPr/>
            <p:nvPr/>
          </p:nvSpPr>
          <p:spPr>
            <a:xfrm rot="16200000">
              <a:off x="5760000" y="1521360"/>
              <a:ext cx="216000" cy="28764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640"/>
                <a:gd name="textAreaBottom" fmla="*/ 273960 h 287640"/>
              </a:gdLst>
              <a:ahLst/>
              <a:rect l="textAreaLeft" t="textAreaTop" r="textAreaRight" b="textAreaBottom"/>
              <a:pathLst>
                <a:path w="21600" h="28752">
                  <a:moveTo>
                    <a:pt x="0" y="0"/>
                  </a:moveTo>
                  <a:lnTo>
                    <a:pt x="21600" y="0"/>
                  </a:lnTo>
                  <a:lnTo>
                    <a:pt x="21600" y="28752"/>
                  </a:lnTo>
                  <a:lnTo>
                    <a:pt x="0" y="28752"/>
                  </a:lnTo>
                  <a:close/>
                </a:path>
                <a:path fill="lightenLess" w="21600" h="2875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52">
                  <a:moveTo>
                    <a:pt x="21600" y="0"/>
                  </a:moveTo>
                  <a:lnTo>
                    <a:pt x="21600" y="28752"/>
                  </a:lnTo>
                  <a:lnTo>
                    <a:pt x="20200" y="27352"/>
                  </a:lnTo>
                  <a:lnTo>
                    <a:pt x="20200" y="1400"/>
                  </a:lnTo>
                  <a:close/>
                </a:path>
                <a:path fill="darkenLess" w="21600" h="28752">
                  <a:moveTo>
                    <a:pt x="21600" y="28752"/>
                  </a:moveTo>
                  <a:lnTo>
                    <a:pt x="0" y="28752"/>
                  </a:lnTo>
                  <a:lnTo>
                    <a:pt x="1400" y="27352"/>
                  </a:lnTo>
                  <a:lnTo>
                    <a:pt x="20200" y="27352"/>
                  </a:lnTo>
                  <a:close/>
                </a:path>
                <a:path fill="lighten" w="21600" h="28752">
                  <a:moveTo>
                    <a:pt x="0" y="2875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52"/>
                  </a:lnTo>
                  <a:close/>
                </a:path>
                <a:path fill="darken" w="21600" h="28752">
                  <a:moveTo>
                    <a:pt x="3794" y="14376"/>
                  </a:moveTo>
                  <a:lnTo>
                    <a:pt x="17806" y="7370"/>
                  </a:lnTo>
                  <a:lnTo>
                    <a:pt x="17806" y="213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17840" y="1222200"/>
              <a:ext cx="1719360" cy="23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atlan/ing_ut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30800" y="155736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gatlan/ing_tulajdonviszon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56600" y="122220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3400" y="1522440"/>
              <a:ext cx="100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>
              <a:hlinkClick r:id="" action="ppaction://hlinkshowjump?jump=previousslide"/>
            </p:cNvPr>
            <p:cNvSpPr/>
            <p:nvPr/>
          </p:nvSpPr>
          <p:spPr>
            <a:xfrm rot="16200000">
              <a:off x="8497080" y="180900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48240" y="1844640"/>
              <a:ext cx="21178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atlan/ing_kezel_kiad_jogc_k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--&gt;Q416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6760" y="176832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ésből kiadá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gcí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6800" y="2255760"/>
              <a:ext cx="81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1440" y="2340000"/>
              <a:ext cx="126684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 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4000" y="2340000"/>
              <a:ext cx="136836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24360" y="2340000"/>
              <a:ext cx="122400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i lap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76800" y="2340000"/>
              <a:ext cx="96372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lek mér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6360" y="2359080"/>
              <a:ext cx="113184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ek szám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23120" y="2359080"/>
              <a:ext cx="122400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t laká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87640" y="2340000"/>
              <a:ext cx="91440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örz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3640" y="2698920"/>
              <a:ext cx="1224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_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698920"/>
              <a:ext cx="136836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utca + ing_hs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31920" y="2720880"/>
              <a:ext cx="118944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tulajdoni_lap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51960" y="2720880"/>
              <a:ext cx="100512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telek_mer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31240" y="2708280"/>
              <a:ext cx="9928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pulet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720" y="2708280"/>
              <a:ext cx="1656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idoszakos_epulet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1040" y="11592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KV EI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64920" y="168120"/>
              <a:ext cx="291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atlan műszaki adatok… (Ingatlan műszaki adatai, 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>
              <a:hlinkClick r:id="" action="ppaction://hlinkshowjump?jump=previousslide"/>
            </p:cNvPr>
            <p:cNvSpPr/>
            <p:nvPr/>
          </p:nvSpPr>
          <p:spPr>
            <a:xfrm rot="16200000">
              <a:off x="3094920" y="123264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2680" y="2708280"/>
              <a:ext cx="84672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torzs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2349360"/>
              <a:ext cx="113184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ek szám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08720" y="2301840"/>
              <a:ext cx="1656000" cy="368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eiglenes jellegű épületek 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56360" y="2340000"/>
              <a:ext cx="113184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ek szám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63640" y="3000240"/>
              <a:ext cx="1224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_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000" y="3000240"/>
              <a:ext cx="136836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utca + ing_hs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31920" y="3022560"/>
              <a:ext cx="118944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tulajdoni_lap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51960" y="3022560"/>
              <a:ext cx="100512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telek_mer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31240" y="3009960"/>
              <a:ext cx="9928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pulet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92680" y="3009960"/>
              <a:ext cx="84672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torzs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63640" y="3313080"/>
              <a:ext cx="1224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_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3313080"/>
              <a:ext cx="136836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utca + ing_hs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31920" y="3335400"/>
              <a:ext cx="118944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tulajdoni_lap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51960" y="3335400"/>
              <a:ext cx="100512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telek_mer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31240" y="3322800"/>
              <a:ext cx="9928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pulet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92680" y="3322800"/>
              <a:ext cx="84672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torzs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08720" y="3027240"/>
              <a:ext cx="1656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idoszakos_epulet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27800" y="3328920"/>
              <a:ext cx="1656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idoszakos_epulet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>
              <a:hlinkClick r:id="" action="ppaction://hlinkshowjump?jump=previousslide"/>
            </p:cNvPr>
            <p:cNvSpPr/>
            <p:nvPr/>
          </p:nvSpPr>
          <p:spPr>
            <a:xfrm rot="16200000">
              <a:off x="8509680" y="123264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20000" y="126828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atlan/ing_muemleki_ved_k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23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00360" y="1216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űemlé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édettsé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>
              <a:hlinkClick r:id="" action="ppaction://hlinkshowjump?jump=previousslide"/>
            </p:cNvPr>
            <p:cNvSpPr/>
            <p:nvPr/>
          </p:nvSpPr>
          <p:spPr>
            <a:xfrm rot="16200000">
              <a:off x="8476200" y="1521360"/>
              <a:ext cx="216000" cy="28764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640"/>
                <a:gd name="textAreaBottom" fmla="*/ 273960 h 287640"/>
              </a:gdLst>
              <a:ahLst/>
              <a:rect l="textAreaLeft" t="textAreaTop" r="textAreaRight" b="textAreaBottom"/>
              <a:pathLst>
                <a:path w="21600" h="28752">
                  <a:moveTo>
                    <a:pt x="0" y="0"/>
                  </a:moveTo>
                  <a:lnTo>
                    <a:pt x="21600" y="0"/>
                  </a:lnTo>
                  <a:lnTo>
                    <a:pt x="21600" y="28752"/>
                  </a:lnTo>
                  <a:lnTo>
                    <a:pt x="0" y="28752"/>
                  </a:lnTo>
                  <a:close/>
                </a:path>
                <a:path fill="lightenLess" w="21600" h="2875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52">
                  <a:moveTo>
                    <a:pt x="21600" y="0"/>
                  </a:moveTo>
                  <a:lnTo>
                    <a:pt x="21600" y="28752"/>
                  </a:lnTo>
                  <a:lnTo>
                    <a:pt x="20200" y="27352"/>
                  </a:lnTo>
                  <a:lnTo>
                    <a:pt x="20200" y="1400"/>
                  </a:lnTo>
                  <a:close/>
                </a:path>
                <a:path fill="darkenLess" w="21600" h="28752">
                  <a:moveTo>
                    <a:pt x="21600" y="28752"/>
                  </a:moveTo>
                  <a:lnTo>
                    <a:pt x="0" y="28752"/>
                  </a:lnTo>
                  <a:lnTo>
                    <a:pt x="1400" y="27352"/>
                  </a:lnTo>
                  <a:lnTo>
                    <a:pt x="20200" y="27352"/>
                  </a:lnTo>
                  <a:close/>
                </a:path>
                <a:path fill="lighten" w="21600" h="28752">
                  <a:moveTo>
                    <a:pt x="0" y="2875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52"/>
                  </a:lnTo>
                  <a:close/>
                </a:path>
                <a:path fill="darken" w="21600" h="28752">
                  <a:moveTo>
                    <a:pt x="3794" y="14376"/>
                  </a:moveTo>
                  <a:lnTo>
                    <a:pt x="17806" y="7370"/>
                  </a:lnTo>
                  <a:lnTo>
                    <a:pt x="17806" y="213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7000" y="155736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atlan/ing_telek_jellege_k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24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93080" y="1522440"/>
              <a:ext cx="82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lek jelle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>
              <a:hlinkClick r:id="" action="ppaction://hlinkshowjump?jump=previousslide"/>
            </p:cNvPr>
            <p:cNvSpPr/>
            <p:nvPr/>
          </p:nvSpPr>
          <p:spPr>
            <a:xfrm rot="16200000">
              <a:off x="3096360" y="180900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76440" y="184140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atlan/ing_beepitesi_mod_k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25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200" y="1806480"/>
              <a:ext cx="915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építési mó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75680" y="4197240"/>
            <a:ext cx="8784000" cy="2475000"/>
            <a:chOff x="175680" y="4197240"/>
            <a:chExt cx="8784000" cy="2475000"/>
          </a:xfrm>
        </p:grpSpPr>
        <p:sp>
          <p:nvSpPr>
            <p:cNvPr id="107" name=""/>
            <p:cNvSpPr/>
            <p:nvPr/>
          </p:nvSpPr>
          <p:spPr>
            <a:xfrm>
              <a:off x="438120" y="4214880"/>
              <a:ext cx="1095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özmű ellátottsá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7760" y="4535280"/>
              <a:ext cx="1046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illanyellátottsá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5480" y="4548240"/>
              <a:ext cx="84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vóvíz ellátá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54400" y="4548240"/>
              <a:ext cx="1232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zennyvíz elvezeté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680" y="4798800"/>
              <a:ext cx="1366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sapadékvíz elvezeté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2400" y="4805280"/>
              <a:ext cx="976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Tüzivíz vezeté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89280" y="480384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ázellátá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90800" y="5325840"/>
              <a:ext cx="211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iegészítő létesítmények összterül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3280" y="5322960"/>
              <a:ext cx="97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rítő térfog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86480" y="4782960"/>
              <a:ext cx="62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ávfűté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280" y="5703840"/>
              <a:ext cx="1186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rítés elhelyezé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600" y="6014880"/>
              <a:ext cx="1282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rítés elhelyezése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58000" y="565128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ríté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yag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0360" y="421488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kozmu_elletottsag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2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previousslide"/>
            </p:cNvPr>
            <p:cNvSpPr/>
            <p:nvPr/>
          </p:nvSpPr>
          <p:spPr>
            <a:xfrm rot="16200000">
              <a:off x="2952000" y="416160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0200" y="4548240"/>
              <a:ext cx="13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Ing_villany_elletas_v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3689280" y="4581360"/>
              <a:ext cx="142920" cy="144360"/>
              <a:chOff x="3689280" y="4581360"/>
              <a:chExt cx="142920" cy="144360"/>
            </a:xfrm>
          </p:grpSpPr>
          <p:sp>
            <p:nvSpPr>
              <p:cNvPr id="124" name=""/>
              <p:cNvSpPr/>
              <p:nvPr/>
            </p:nvSpPr>
            <p:spPr>
              <a:xfrm>
                <a:off x="3689280" y="458136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24200" y="46098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210360" y="4581360"/>
              <a:ext cx="142920" cy="144360"/>
              <a:chOff x="6210360" y="4581360"/>
              <a:chExt cx="142920" cy="144360"/>
            </a:xfrm>
          </p:grpSpPr>
          <p:sp>
            <p:nvSpPr>
              <p:cNvPr id="127" name=""/>
              <p:cNvSpPr/>
              <p:nvPr/>
            </p:nvSpPr>
            <p:spPr>
              <a:xfrm>
                <a:off x="6210360" y="458136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5280" y="46098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122720" y="4835520"/>
              <a:ext cx="142920" cy="144360"/>
              <a:chOff x="4122720" y="4835520"/>
              <a:chExt cx="142920" cy="144360"/>
            </a:xfrm>
          </p:grpSpPr>
          <p:sp>
            <p:nvSpPr>
              <p:cNvPr id="130" name=""/>
              <p:cNvSpPr/>
              <p:nvPr/>
            </p:nvSpPr>
            <p:spPr>
              <a:xfrm>
                <a:off x="4122720" y="483552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57640" y="48639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10360" y="4832280"/>
              <a:ext cx="142920" cy="144360"/>
              <a:chOff x="6210360" y="4832280"/>
              <a:chExt cx="142920" cy="144360"/>
            </a:xfrm>
          </p:grpSpPr>
          <p:sp>
            <p:nvSpPr>
              <p:cNvPr id="133" name=""/>
              <p:cNvSpPr/>
              <p:nvPr/>
            </p:nvSpPr>
            <p:spPr>
              <a:xfrm>
                <a:off x="6210360" y="483228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45280" y="48607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528560" y="4835520"/>
              <a:ext cx="142920" cy="144360"/>
              <a:chOff x="1528560" y="4835520"/>
              <a:chExt cx="142920" cy="144360"/>
            </a:xfrm>
          </p:grpSpPr>
          <p:sp>
            <p:nvSpPr>
              <p:cNvPr id="136" name=""/>
              <p:cNvSpPr/>
              <p:nvPr/>
            </p:nvSpPr>
            <p:spPr>
              <a:xfrm>
                <a:off x="1528560" y="483552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63480" y="48639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760920" y="4548240"/>
              <a:ext cx="13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Ing_ivoviz_elletas_v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24560" y="4548240"/>
              <a:ext cx="13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Ing_szennyviz_elvezetes_v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44560" y="4821120"/>
              <a:ext cx="1368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Ing_csapadek_elvezetes_v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21280" y="4792680"/>
              <a:ext cx="13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Ing_tuziviz_veze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08560" y="4792680"/>
              <a:ext cx="136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Ing_gazellatas_va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84560" y="5315040"/>
              <a:ext cx="136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kieg_letes_ossz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28560" y="5340240"/>
              <a:ext cx="1368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derito_terfog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7947000" y="4835520"/>
              <a:ext cx="142920" cy="144360"/>
              <a:chOff x="7947000" y="4835520"/>
              <a:chExt cx="142920" cy="144360"/>
            </a:xfrm>
          </p:grpSpPr>
          <p:sp>
            <p:nvSpPr>
              <p:cNvPr id="146" name=""/>
              <p:cNvSpPr/>
              <p:nvPr/>
            </p:nvSpPr>
            <p:spPr>
              <a:xfrm>
                <a:off x="7947000" y="483552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981920" y="48639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937640" y="4802040"/>
              <a:ext cx="10220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Ing_tavfut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8560" y="5699160"/>
              <a:ext cx="136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kerites_elhelyezese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28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>
              <a:hlinkClick r:id="" action="ppaction://hlinkshowjump?jump=previousslide"/>
            </p:cNvPr>
            <p:cNvSpPr/>
            <p:nvPr/>
          </p:nvSpPr>
          <p:spPr>
            <a:xfrm rot="16200000">
              <a:off x="2932920" y="5662800"/>
              <a:ext cx="215640" cy="287280"/>
            </a:xfrm>
            <a:custGeom>
              <a:avLst/>
              <a:gdLst>
                <a:gd name="textAreaLeft" fmla="*/ 13680 w 215640"/>
                <a:gd name="textAreaRight" fmla="*/ 201960 w 21564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64">
                  <a:moveTo>
                    <a:pt x="0" y="0"/>
                  </a:moveTo>
                  <a:lnTo>
                    <a:pt x="21600" y="0"/>
                  </a:lnTo>
                  <a:lnTo>
                    <a:pt x="21600" y="28764"/>
                  </a:lnTo>
                  <a:lnTo>
                    <a:pt x="0" y="28764"/>
                  </a:lnTo>
                  <a:close/>
                </a:path>
                <a:path fill="lightenLess" w="21600" h="2876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64">
                  <a:moveTo>
                    <a:pt x="21600" y="0"/>
                  </a:moveTo>
                  <a:lnTo>
                    <a:pt x="21600" y="28764"/>
                  </a:lnTo>
                  <a:lnTo>
                    <a:pt x="20200" y="27364"/>
                  </a:lnTo>
                  <a:lnTo>
                    <a:pt x="20200" y="1400"/>
                  </a:lnTo>
                  <a:close/>
                </a:path>
                <a:path fill="darkenLess" w="21600" h="28764">
                  <a:moveTo>
                    <a:pt x="21600" y="28764"/>
                  </a:moveTo>
                  <a:lnTo>
                    <a:pt x="0" y="28764"/>
                  </a:lnTo>
                  <a:lnTo>
                    <a:pt x="1400" y="27364"/>
                  </a:lnTo>
                  <a:lnTo>
                    <a:pt x="20200" y="27364"/>
                  </a:lnTo>
                  <a:close/>
                </a:path>
                <a:path fill="lighten" w="21600" h="28764">
                  <a:moveTo>
                    <a:pt x="0" y="2876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64"/>
                  </a:lnTo>
                  <a:close/>
                </a:path>
                <a:path fill="darken" w="21600" h="28764">
                  <a:moveTo>
                    <a:pt x="3794" y="14382"/>
                  </a:moveTo>
                  <a:lnTo>
                    <a:pt x="17806" y="7376"/>
                  </a:lnTo>
                  <a:lnTo>
                    <a:pt x="17806" y="2138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39720" y="6024600"/>
              <a:ext cx="136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kerites2_elhelyeze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28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previousslide"/>
            </p:cNvPr>
            <p:cNvSpPr/>
            <p:nvPr/>
          </p:nvSpPr>
          <p:spPr>
            <a:xfrm rot="16200000">
              <a:off x="2945520" y="598572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32200" y="5703840"/>
              <a:ext cx="1152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kerites_anyaga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29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>
              <a:hlinkClick r:id="" action="ppaction://hlinkshowjump?jump=previousslide"/>
            </p:cNvPr>
            <p:cNvSpPr/>
            <p:nvPr/>
          </p:nvSpPr>
          <p:spPr>
            <a:xfrm rot="16200000">
              <a:off x="5022000" y="566820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03280" y="596880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ríté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yaga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6360" y="6030720"/>
              <a:ext cx="1152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kerites2_anyaga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29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 rot="16200000">
              <a:off x="5001480" y="595692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32600" y="562752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ríté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ssz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0" y="5703840"/>
              <a:ext cx="9889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kerites_hossz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00200" y="599256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ríté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ssza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16520" y="6064200"/>
              <a:ext cx="993960" cy="22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g_kerites2_hossz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0" y="5656320"/>
              <a:ext cx="7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ríté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nősíté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5200" y="5689440"/>
              <a:ext cx="1000080" cy="25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kerite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inositese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>
              <a:hlinkClick r:id="" action="ppaction://hlinkshowjump?jump=previousslide"/>
            </p:cNvPr>
            <p:cNvSpPr/>
            <p:nvPr/>
          </p:nvSpPr>
          <p:spPr>
            <a:xfrm rot="16200000">
              <a:off x="8676360" y="567756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4560" y="6016680"/>
              <a:ext cx="83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ríté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nősítése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77280" y="6073560"/>
              <a:ext cx="1008000" cy="20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g_kerites2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ősítése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4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 rot="16200000">
              <a:off x="8688960" y="602856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8120" y="6345000"/>
              <a:ext cx="1058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árda szerkez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38280" y="6354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jarda_szerkezet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31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 rot="16200000">
              <a:off x="2942280" y="6324840"/>
              <a:ext cx="215640" cy="287280"/>
            </a:xfrm>
            <a:custGeom>
              <a:avLst/>
              <a:gdLst>
                <a:gd name="textAreaLeft" fmla="*/ 13680 w 215640"/>
                <a:gd name="textAreaRight" fmla="*/ 201960 w 21564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64">
                  <a:moveTo>
                    <a:pt x="0" y="0"/>
                  </a:moveTo>
                  <a:lnTo>
                    <a:pt x="21600" y="0"/>
                  </a:lnTo>
                  <a:lnTo>
                    <a:pt x="21600" y="28764"/>
                  </a:lnTo>
                  <a:lnTo>
                    <a:pt x="0" y="28764"/>
                  </a:lnTo>
                  <a:close/>
                </a:path>
                <a:path fill="lightenLess" w="21600" h="2876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64">
                  <a:moveTo>
                    <a:pt x="21600" y="0"/>
                  </a:moveTo>
                  <a:lnTo>
                    <a:pt x="21600" y="28764"/>
                  </a:lnTo>
                  <a:lnTo>
                    <a:pt x="20200" y="27364"/>
                  </a:lnTo>
                  <a:lnTo>
                    <a:pt x="20200" y="1400"/>
                  </a:lnTo>
                  <a:close/>
                </a:path>
                <a:path fill="darkenLess" w="21600" h="28764">
                  <a:moveTo>
                    <a:pt x="21600" y="28764"/>
                  </a:moveTo>
                  <a:lnTo>
                    <a:pt x="0" y="28764"/>
                  </a:lnTo>
                  <a:lnTo>
                    <a:pt x="1400" y="27364"/>
                  </a:lnTo>
                  <a:lnTo>
                    <a:pt x="20200" y="27364"/>
                  </a:lnTo>
                  <a:close/>
                </a:path>
                <a:path fill="lighten" w="21600" h="28764">
                  <a:moveTo>
                    <a:pt x="0" y="2876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64"/>
                  </a:lnTo>
                  <a:close/>
                </a:path>
                <a:path fill="darken" w="21600" h="28764">
                  <a:moveTo>
                    <a:pt x="3794" y="14382"/>
                  </a:moveTo>
                  <a:lnTo>
                    <a:pt x="17806" y="7376"/>
                  </a:lnTo>
                  <a:lnTo>
                    <a:pt x="17806" y="2138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67000" y="630396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árd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yag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32200" y="6356160"/>
              <a:ext cx="1108080" cy="20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jarda_anyag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32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previousslide"/>
            </p:cNvPr>
            <p:cNvSpPr/>
            <p:nvPr/>
          </p:nvSpPr>
          <p:spPr>
            <a:xfrm rot="16200000">
              <a:off x="5001480" y="63172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99480" y="6361200"/>
              <a:ext cx="884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árda terül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6280" y="6381720"/>
              <a:ext cx="863640" cy="21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jarda_terule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40360" y="6289560"/>
              <a:ext cx="7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árd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nősíté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96000" y="6386400"/>
              <a:ext cx="1108080" cy="20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jarda_minosite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33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previousslide"/>
            </p:cNvPr>
            <p:cNvSpPr/>
            <p:nvPr/>
          </p:nvSpPr>
          <p:spPr>
            <a:xfrm rot="16200000">
              <a:off x="8694000" y="63460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6880" y="5038560"/>
              <a:ext cx="83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satornázot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528560" y="5051160"/>
              <a:ext cx="142920" cy="144360"/>
              <a:chOff x="1528560" y="5051160"/>
              <a:chExt cx="142920" cy="144360"/>
            </a:xfrm>
          </p:grpSpPr>
          <p:sp>
            <p:nvSpPr>
              <p:cNvPr id="181" name=""/>
              <p:cNvSpPr/>
              <p:nvPr/>
            </p:nvSpPr>
            <p:spPr>
              <a:xfrm>
                <a:off x="1528560" y="505116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63480" y="50796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419120" y="5051160"/>
              <a:ext cx="1368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Ing_csatornazot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528560" y="4581360"/>
              <a:ext cx="142920" cy="144360"/>
              <a:chOff x="1528560" y="4581360"/>
              <a:chExt cx="142920" cy="144360"/>
            </a:xfrm>
          </p:grpSpPr>
          <p:sp>
            <p:nvSpPr>
              <p:cNvPr id="185" name=""/>
              <p:cNvSpPr/>
              <p:nvPr/>
            </p:nvSpPr>
            <p:spPr>
              <a:xfrm>
                <a:off x="1528560" y="458136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63480" y="46098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52020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1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334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527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73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580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61214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662472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561672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lastslide"/>
          </p:cNvPr>
          <p:cNvSpPr/>
          <p:nvPr/>
        </p:nvSpPr>
        <p:spPr>
          <a:xfrm>
            <a:off x="71294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15040" y="239760"/>
            <a:ext cx="315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atlan műszaki adatok… (Ingatlan muszaki adat, view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-3960" y="1155600"/>
            <a:ext cx="8525520" cy="2492280"/>
            <a:chOff x="-3960" y="1155600"/>
            <a:chExt cx="8525520" cy="2492280"/>
          </a:xfrm>
        </p:grpSpPr>
        <p:sp>
          <p:nvSpPr>
            <p:cNvPr id="199" name=""/>
            <p:cNvSpPr/>
            <p:nvPr/>
          </p:nvSpPr>
          <p:spPr>
            <a:xfrm>
              <a:off x="33120" y="2581200"/>
              <a:ext cx="1454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szerzés jogcí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-3960" y="2930400"/>
              <a:ext cx="1544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ésből kiadás jogcí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8560" y="1155600"/>
              <a:ext cx="892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atlan jell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98680" y="1243080"/>
              <a:ext cx="151272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_ingatlan_jell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880" y="1243080"/>
              <a:ext cx="92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lyrajzi 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26280" y="121428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helyrajzi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79440" y="1170000"/>
              <a:ext cx="9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gatlan jelle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gnevezé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1960" y="1230120"/>
              <a:ext cx="1947960" cy="187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ingatlan_jelleg_szov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16560" y="1484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70160" y="1496880"/>
              <a:ext cx="4391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irsz +ing_varos + ing_utca + ing_hs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4600" y="1519200"/>
              <a:ext cx="54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Övez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98680" y="1535040"/>
              <a:ext cx="216036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korzet/ovezet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37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8280" y="1746360"/>
              <a:ext cx="69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arok 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70160" y="1770120"/>
              <a:ext cx="44164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irsz + ing_varos + ing_sarok_utca + ing_sarok_hs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1640" y="2135160"/>
              <a:ext cx="74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örz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69960" y="2178000"/>
              <a:ext cx="15130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torzs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57560" y="210672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Telekkönyv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betétsz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7200" y="2104920"/>
              <a:ext cx="151272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telekkonyvi_betet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960" y="2106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p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15200" y="2090880"/>
              <a:ext cx="151272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tulajdoni_lap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69960" y="2595600"/>
              <a:ext cx="216072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tulajdonszerzes_jogcim</a:t>
              </a:r>
              <a:r>
                <a:rPr b="0" lang="hu-HU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Q435 kodmeg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94320" y="2566800"/>
              <a:ext cx="172872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tulajdonviszony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15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0400" y="2562120"/>
              <a:ext cx="100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69960" y="2932200"/>
              <a:ext cx="25480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ing_kezelesbol_kiadas_jogcim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16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13720" y="2876400"/>
              <a:ext cx="9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ítmények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ek szám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95680" y="284796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őszak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 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70320" y="2970360"/>
              <a:ext cx="10810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pulet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41960" y="2898720"/>
              <a:ext cx="136872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idoszakos_epulet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9760" y="3279600"/>
              <a:ext cx="9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öldrészle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gysága (m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98400" y="3397320"/>
              <a:ext cx="10810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telek_mer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13800" y="958680"/>
            <a:ext cx="11026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jellemző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4520" y="3911760"/>
            <a:ext cx="9810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űszaki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4:55:14Z</dcterms:created>
  <dc:creator>Mariann</dc:creator>
  <dc:description/>
  <dc:language>en-US</dc:language>
  <cp:lastModifiedBy>Mariann</cp:lastModifiedBy>
  <dcterms:modified xsi:type="dcterms:W3CDTF">2013-07-24T05:21:15Z</dcterms:modified>
  <cp:revision>9</cp:revision>
  <dc:subject/>
  <dc:title>1. dia</dc:title>
</cp:coreProperties>
</file>