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C437-05D2-46DF-A51B-B4EEB5817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9E7B-8609-4C09-8E42-CB57152A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8F3D-A92A-43E6-A907-D8C72AE17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3532-CE43-47D4-961B-3D8B84B47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E6C5-F6B7-4A6C-BA5B-1465DF5C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B8D3-6157-4C1A-BFD8-79711EB7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62B4-7D20-4216-88B9-6CA7BE5A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670B-5FDD-4D49-A024-EA0F075E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B2C2-66A1-4419-9E8F-A54AE365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4B94-C266-4DF3-94F1-BC34F7B9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82D9-90BC-4ACD-AC68-6DE065C7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9EE2-37F2-4911-B676-13483017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7FBB-FBF3-48DA-911C-14084DBAF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1560" y="353880"/>
            <a:ext cx="80172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Ügycsoport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yiségek bérbeadása pályáztatás útjá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yiség önkormányzati érdekből vagy preferált szervezetnek történő bérbeadá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lyiségek bérleti jogának átruházá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yiségcsere bérlők közö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yiségcsere bérbeadó és bérlő közö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yiségbőví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lyiségek bérleti jogviszonyának folytatása, valamint jogutódlá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atározott időtartamú helyiségbérleti jogviszony határozatlan időtartamúra történő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ódosítása illetve határozott időtartammal történő meg hosszabbítá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gcímnélküli helyiséghasználó elhelyezé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yiség bérbeadása pályázati eljáráson történő hasznosításig, illetve feltételhez kötötten, valamint üresen álló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yiség bérbeadása 5 év határozott időtartam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yiség egy részének, illetve teljes területének albérletbe adásához hozzájárulá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 önkormányzat tulajdonában álló nem lakás célú helyiségek (továbbiakban: bérlemények) birtokba adása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okba véte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51960" y="403200"/>
            <a:ext cx="378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yiségek bérbeadása pályáztatás útjá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71440" y="851040"/>
            <a:ext cx="49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Helyiséggazdálkodási Csoport – üre helyiségek listája pályáztatásho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9080" y="1268280"/>
            <a:ext cx="48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űszaki cso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üres helyiségek helyszíni szemlé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zemléről jegyzőköny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1360" y="1989000"/>
            <a:ext cx="312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yiséggazdálkodási cso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lőterjesztés, pályázati ajánlat elkészíté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59200" y="2462040"/>
            <a:ext cx="421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ezelési igazgat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lőterjesztés jóváhagyá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Pályázat alaki és tartalmi felülvizsgál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Pályázat előterjesztés készítés SzMJV Önkormányzatán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62440" y="3332160"/>
            <a:ext cx="205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zérigazgat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lőterjesztés jóváhagyá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84760" y="3830760"/>
            <a:ext cx="7539840" cy="26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ályázati dokumentációnak tartalmaznia k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helyiség adatait (fekvése, rendeltetése, alapterülete, felszereltsége, műszaki állapota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bérleti jog ellenértékre történő pályáztatás esetén a bérleti díj mértékét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bérleti díjra történő pályáztatás esetén az induló bérleti díj összegét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bérleti jogviszony időtartamát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helyiség profilkötöttségére történő feltétel meghatározását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pályázati alapárat, az alapár emelésének mértékét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bánatpénz, valamint a szerződési biztosíték összegét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pályázati ajánlat benyújtásának módját, helyét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pályázati ajánlat benyújtásának határidejét, amelyet úgy kell meghatározni, hogy a felhívás közzétételének napja és a pályázatok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benyújtására megjelölt határnap között a rendelkezésre álló idő ne legyen kevesebb 10 napná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pályázati tárgyalás helyét, idejét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z ingatlan megtekinthetőségének időpontját, azzal, hogy a megadott időpontokban való megjelenés, a helyiség megtekintése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letőleg a helyszínen felvett jelenléti ív aláírása a pályázati ajánlat érvényességének feltéte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z eredményhirdetés helyét, idejé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 a helyiség rendeltetésszerű használatra alkalmatlan, illetve szerkezet kész állapotú, úgy a pályázati felhívásnak tartalmaznia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ll az elvégzendő munkálatok meghatározását és a kivitelezési határidőt és az elvégzendő munkálatok költségé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97720" y="260280"/>
            <a:ext cx="699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yiség önkormányzati érdekből vagy preferált szervezetnek történő bérbead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48080" y="907920"/>
            <a:ext cx="354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yiséggazdálkodási cso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érelem továbbítása az önkormányzati szervn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Üres helyiségek listája, helyiség felajánlá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3880" y="1649520"/>
            <a:ext cx="175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zelési igazgat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érelem jóváhagyá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04600" y="2286000"/>
            <a:ext cx="174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zérigazgat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érelem jóváhagyá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5320" y="2873520"/>
            <a:ext cx="1550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Önkormányz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érelemről dön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öntés továbbítá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09640" y="3692520"/>
            <a:ext cx="225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yiséggazdálkodási Cso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érleti szerződés előkészí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63480" y="208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1040" y="187200"/>
            <a:ext cx="368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helyiségek bérleti jogának átruhá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51480" y="569880"/>
            <a:ext cx="81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Ügyfé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ér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64080" y="1073160"/>
            <a:ext cx="221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Vezérigazgat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-szignálás kezelési igazgató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62640" y="1628640"/>
            <a:ext cx="308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zelési igazgat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zignálás helyiséggazdálkodási csopor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26280" y="2081160"/>
            <a:ext cx="7215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yiséggazdálkodási cso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érelem alaki és tartalmi vizsgál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gatlan gazdálkodási osztály megkeresé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Önkormányzat nyilatkozatát kéri a helyiséget nem kívánja használni feladati ellátásáho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zerződésnek helyt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zerződéshez való hozzájárulást vagy megtagadását jóváhagyásra továbbítja a kezelési igazgatón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43560" y="3332160"/>
            <a:ext cx="308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gatlan gazdálkodási osztá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érleti jog ellenértékének meghatározá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47520" y="3835440"/>
            <a:ext cx="138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zelési igazgat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jóváhagyá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64440" y="434016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zérigazgat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jóváhagyá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65520" y="4889520"/>
            <a:ext cx="223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yiséggazdálkodási Cso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zerződés kö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87920" y="474840"/>
            <a:ext cx="271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yiségcsere bérlők közö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63880" y="1001880"/>
            <a:ext cx="223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Ügyfel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elyiség csere iránti kér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64240" y="1504800"/>
            <a:ext cx="221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Vezérigazgat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-szignálás kezelési igazgató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78280" y="2060640"/>
            <a:ext cx="308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zelési igazgat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zignálás helyiséggazdálkodási csopor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52720" y="2585880"/>
            <a:ext cx="4510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yiséggazdálkodási cso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érelem alaki és tartalmi vizsgál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gatlangazdálkodási osztály megkeresé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érelem továbbítása a kezelési igazgatónak, vezérigazgatón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78640" y="3521160"/>
            <a:ext cx="325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gatlangazdálkodási cso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érlemények bérleti díjának meghatározá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84040" y="4078440"/>
            <a:ext cx="138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zelési igazgat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jóváhagyá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84760" y="4581360"/>
            <a:ext cx="115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zérigazgat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jóváhagyá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89440" y="5059440"/>
            <a:ext cx="14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Ügyfé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evél a döntésrő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94120" y="5564160"/>
            <a:ext cx="220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yiséggazdálkodási cso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zerződés kö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23600" y="187200"/>
            <a:ext cx="366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yiségcsere bérbeadó és bérlő közö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19520" y="930240"/>
            <a:ext cx="206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Ügyfé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érelem helyiségcseréh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37160" y="1407960"/>
            <a:ext cx="221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Vezérigazgat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-szignálás kezelési igazgató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51560" y="1963800"/>
            <a:ext cx="308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zelési igazgat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zignálás helyiséggazdálkodási csopor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33560" y="2492280"/>
            <a:ext cx="314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yiséggazdálkodási cso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érelem alaki és tartalmi vizsgál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gatlangazdálkodási osztály megkeresé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őterjesztés továbbítása bizottság részé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91160" y="3502080"/>
            <a:ext cx="205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zelési igazgat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lőterjesztés jóváhagyá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1680" y="4221000"/>
            <a:ext cx="205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zérigazgat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lőterjesztés jóváhagyá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63520" y="4876920"/>
            <a:ext cx="1760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etékes bizottsá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ön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tározat megküldé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60640" y="5610240"/>
            <a:ext cx="220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yiséggazdálkodási cso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zerződés kö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73280" y="333360"/>
            <a:ext cx="178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yiségbőví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19520" y="692280"/>
            <a:ext cx="2279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Ügyfé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érelem helyiségbővítés irá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37160" y="1171440"/>
            <a:ext cx="221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Vezérigazgat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-szignálás kezelési igazgató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51560" y="1603440"/>
            <a:ext cx="308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zelési igazgat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zignálás helyiséggazdálkodási csopor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30320" y="2101680"/>
            <a:ext cx="618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yiséggazdálkodási cso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űszaki iroda szakvéleményét kéri (bővítésre alkalmas-e, milyen műszaki megoldáss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gatlangazdálkodási osztály megkeresése bérleti díj meghatározásáho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Ügyfélnek tájékoztató levél a bérleti jog ellenértékről és díjró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10240" y="2924280"/>
            <a:ext cx="23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ezelési igazgat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- Tájékoztató levél jóváhagyás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30760" y="3403440"/>
            <a:ext cx="232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zérigazgat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ájékoztató levél jóváhagyá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12840" y="5445000"/>
            <a:ext cx="1760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etékes bizottsá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ön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tározat megküldé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03480" y="6102360"/>
            <a:ext cx="220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yiséggazdálkodási csopor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érelmező értesíté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zerződés módosítá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07360" y="3825720"/>
            <a:ext cx="3485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yiséggazdálkodási osztá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érelem alaki és tartalmi feltételeinek vizsgál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űszaki adatok begyűjté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érelem előterjesztése az illetékes bizottságn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7120" y="4600440"/>
            <a:ext cx="205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zelési igazgat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lőterjesztés jóváhagyá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82960" y="5070600"/>
            <a:ext cx="205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zérigazgat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lőterjesztés jóváhagyá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4T14:45:42Z</dcterms:created>
  <dc:creator>Mariann</dc:creator>
  <dc:description/>
  <dc:language>en-US</dc:language>
  <cp:lastModifiedBy>Mariann</cp:lastModifiedBy>
  <dcterms:modified xsi:type="dcterms:W3CDTF">2013-08-04T16:20:31Z</dcterms:modified>
  <cp:revision>3</cp:revision>
  <dc:subject/>
  <dc:title>1. dia</dc:title>
</cp:coreProperties>
</file>