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573-D89F-4C6D-AED7-4BA44E5F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7B7-DF79-45D3-9176-8ED3E48C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1D6-4A50-4B71-9EC8-33BB5E89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435-4778-4B9D-A850-C4F3FCD0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F39-4280-4CD2-9EBD-211EE113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144-C314-4423-9AE4-ED5E94BB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424-DB8B-4556-B9D2-E8E36FB1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A73-D519-4B55-9DE3-F1FB7651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866-150D-45E7-AD73-F625382B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B6E-012D-4BC7-8E8E-D369F7E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98D-A3E8-434B-B25D-E14C808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1BE-C875-47AD-A29D-908360B8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1CC8-EBF5-42E5-91B8-84FD48FC5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1640" y="9079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00640" y="457200"/>
            <a:ext cx="71892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484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084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561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0412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532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468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31440" y="168120"/>
            <a:ext cx="21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adatok… (Ingatlan, view502_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800" y="105264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3960" y="105264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88480" y="105264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105264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8560" y="105264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4920" y="1052640"/>
            <a:ext cx="576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64000" y="1052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4000" y="105264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3280" y="1052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7640" y="105264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64000" y="1341360"/>
            <a:ext cx="2087640" cy="2311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jes ingatlan 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64000" y="1557360"/>
            <a:ext cx="2087640" cy="231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% Önkormányzati ingatlan 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1822320"/>
            <a:ext cx="2087640" cy="231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ésből kiadott ingatlanok néz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2040" y="266688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58680" y="3141720"/>
            <a:ext cx="1368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09760" y="2664000"/>
            <a:ext cx="9144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37120" y="314172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" y="2637000"/>
            <a:ext cx="9144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9080" y="2637000"/>
            <a:ext cx="9144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rajzi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2657520"/>
            <a:ext cx="9144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rtokba a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76800" y="2637000"/>
            <a:ext cx="9144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nk. tul. hányad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7800" y="2565360"/>
            <a:ext cx="1295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34040" y="2801880"/>
            <a:ext cx="719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3320" y="2801880"/>
            <a:ext cx="6253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ado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07160" y="2546280"/>
            <a:ext cx="1295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83400" y="2797200"/>
            <a:ext cx="719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02680" y="2797200"/>
            <a:ext cx="6253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ado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41720"/>
            <a:ext cx="9716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 kodert +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5760" y="3141720"/>
            <a:ext cx="10555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helyrajzi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27560" y="314172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73200" y="314172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21800" y="314172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9000" y="314172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14360" y="314172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70000" y="314172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3681360"/>
            <a:ext cx="1368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29200" y="368136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37840" y="3681360"/>
            <a:ext cx="10555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helyrajzi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19640" y="368136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65280" y="368136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368136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1080" y="368136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06440" y="368136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62080" y="368136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2800" y="4255920"/>
            <a:ext cx="1368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0880" y="425592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69520" y="4255920"/>
            <a:ext cx="10555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helyrajzi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1320" y="425592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96960" y="425592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45560" y="425592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2760" y="425592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8120" y="425592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93760" y="425592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5240" y="147492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1200" y="182232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2200" y="1484280"/>
            <a:ext cx="1873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orzet/korzet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22200" y="1844640"/>
            <a:ext cx="1873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22200" y="2195640"/>
            <a:ext cx="1873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5880" y="21844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 rot="16200000">
            <a:off x="3145680" y="14533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22320" y="3681360"/>
            <a:ext cx="9716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 kodert +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60" y="4264200"/>
            <a:ext cx="9716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 kodert +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6200" y="5176800"/>
            <a:ext cx="49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Rendezettség: Q449 kodert + 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31640" y="9079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00640" y="457200"/>
            <a:ext cx="71892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1484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084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561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0412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468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1440" y="168120"/>
            <a:ext cx="21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adatok… (Ingatlan, view502_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800" y="105264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3960" y="105264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88480" y="105264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105264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48560" y="105264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14920" y="1052640"/>
            <a:ext cx="576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64000" y="1052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4000" y="105264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3280" y="1052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67640" y="105264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1341360"/>
            <a:ext cx="2087280" cy="231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jes ingatlan 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1590840"/>
            <a:ext cx="2087280" cy="2311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% Önkormányzati ingatlan 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854360"/>
            <a:ext cx="2087640" cy="231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ésből kiadott ingatlanok néz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266688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5000" y="3141720"/>
            <a:ext cx="1368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86080" y="2664000"/>
            <a:ext cx="9144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13080" y="314172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4520" y="2676600"/>
            <a:ext cx="9144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rtokba a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76800" y="2637000"/>
            <a:ext cx="9144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nk. tul. hányad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7800" y="2565360"/>
            <a:ext cx="1295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34040" y="2801880"/>
            <a:ext cx="719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3320" y="2801880"/>
            <a:ext cx="6253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ado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07160" y="2546280"/>
            <a:ext cx="1295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83400" y="2797200"/>
            <a:ext cx="719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02680" y="2797200"/>
            <a:ext cx="6253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ado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92280" y="314172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73200" y="314172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21800" y="314172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9000" y="314172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14360" y="314172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70000" y="314172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7080" y="3681360"/>
            <a:ext cx="1368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05160" y="368136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67080" y="368136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65280" y="368136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3520" y="368136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1080" y="368136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06440" y="368136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62080" y="368136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760" y="4255920"/>
            <a:ext cx="1368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37200" y="425592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98760" y="425592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6960" y="425592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45560" y="425592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2760" y="425592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38120" y="425592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3760" y="425592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5240" y="147492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1200" y="182232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22200" y="1484280"/>
            <a:ext cx="1873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orzet/korzet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22200" y="1844640"/>
            <a:ext cx="1873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2200" y="2195640"/>
            <a:ext cx="1873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880" y="21844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 rot="16200000">
            <a:off x="3145680" y="14533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2679840"/>
            <a:ext cx="1655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 m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314172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65640" y="366408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76440" y="4235400"/>
            <a:ext cx="16560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200" y="5176800"/>
            <a:ext cx="49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dezettség:  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31640" y="9079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00640" y="457200"/>
            <a:ext cx="71892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1484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084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561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0412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532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468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31440" y="168120"/>
            <a:ext cx="21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adatok… (Ingatlan, view502_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800" y="105264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3960" y="105264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8480" y="105264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105264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48560" y="105264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14920" y="1052640"/>
            <a:ext cx="576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64000" y="1052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04000" y="105264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3280" y="105264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67640" y="105264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1341360"/>
            <a:ext cx="2087280" cy="231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jes ingatlan 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00720" y="1590840"/>
            <a:ext cx="2087280" cy="231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% Önkormányzati ingatlan 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1854360"/>
            <a:ext cx="2087280" cy="2311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ésből kiadott ingatlanok néz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2665440"/>
            <a:ext cx="2160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5400" y="3141720"/>
            <a:ext cx="22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2673360"/>
            <a:ext cx="9144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38640" y="315108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10200" y="2674800"/>
            <a:ext cx="115236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nk. tul. hányad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72360" y="2674800"/>
            <a:ext cx="1295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k mér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38640" y="3141720"/>
            <a:ext cx="1152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50840" y="3141720"/>
            <a:ext cx="912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30720" y="369108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62760" y="426564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240" y="147492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1200" y="182232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22200" y="1484280"/>
            <a:ext cx="1873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orzet/korzet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22200" y="1844640"/>
            <a:ext cx="1873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22200" y="2195640"/>
            <a:ext cx="1873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5880" y="21844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 rot="16200000">
            <a:off x="3145680" y="14533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2679840"/>
            <a:ext cx="1655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sszes kezelt m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48000" y="314172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65640" y="366408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76440" y="4235400"/>
            <a:ext cx="16560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48360" y="3668760"/>
            <a:ext cx="1152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60560" y="3668760"/>
            <a:ext cx="912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4229280"/>
            <a:ext cx="1152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60560" y="4229280"/>
            <a:ext cx="912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3600" y="3697200"/>
            <a:ext cx="22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8000" y="4246560"/>
            <a:ext cx="22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0560" y="5361120"/>
            <a:ext cx="49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dezettség:  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200" y="5000760"/>
            <a:ext cx="496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tétel: csak azok az ingatlanok jelennek meg, ahol a 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ing_kezel_kiad_jogc_kod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 üre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00200" y="404640"/>
            <a:ext cx="54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jes ingatlan 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22200" y="404640"/>
            <a:ext cx="157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átum: 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840" y="404640"/>
            <a:ext cx="90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ista neve: r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1268280"/>
            <a:ext cx="107928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65680" y="126828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268280"/>
            <a:ext cx="9716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 kodert +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22840" y="1268280"/>
            <a:ext cx="7538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helyraj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14840" y="126828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60480" y="126828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9640" y="126828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36280" y="126828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25280" y="126828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42760" y="126828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9880" y="89676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61080" y="88884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52800" y="88884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31120" y="896760"/>
            <a:ext cx="92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rajzi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04040" y="8938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rtokbaad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7760" y="8794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nkormányza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há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88200" y="808200"/>
            <a:ext cx="48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60000" y="9288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64720" y="927000"/>
            <a:ext cx="53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ado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956720" y="784080"/>
            <a:ext cx="72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76080" y="92700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ss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720" y="93492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43920" y="933480"/>
            <a:ext cx="53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ado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704800" y="9208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ss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81840" y="1268280"/>
            <a:ext cx="431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96160" y="1268280"/>
            <a:ext cx="4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2920" y="1206360"/>
            <a:ext cx="88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1844640"/>
            <a:ext cx="107928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65680" y="184464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22840" y="1844640"/>
            <a:ext cx="7538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helyraj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4840" y="184464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0480" y="184464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89640" y="184464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36280" y="184464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25280" y="184464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42760" y="184464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81840" y="1844640"/>
            <a:ext cx="431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696160" y="1844640"/>
            <a:ext cx="4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2421000"/>
            <a:ext cx="107928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65680" y="242100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22840" y="2421000"/>
            <a:ext cx="7538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helyraj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14840" y="242100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60480" y="242100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9640" y="242100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36280" y="242100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25280" y="242100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42760" y="242100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1840" y="2421000"/>
            <a:ext cx="431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696160" y="2421000"/>
            <a:ext cx="4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63720" y="3897360"/>
            <a:ext cx="107928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7760" y="389736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7920" y="3897360"/>
            <a:ext cx="9716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 kodert +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14920" y="3897360"/>
            <a:ext cx="7538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helyraj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389736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52560" y="389736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13760" y="389736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36280" y="389736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15920" y="389736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34840" y="389736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73920" y="3897360"/>
            <a:ext cx="4316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88240" y="3897360"/>
            <a:ext cx="4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13760" y="4883040"/>
            <a:ext cx="7218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46000" y="488304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17360" y="389736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36640" y="389736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22040" y="4869000"/>
            <a:ext cx="703440" cy="580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041320" y="4869000"/>
            <a:ext cx="741600" cy="580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3141720"/>
            <a:ext cx="3635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 kodert + kodmegnev összese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42200" y="3068640"/>
            <a:ext cx="7218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74440" y="306864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50840" y="3054240"/>
            <a:ext cx="703440" cy="580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069760" y="3054240"/>
            <a:ext cx="741600" cy="580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5013360"/>
            <a:ext cx="3635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 kodert + kodmegnev összese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3600" y="5638680"/>
            <a:ext cx="891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indöszes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13760" y="5530680"/>
            <a:ext cx="7218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46000" y="553068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22040" y="5516640"/>
            <a:ext cx="703440" cy="580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1320" y="5516640"/>
            <a:ext cx="741600" cy="580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6200" y="6308640"/>
            <a:ext cx="49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Rendezettség: Q449 kodert + 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600200" y="404640"/>
            <a:ext cx="54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% Önkormányzati ingatlanok listá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22200" y="404640"/>
            <a:ext cx="157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átum: 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840" y="404640"/>
            <a:ext cx="90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ista neve: r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4720" y="88884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76440" y="88884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64200" y="888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rtokbaad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46200" y="8794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nkormányza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há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88360" y="808200"/>
            <a:ext cx="48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741080" y="9288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569800" y="927000"/>
            <a:ext cx="53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ado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025120" y="784080"/>
            <a:ext cx="72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31240" y="93672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77440" y="927000"/>
            <a:ext cx="53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ado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89760" y="4797360"/>
            <a:ext cx="7218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22000" y="479736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39560" y="4782960"/>
            <a:ext cx="703440" cy="580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58840" y="4782960"/>
            <a:ext cx="741600" cy="580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5000" y="1413000"/>
            <a:ext cx="1368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13080" y="141300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92280" y="141300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73200" y="141300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21800" y="141300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49000" y="141300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14360" y="141300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70000" y="141300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48000" y="141300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58040" y="888840"/>
            <a:ext cx="69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 m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8000" y="124920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3200" y="1881360"/>
            <a:ext cx="1368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1640" y="188136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0840" y="188136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71400" y="188136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20000" y="188136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7560" y="188136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12560" y="188136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68200" y="188136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6560" y="188136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3840" y="2349360"/>
            <a:ext cx="1368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02280" y="234936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81480" y="2349360"/>
            <a:ext cx="7981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birtokb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adas_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62040" y="2349360"/>
            <a:ext cx="9504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10640" y="2349360"/>
            <a:ext cx="7218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37840" y="2349360"/>
            <a:ext cx="7416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lakas_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03200" y="2349360"/>
            <a:ext cx="70344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358840" y="2349360"/>
            <a:ext cx="74160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eladot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nemlak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36840" y="2349360"/>
            <a:ext cx="16560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7840" y="494172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dösszes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6200" y="5877000"/>
            <a:ext cx="49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dezettség:  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5440" y="1413000"/>
            <a:ext cx="22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69040" y="142236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80000" y="1413000"/>
            <a:ext cx="1152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98840" y="1413000"/>
            <a:ext cx="912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61120" y="196200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92800" y="253692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78400" y="141300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95680" y="193500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06840" y="250668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80000" y="1916280"/>
            <a:ext cx="1152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08200" y="1940040"/>
            <a:ext cx="912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80000" y="2468520"/>
            <a:ext cx="1152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08200" y="2500200"/>
            <a:ext cx="912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968480"/>
            <a:ext cx="22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8040" y="2517840"/>
            <a:ext cx="22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60560" y="392040"/>
            <a:ext cx="54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ésből kiadott ingatlanok listá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22200" y="404640"/>
            <a:ext cx="157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átum: 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840" y="404640"/>
            <a:ext cx="90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ista neve: r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720" y="88884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00360" y="88884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69560" y="8794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nkormányza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hányad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56240" y="888840"/>
            <a:ext cx="11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 ingatlan m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8000" y="124920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59600" y="888840"/>
            <a:ext cx="104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k mérete m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02160" y="304164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35280" y="2997360"/>
            <a:ext cx="16560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89720" y="2973240"/>
            <a:ext cx="1152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onkorm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ulajdoni_hany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100280" y="2997360"/>
            <a:ext cx="9122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7760" y="3022560"/>
            <a:ext cx="22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 + ing_lepcsoha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52560" y="5288040"/>
            <a:ext cx="498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dezettség:  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33840" y="4927680"/>
            <a:ext cx="496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tétel: csak azok az ingatlanok jelennek meg, ahol a 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ing_kezel_kiad_jogc_kod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em üre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10200" y="39924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dösszes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37080" y="3946680"/>
            <a:ext cx="165564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ing_kezelt_lakas terulet +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t_nemlakas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92920" y="4005360"/>
            <a:ext cx="11286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m ing_telek_mer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15:08:04Z</dcterms:created>
  <dc:creator>Mariann</dc:creator>
  <dc:description/>
  <dc:language>en-US</dc:language>
  <cp:lastModifiedBy>Mariann</cp:lastModifiedBy>
  <dcterms:modified xsi:type="dcterms:W3CDTF">2013-08-01T13:26:43Z</dcterms:modified>
  <cp:revision>9</cp:revision>
  <dc:subject/>
  <dc:title>1. dia</dc:title>
</cp:coreProperties>
</file>