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80F-4936-42D7-9147-AFE2E6E6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84E-942C-4830-868E-947A011F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0AB-980D-45A8-9A76-C56E507D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A3A-C977-4E69-869D-40E80443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110-B185-44F2-85F3-203AB90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581-FF2F-46A1-A24C-A4930688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2A8-F1A0-48E1-921F-3C7BB0CD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E61-B84D-45C0-811E-73F86867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50A-10A3-4E7F-8899-BC514B0C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9D4-F889-4466-9E4D-E8678558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6E6-A937-45C1-818D-60A464AF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5D3-FB85-408A-BDE6-B8CB5A7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5089-96A5-4A29-BB95-B05947E79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6064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13320" y="455760"/>
            <a:ext cx="65088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26120" y="46044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7376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05732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04240" y="1039680"/>
            <a:ext cx="98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csoport né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28920" y="1052640"/>
            <a:ext cx="143964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csopor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05264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csop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9760" y="1727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35200" y="182088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820880"/>
            <a:ext cx="1476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801800"/>
            <a:ext cx="7905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1795320"/>
            <a:ext cx="122544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. adható engedmény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9960" y="1820880"/>
            <a:ext cx="7938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mé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35200" y="217980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csop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179800"/>
            <a:ext cx="1403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9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217980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edmeny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25400" y="2179800"/>
            <a:ext cx="4046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2125800"/>
            <a:ext cx="1152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fa_csopor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80760" y="168120"/>
            <a:ext cx="23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Árucsoport adatok… (Arucsopor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95560" y="2179800"/>
            <a:ext cx="7124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edme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42000" y="1801800"/>
            <a:ext cx="1131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83200" y="1820880"/>
            <a:ext cx="576360" cy="2156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2179800"/>
            <a:ext cx="64764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me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12000" y="1803240"/>
            <a:ext cx="1224000" cy="2156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ámtarifa szá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12000" y="2179800"/>
            <a:ext cx="1081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t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35200" y="251784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csop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00" y="2517840"/>
            <a:ext cx="1403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9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52720" y="252720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edmeny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25400" y="2517840"/>
            <a:ext cx="4046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5280" y="2527200"/>
            <a:ext cx="7124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edme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2517840"/>
            <a:ext cx="64764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me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31080" y="2517840"/>
            <a:ext cx="1081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t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49600" y="2873520"/>
            <a:ext cx="12236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csop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040" y="2873520"/>
            <a:ext cx="1403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Q49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67120" y="288288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edmeny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39440" y="2873520"/>
            <a:ext cx="4046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9320" y="2882880"/>
            <a:ext cx="7124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edme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2852640"/>
            <a:ext cx="64764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me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45480" y="2873520"/>
            <a:ext cx="1081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t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354816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33440" y="354024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5272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7344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6121440" y="354024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6624720" y="354024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5616720" y="354024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lastslide"/>
          </p:cNvPr>
          <p:cNvSpPr/>
          <p:nvPr/>
        </p:nvSpPr>
        <p:spPr>
          <a:xfrm>
            <a:off x="7129440" y="354024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25189" y="10800"/>
                </a:moveTo>
                <a:lnTo>
                  <a:pt x="14684" y="17806"/>
                </a:lnTo>
                <a:lnTo>
                  <a:pt x="14684" y="3794"/>
                </a:lnTo>
                <a:close/>
              </a:path>
              <a:path fill="darken" w="43380" h="21600">
                <a:moveTo>
                  <a:pt x="27034" y="3794"/>
                </a:moveTo>
                <a:lnTo>
                  <a:pt x="27034" y="17806"/>
                </a:lnTo>
                <a:lnTo>
                  <a:pt x="28696" y="17806"/>
                </a:lnTo>
                <a:lnTo>
                  <a:pt x="2869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75120" y="3970440"/>
            <a:ext cx="1403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9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3080" y="3957480"/>
            <a:ext cx="16556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csop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72160" y="432900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edmeny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4987800"/>
            <a:ext cx="17272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me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0720" y="5348160"/>
            <a:ext cx="2016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fa_csopor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70080" y="5708520"/>
            <a:ext cx="1081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t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96720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 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4000" y="3957480"/>
            <a:ext cx="98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 csoport né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4365720"/>
            <a:ext cx="79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mé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14720" y="43243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engedme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0360" y="4365720"/>
            <a:ext cx="142560" cy="144360"/>
            <a:chOff x="2970360" y="4365720"/>
            <a:chExt cx="142560" cy="144360"/>
          </a:xfrm>
        </p:grpSpPr>
        <p:sp>
          <p:nvSpPr>
            <p:cNvPr id="104" name=""/>
            <p:cNvSpPr/>
            <p:nvPr/>
          </p:nvSpPr>
          <p:spPr>
            <a:xfrm>
              <a:off x="2970360" y="4365720"/>
              <a:ext cx="1425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04920" y="43941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553480" y="462924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6386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fe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989440" y="4680000"/>
            <a:ext cx="142560" cy="144360"/>
            <a:chOff x="2989440" y="4680000"/>
            <a:chExt cx="142560" cy="144360"/>
          </a:xfrm>
        </p:grpSpPr>
        <p:sp>
          <p:nvSpPr>
            <p:cNvPr id="109" name=""/>
            <p:cNvSpPr/>
            <p:nvPr/>
          </p:nvSpPr>
          <p:spPr>
            <a:xfrm>
              <a:off x="2989440" y="4680000"/>
              <a:ext cx="1425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24000" y="470844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085280" y="432756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. adható engedmény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6560" y="464184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ar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8880" y="464040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ható felár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8880" y="498312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 rot="16200000">
            <a:off x="4823640" y="4958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11200" y="53355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79400" y="536724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66800" y="5684760"/>
            <a:ext cx="47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T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86760" y="5695920"/>
            <a:ext cx="115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TSZ 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 rot="16200000">
            <a:off x="4833000" y="53222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5348160"/>
            <a:ext cx="1081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fa_sz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708520"/>
            <a:ext cx="1081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tsz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3357720"/>
            <a:ext cx="7488000" cy="2808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2600" y="6296040"/>
            <a:ext cx="767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gjegyzés:  ha engedmény=„I” akkor max. adható engedmény % mező aktív, ha felár=„I”, akkor az adható felár % mező aktív, egyébként szürk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 rot="16200000">
            <a:off x="3936240" y="1016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 rot="16200000">
            <a:off x="4358520" y="39261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2498760"/>
            <a:ext cx="1152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fa_csopor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922480"/>
            <a:ext cx="1152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fa_csopor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6064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13320" y="455760"/>
            <a:ext cx="65088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26120" y="46044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7376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4920" y="10573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azonosí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01600" y="1062000"/>
            <a:ext cx="41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1960" y="1052640"/>
            <a:ext cx="143964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10764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70028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97360" y="182088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1820880"/>
            <a:ext cx="1476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78600" y="1816200"/>
            <a:ext cx="1079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vékeny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217980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03720" y="2179800"/>
            <a:ext cx="1403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szá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83640" y="168120"/>
            <a:ext cx="164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Áruk adatai… (Aruk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46920" y="2179800"/>
            <a:ext cx="13269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evekenysegi_kor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41480" y="354816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9892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784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3856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013440" y="354024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6516720" y="354024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5508720" y="354024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lastslide"/>
          </p:cNvPr>
          <p:cNvSpPr/>
          <p:nvPr/>
        </p:nvSpPr>
        <p:spPr>
          <a:xfrm>
            <a:off x="7021440" y="354024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25189" y="10800"/>
                </a:moveTo>
                <a:lnTo>
                  <a:pt x="14684" y="17806"/>
                </a:lnTo>
                <a:lnTo>
                  <a:pt x="14684" y="3794"/>
                </a:lnTo>
                <a:close/>
              </a:path>
              <a:path fill="darken" w="43380" h="21600">
                <a:moveTo>
                  <a:pt x="27034" y="3794"/>
                </a:moveTo>
                <a:lnTo>
                  <a:pt x="27034" y="17806"/>
                </a:lnTo>
                <a:lnTo>
                  <a:pt x="28696" y="17806"/>
                </a:lnTo>
                <a:lnTo>
                  <a:pt x="2869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5040" y="3995640"/>
            <a:ext cx="1403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/arucso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4422600"/>
            <a:ext cx="17269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5040" y="5157720"/>
            <a:ext cx="20160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evekenysegi_kor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0720" y="398304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 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1440" y="444492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6920" y="5145120"/>
            <a:ext cx="10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vékenységi kö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 rot="16200000">
            <a:off x="5976000" y="5122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3357720"/>
            <a:ext cx="6048360" cy="2808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 rot="16200000">
            <a:off x="5615640" y="3940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35320" y="4797360"/>
            <a:ext cx="17272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000" y="4784760"/>
            <a:ext cx="104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00360" y="1820880"/>
            <a:ext cx="1476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0360" y="2179800"/>
            <a:ext cx="1403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/arucso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3840" y="262260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19560" y="2622600"/>
            <a:ext cx="1403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szá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62760" y="2622600"/>
            <a:ext cx="13269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evekenysegi_kor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16200" y="2622600"/>
            <a:ext cx="1403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csoport/arucso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6064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13320" y="455760"/>
            <a:ext cx="65088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26120" y="46044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7376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14040" y="1068480"/>
            <a:ext cx="41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1960" y="1052640"/>
            <a:ext cx="143964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/aru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70028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30280" y="182556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1825560"/>
            <a:ext cx="1476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 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1835280"/>
            <a:ext cx="1079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11560" y="2179800"/>
            <a:ext cx="12236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zet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2185920"/>
            <a:ext cx="1403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84360" y="168120"/>
            <a:ext cx="141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Ár adatok… (ar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64080" y="219564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1480" y="354816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9892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784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3856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6013440" y="354024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6516720" y="354024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5508720" y="354024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lastslide"/>
          </p:cNvPr>
          <p:cNvSpPr/>
          <p:nvPr/>
        </p:nvSpPr>
        <p:spPr>
          <a:xfrm>
            <a:off x="7021440" y="354024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25189" y="10800"/>
                </a:moveTo>
                <a:lnTo>
                  <a:pt x="14684" y="17806"/>
                </a:lnTo>
                <a:lnTo>
                  <a:pt x="14684" y="3794"/>
                </a:lnTo>
                <a:close/>
              </a:path>
              <a:path fill="darken" w="43380" h="21600">
                <a:moveTo>
                  <a:pt x="27034" y="3794"/>
                </a:moveTo>
                <a:lnTo>
                  <a:pt x="27034" y="17806"/>
                </a:lnTo>
                <a:lnTo>
                  <a:pt x="28696" y="17806"/>
                </a:lnTo>
                <a:lnTo>
                  <a:pt x="2869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4005360"/>
            <a:ext cx="1800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4437000"/>
            <a:ext cx="1800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zet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5157720"/>
            <a:ext cx="17269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_kezd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1920" y="4076640"/>
            <a:ext cx="104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 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720" y="4437000"/>
            <a:ext cx="51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6280" y="5173560"/>
            <a:ext cx="128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vényesség kezd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3357720"/>
            <a:ext cx="6048360" cy="2808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40360" y="4797360"/>
            <a:ext cx="17269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70280" y="481320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 rot="16200000">
            <a:off x="4680720" y="1016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88000" y="1768320"/>
            <a:ext cx="107928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vényesség kezd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1773360"/>
            <a:ext cx="107964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vényesség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59280" y="220500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_kezd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220500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1840" y="249408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zet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7560" y="2500200"/>
            <a:ext cx="1403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54360" y="250992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49920" y="251928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_kezd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1000" y="251928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01840" y="277164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zet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560" y="2778120"/>
            <a:ext cx="1403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4360" y="278748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49920" y="279720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_kezd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31000" y="2797200"/>
            <a:ext cx="10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 rot="16200000">
            <a:off x="5976000" y="39690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 rot="16200000">
            <a:off x="5976000" y="4401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11560" y="5484960"/>
            <a:ext cx="17272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_veg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88560" y="550080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vényesség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000" y="1022400"/>
            <a:ext cx="66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vén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1009800"/>
            <a:ext cx="25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Ha igen, csak azok az árak jelennek meg, ahol az ar_veg_dat ‘is null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69080" y="1052640"/>
            <a:ext cx="142920" cy="144360"/>
            <a:chOff x="5869080" y="1052640"/>
            <a:chExt cx="142920" cy="144360"/>
          </a:xfrm>
        </p:grpSpPr>
        <p:sp>
          <p:nvSpPr>
            <p:cNvPr id="231" name=""/>
            <p:cNvSpPr/>
            <p:nvPr/>
          </p:nvSpPr>
          <p:spPr>
            <a:xfrm>
              <a:off x="5869080" y="105264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4000" y="1081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6064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13320" y="455760"/>
            <a:ext cx="65088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26120" y="46044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7376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3480" y="1068480"/>
            <a:ext cx="112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i egy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76680" y="1062000"/>
            <a:ext cx="16160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_egys + szerv_egys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70028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30280" y="1825560"/>
            <a:ext cx="1521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i egység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1825560"/>
            <a:ext cx="1476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i egység k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95560" y="1825560"/>
            <a:ext cx="280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i egység működésének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8440" y="2189160"/>
            <a:ext cx="14828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_egys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2185920"/>
            <a:ext cx="1513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_eg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76800" y="168120"/>
            <a:ext cx="28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ezeti egységek… (szervezeti_egyseg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41480" y="354816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9892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784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38560" y="35402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6013440" y="354024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6516720" y="354024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5508720" y="354024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lastslide"/>
          </p:cNvPr>
          <p:cNvSpPr/>
          <p:nvPr/>
        </p:nvSpPr>
        <p:spPr>
          <a:xfrm>
            <a:off x="7021440" y="354024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25189" y="10800"/>
                </a:moveTo>
                <a:lnTo>
                  <a:pt x="14684" y="17806"/>
                </a:lnTo>
                <a:lnTo>
                  <a:pt x="14684" y="3794"/>
                </a:lnTo>
                <a:close/>
              </a:path>
              <a:path fill="darken" w="43380" h="21600">
                <a:moveTo>
                  <a:pt x="27034" y="3794"/>
                </a:moveTo>
                <a:lnTo>
                  <a:pt x="27034" y="17806"/>
                </a:lnTo>
                <a:lnTo>
                  <a:pt x="28696" y="17806"/>
                </a:lnTo>
                <a:lnTo>
                  <a:pt x="2869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4005360"/>
            <a:ext cx="79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_eg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40360" y="4437000"/>
            <a:ext cx="2160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_egys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67960" y="4000680"/>
            <a:ext cx="14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i egység k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06120" y="443700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i egység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19280" y="3357720"/>
            <a:ext cx="6048360" cy="2808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21680" y="4813200"/>
            <a:ext cx="127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ködésének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95560" y="2195640"/>
            <a:ext cx="2737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_egys_muko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92720" y="1052640"/>
            <a:ext cx="21744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40360" y="4846680"/>
            <a:ext cx="3024000" cy="6426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_egys_muko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0:22:45Z</dcterms:created>
  <dc:creator>Mariann</dc:creator>
  <dc:description/>
  <dc:language>en-US</dc:language>
  <cp:lastModifiedBy>Mariann</cp:lastModifiedBy>
  <dcterms:modified xsi:type="dcterms:W3CDTF">2013-08-16T09:10:12Z</dcterms:modified>
  <cp:revision>10</cp:revision>
  <dc:subject/>
  <dc:title>1. dia</dc:title>
</cp:coreProperties>
</file>