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33946-D109-4F12-AFA6-EA7D21F12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8113E-29BD-46C4-821E-798B8B00B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8A119-FBDC-4F18-AC98-DA86DFEAE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EB539-AFF6-40FC-BC74-10912AC68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52870-159E-47BF-8620-4AD3390E8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31B9E-0832-4DFC-8273-391CAF520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1F2D9-F353-43C5-8471-2C3C87B97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EE54B-1DCE-4B44-92CC-2683C2EC8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6418C-B420-4F32-A5E1-665DE0F7B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D5C63-35E7-4A03-ADF6-EAF8A13A5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F4F93-7C03-4187-9C88-A350D16C4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4BE5A-B739-4276-97EF-44CBEE041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41695-F791-401A-9B9F-1AAC943909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221440" y="620640"/>
            <a:ext cx="934920" cy="231120"/>
          </a:xfrm>
          <a:prstGeom prst="rect">
            <a:avLst/>
          </a:prstGeom>
          <a:solidFill>
            <a:srgbClr val="c0c0c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okumentu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40720" y="115920"/>
            <a:ext cx="105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KV EI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15760" y="239760"/>
            <a:ext cx="311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Nem lakás szerződések… (Nemlakas_szerzodes, view   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00720" y="620640"/>
            <a:ext cx="647640" cy="231120"/>
          </a:xfrm>
          <a:prstGeom prst="rect">
            <a:avLst/>
          </a:prstGeom>
          <a:solidFill>
            <a:srgbClr val="c0c0c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ézetek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351400" y="907920"/>
            <a:ext cx="36658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érleti jog átruházá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gánrendelé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Üres helyiségek bérbeadása 3A. § (7)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Üres helyiségek bérbeadása 4. § (10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Üres helyiségek bérbeadása 4. § (17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lbérleti hozzájárulá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lbérleti hozzájárulás – preferál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lbérlet megszüntetése – bejelentési kötelezettség elmulasztásáva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lbérlet megszüntetése – bejelentési kötelezettség teljesítéséve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elyiség csere – bérlő fizetési kötelezettségéve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754440" y="907920"/>
            <a:ext cx="175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lőkészített szerződések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zignálásra váró szerződések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láírásra váró szerződések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zerződések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68360" y="907920"/>
            <a:ext cx="813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84480" y="455760"/>
            <a:ext cx="5954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027760" y="457200"/>
            <a:ext cx="936360" cy="368280"/>
          </a:xfrm>
          <a:prstGeom prst="rect">
            <a:avLst/>
          </a:prstGeom>
          <a:solidFill>
            <a:srgbClr val="ff9900">
              <a:alpha val="7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em lakás szerződések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751200" y="455760"/>
            <a:ext cx="5954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375080" y="457200"/>
            <a:ext cx="5954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12000" y="455760"/>
            <a:ext cx="5950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659640" y="455760"/>
            <a:ext cx="5950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308720" y="455760"/>
            <a:ext cx="5954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01040" y="115920"/>
            <a:ext cx="105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KV EI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362400" y="168120"/>
            <a:ext cx="367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Nem lakás szerződés előkészítés… (Nem_lakas_szerz, view 518_1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012000" y="981000"/>
            <a:ext cx="647640" cy="231120"/>
          </a:xfrm>
          <a:prstGeom prst="rect">
            <a:avLst/>
          </a:prstGeom>
          <a:solidFill>
            <a:srgbClr val="c0c0c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éz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369200" y="981000"/>
            <a:ext cx="792000" cy="231120"/>
          </a:xfrm>
          <a:prstGeom prst="rect">
            <a:avLst/>
          </a:prstGeom>
          <a:solidFill>
            <a:srgbClr val="c0c0c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imutatá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688080" y="981000"/>
            <a:ext cx="647640" cy="231120"/>
          </a:xfrm>
          <a:prstGeom prst="rect">
            <a:avLst/>
          </a:prstGeom>
          <a:solidFill>
            <a:srgbClr val="c0c0c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List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8180280" y="981000"/>
            <a:ext cx="935280" cy="231120"/>
          </a:xfrm>
          <a:prstGeom prst="rect">
            <a:avLst/>
          </a:prstGeom>
          <a:solidFill>
            <a:srgbClr val="c0c0c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okumentu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944800" y="981000"/>
            <a:ext cx="905040" cy="231120"/>
          </a:xfrm>
          <a:prstGeom prst="rect">
            <a:avLst/>
          </a:prstGeom>
          <a:solidFill>
            <a:srgbClr val="c0c0c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zignálá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884760" y="981000"/>
            <a:ext cx="788760" cy="368280"/>
          </a:xfrm>
          <a:prstGeom prst="rect">
            <a:avLst/>
          </a:prstGeom>
          <a:solidFill>
            <a:srgbClr val="c0c0c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Szerződésaláírá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985680"/>
            <a:ext cx="647640" cy="231120"/>
          </a:xfrm>
          <a:prstGeom prst="rect">
            <a:avLst/>
          </a:prstGeom>
          <a:solidFill>
            <a:srgbClr val="c0c0c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ilépé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81200" y="981000"/>
            <a:ext cx="647640" cy="231120"/>
          </a:xfrm>
          <a:prstGeom prst="rect">
            <a:avLst/>
          </a:prstGeom>
          <a:solidFill>
            <a:srgbClr val="c0c0c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rissíté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455840" y="982800"/>
            <a:ext cx="790560" cy="231120"/>
          </a:xfrm>
          <a:prstGeom prst="rect">
            <a:avLst/>
          </a:prstGeom>
          <a:solidFill>
            <a:srgbClr val="c0c0c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aramét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270160" y="981000"/>
            <a:ext cx="647640" cy="231120"/>
          </a:xfrm>
          <a:prstGeom prst="rect">
            <a:avLst/>
          </a:prstGeom>
          <a:solidFill>
            <a:srgbClr val="c0c0c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Új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687920" y="981000"/>
            <a:ext cx="647640" cy="231120"/>
          </a:xfrm>
          <a:prstGeom prst="rect">
            <a:avLst/>
          </a:prstGeom>
          <a:solidFill>
            <a:srgbClr val="c0c0c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ódosí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354640" y="981000"/>
            <a:ext cx="647640" cy="231120"/>
          </a:xfrm>
          <a:prstGeom prst="rect">
            <a:avLst/>
          </a:prstGeom>
          <a:solidFill>
            <a:srgbClr val="c0c0c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örlé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831960" y="1968480"/>
            <a:ext cx="743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örzsszá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552680" y="1987560"/>
            <a:ext cx="143964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Ingatlan/ing_torzssza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92720" y="1969920"/>
            <a:ext cx="1719360" cy="236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gatlan/ing_utc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835880" y="1982880"/>
            <a:ext cx="389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í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018080" y="1528920"/>
            <a:ext cx="545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Övez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547640" y="1557360"/>
            <a:ext cx="208764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korzet/korzet_kod</a:t>
            </a:r>
            <a:r>
              <a:rPr b="0" lang="hu-HU" sz="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Q449,kodmegnev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>
            <a:hlinkClick r:id="" action="ppaction://hlinkshowjump?jump=previousslide"/>
          </p:cNvPr>
          <p:cNvSpPr/>
          <p:nvPr/>
        </p:nvSpPr>
        <p:spPr>
          <a:xfrm rot="16200000">
            <a:off x="3672720" y="1521720"/>
            <a:ext cx="216000" cy="28728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87280"/>
              <a:gd name="textAreaBottom" fmla="*/ 273600 h 287280"/>
            </a:gdLst>
            <a:ahLst/>
            <a:rect l="textAreaLeft" t="textAreaTop" r="textAreaRight" b="textAreaBottom"/>
            <a:pathLst>
              <a:path w="21600" h="28716">
                <a:moveTo>
                  <a:pt x="0" y="0"/>
                </a:moveTo>
                <a:lnTo>
                  <a:pt x="21600" y="0"/>
                </a:lnTo>
                <a:lnTo>
                  <a:pt x="21600" y="28716"/>
                </a:lnTo>
                <a:lnTo>
                  <a:pt x="0" y="28716"/>
                </a:lnTo>
                <a:close/>
              </a:path>
              <a:path fill="lightenLess" w="21600" h="2871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16">
                <a:moveTo>
                  <a:pt x="21600" y="0"/>
                </a:moveTo>
                <a:lnTo>
                  <a:pt x="21600" y="28716"/>
                </a:lnTo>
                <a:lnTo>
                  <a:pt x="20200" y="27316"/>
                </a:lnTo>
                <a:lnTo>
                  <a:pt x="20200" y="1400"/>
                </a:lnTo>
                <a:close/>
              </a:path>
              <a:path fill="darkenLess" w="21600" h="28716">
                <a:moveTo>
                  <a:pt x="21600" y="28716"/>
                </a:moveTo>
                <a:lnTo>
                  <a:pt x="0" y="28716"/>
                </a:lnTo>
                <a:lnTo>
                  <a:pt x="1400" y="27316"/>
                </a:lnTo>
                <a:lnTo>
                  <a:pt x="20200" y="27316"/>
                </a:lnTo>
                <a:close/>
              </a:path>
              <a:path fill="lighten" w="21600" h="28716">
                <a:moveTo>
                  <a:pt x="0" y="28716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16"/>
                </a:lnTo>
                <a:close/>
              </a:path>
              <a:path fill="darken" w="21600" h="28716">
                <a:moveTo>
                  <a:pt x="3794" y="14358"/>
                </a:moveTo>
                <a:lnTo>
                  <a:pt x="17806" y="7352"/>
                </a:lnTo>
                <a:lnTo>
                  <a:pt x="17806" y="21365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759560" y="1550880"/>
            <a:ext cx="506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Ügyfé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292720" y="1557360"/>
            <a:ext cx="266400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Ugyfel/ugyfelnev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2484360"/>
            <a:ext cx="813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239840" y="2637000"/>
            <a:ext cx="2017800" cy="231120"/>
          </a:xfrm>
          <a:prstGeom prst="rect">
            <a:avLst/>
          </a:prstGeom>
          <a:gradFill rotWithShape="0">
            <a:gsLst>
              <a:gs pos="0">
                <a:srgbClr val="0099ff"/>
              </a:gs>
              <a:gs pos="100000">
                <a:srgbClr val="3333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í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03040" y="2643120"/>
            <a:ext cx="935280" cy="231120"/>
          </a:xfrm>
          <a:prstGeom prst="rect">
            <a:avLst/>
          </a:prstGeom>
          <a:gradFill rotWithShape="0">
            <a:gsLst>
              <a:gs pos="0">
                <a:srgbClr val="0099ff"/>
              </a:gs>
              <a:gs pos="100000">
                <a:srgbClr val="3333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örzsszá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016680" y="2608200"/>
            <a:ext cx="860400" cy="368280"/>
          </a:xfrm>
          <a:prstGeom prst="rect">
            <a:avLst/>
          </a:prstGeom>
          <a:gradFill rotWithShape="0">
            <a:gsLst>
              <a:gs pos="0">
                <a:srgbClr val="0099ff"/>
              </a:gs>
              <a:gs pos="100000">
                <a:srgbClr val="3333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zerződés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zám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939000" y="2603520"/>
            <a:ext cx="963720" cy="368280"/>
          </a:xfrm>
          <a:prstGeom prst="rect">
            <a:avLst/>
          </a:prstGeom>
          <a:gradFill rotWithShape="0">
            <a:gsLst>
              <a:gs pos="0">
                <a:srgbClr val="0099ff"/>
              </a:gs>
              <a:gs pos="100000">
                <a:srgbClr val="3333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zerződés kel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287880" y="2637000"/>
            <a:ext cx="914400" cy="368280"/>
          </a:xfrm>
          <a:prstGeom prst="rect">
            <a:avLst/>
          </a:prstGeom>
          <a:gradFill rotWithShape="0">
            <a:gsLst>
              <a:gs pos="0">
                <a:srgbClr val="0099ff"/>
              </a:gs>
              <a:gs pos="100000">
                <a:srgbClr val="3333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Ügyfél azonosító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931160" y="2612880"/>
            <a:ext cx="936720" cy="368280"/>
          </a:xfrm>
          <a:prstGeom prst="rect">
            <a:avLst/>
          </a:prstGeom>
          <a:gradFill rotWithShape="0">
            <a:gsLst>
              <a:gs pos="0">
                <a:srgbClr val="0099ff"/>
              </a:gs>
              <a:gs pos="100000">
                <a:srgbClr val="3333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zerződés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lejára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85680" y="3125880"/>
            <a:ext cx="1150920" cy="33732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nemlakas_id </a:t>
            </a:r>
            <a:r>
              <a:rPr b="0" lang="hu-HU" sz="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Lb_torzssza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303200" y="3106800"/>
            <a:ext cx="1944720" cy="33732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nemlakas_id</a:t>
            </a:r>
            <a:r>
              <a:rPr b="0" lang="hu-HU" sz="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 lb_utca+lb_hazszam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lb_lepcsohaz+ lb_emelet+lb_aj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255840" y="3106800"/>
            <a:ext cx="936720" cy="33732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ugyfel_id</a:t>
            </a:r>
            <a:r>
              <a:rPr b="0" lang="hu-HU" sz="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ugyfel/ugyfelko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211640" y="2637000"/>
            <a:ext cx="1800360" cy="231120"/>
          </a:xfrm>
          <a:prstGeom prst="rect">
            <a:avLst/>
          </a:prstGeom>
          <a:gradFill rotWithShape="0">
            <a:gsLst>
              <a:gs pos="0">
                <a:srgbClr val="0099ff"/>
              </a:gs>
              <a:gs pos="100000">
                <a:srgbClr val="3333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Ügyfél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275000" y="3097080"/>
            <a:ext cx="1727280" cy="21564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ugyfel_id</a:t>
            </a:r>
            <a:r>
              <a:rPr b="0" lang="hu-HU" sz="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Ugyfel/ugyfelnev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035760" y="3092400"/>
            <a:ext cx="912600" cy="33732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b_szerzod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_sza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000920" y="3097080"/>
            <a:ext cx="936720" cy="33732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b_szerzodes_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alairas_d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956720" y="3102120"/>
            <a:ext cx="936360" cy="33732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b_szerzodes_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lejarta_d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5680" y="3559320"/>
            <a:ext cx="1150920" cy="33732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nemlakas_id </a:t>
            </a:r>
            <a:r>
              <a:rPr b="0" lang="hu-HU" sz="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Lb_torzssza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303200" y="3540240"/>
            <a:ext cx="1944720" cy="33732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nemlakas_id</a:t>
            </a:r>
            <a:r>
              <a:rPr b="0" lang="hu-HU" sz="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 lb_utca+lb_hazszam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lb_lepcsohaz+ lb_emelet+lb_aj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255840" y="3540240"/>
            <a:ext cx="936720" cy="33732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ugyfel_id</a:t>
            </a:r>
            <a:r>
              <a:rPr b="0" lang="hu-HU" sz="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ugyfel/ugyfelko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275000" y="3530520"/>
            <a:ext cx="1727280" cy="21564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ugyfel_id</a:t>
            </a:r>
            <a:r>
              <a:rPr b="0" lang="hu-HU" sz="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Ugyfel/ugyfelnev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035760" y="3525840"/>
            <a:ext cx="912600" cy="33732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b_szerzod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_sza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000920" y="3530520"/>
            <a:ext cx="936720" cy="33732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b_szerzodes_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alairas_d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56720" y="3535200"/>
            <a:ext cx="936360" cy="33732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b_szerzodes_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lejarta_d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08000" y="4019400"/>
            <a:ext cx="1150920" cy="33732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nemlakas_id </a:t>
            </a:r>
            <a:r>
              <a:rPr b="0" lang="hu-HU" sz="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Lb_torzssza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325520" y="4000680"/>
            <a:ext cx="1944720" cy="33732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nemlakas_id</a:t>
            </a:r>
            <a:r>
              <a:rPr b="0" lang="hu-HU" sz="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 lb_utca+lb_hazszam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lb_lepcsohaz+ lb_emelet+lb_aj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78160" y="4000680"/>
            <a:ext cx="936720" cy="33732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ugyfel_id</a:t>
            </a:r>
            <a:r>
              <a:rPr b="0" lang="hu-HU" sz="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ugyfel/ugyfelko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297320" y="3990960"/>
            <a:ext cx="1727280" cy="21564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ugyfel_id</a:t>
            </a:r>
            <a:r>
              <a:rPr b="0" lang="hu-HU" sz="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Ugyfel/ugyfelnev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058080" y="3986280"/>
            <a:ext cx="912600" cy="33732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b_szerzod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_sza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023240" y="3990960"/>
            <a:ext cx="936360" cy="33732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b_szerzodes_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alairas_d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978680" y="3995640"/>
            <a:ext cx="936720" cy="33732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b_szerzodes_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lejarta_d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540720" y="115920"/>
            <a:ext cx="105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KV EI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79280" y="620640"/>
            <a:ext cx="647640" cy="216000"/>
          </a:xfrm>
          <a:custGeom>
            <a:avLst/>
            <a:gdLst>
              <a:gd name="textAreaLeft" fmla="*/ 13680 w 647640"/>
              <a:gd name="textAreaRight" fmla="*/ 633960 w 64764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64692" h="21600">
                <a:moveTo>
                  <a:pt x="0" y="0"/>
                </a:moveTo>
                <a:lnTo>
                  <a:pt x="64692" y="0"/>
                </a:lnTo>
                <a:lnTo>
                  <a:pt x="64692" y="21600"/>
                </a:lnTo>
                <a:lnTo>
                  <a:pt x="0" y="21600"/>
                </a:lnTo>
                <a:close/>
              </a:path>
              <a:path fill="lightenLess" w="64692" h="21600">
                <a:moveTo>
                  <a:pt x="0" y="0"/>
                </a:moveTo>
                <a:lnTo>
                  <a:pt x="64692" y="0"/>
                </a:lnTo>
                <a:lnTo>
                  <a:pt x="63292" y="1400"/>
                </a:lnTo>
                <a:lnTo>
                  <a:pt x="1400" y="1400"/>
                </a:lnTo>
                <a:close/>
              </a:path>
              <a:path fill="darken" w="64692" h="21600">
                <a:moveTo>
                  <a:pt x="64692" y="0"/>
                </a:moveTo>
                <a:lnTo>
                  <a:pt x="64692" y="21600"/>
                </a:lnTo>
                <a:lnTo>
                  <a:pt x="63292" y="20200"/>
                </a:lnTo>
                <a:lnTo>
                  <a:pt x="63292" y="1400"/>
                </a:lnTo>
                <a:close/>
              </a:path>
              <a:path fill="darkenLess" w="64692" h="21600">
                <a:moveTo>
                  <a:pt x="646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92" y="20200"/>
                </a:lnTo>
                <a:close/>
              </a:path>
              <a:path fill="lighten" w="646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Új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36720" y="612720"/>
            <a:ext cx="647640" cy="216000"/>
          </a:xfrm>
          <a:custGeom>
            <a:avLst/>
            <a:gdLst>
              <a:gd name="textAreaLeft" fmla="*/ 13680 w 647640"/>
              <a:gd name="textAreaRight" fmla="*/ 633960 w 64764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64692" h="21600">
                <a:moveTo>
                  <a:pt x="0" y="0"/>
                </a:moveTo>
                <a:lnTo>
                  <a:pt x="64692" y="0"/>
                </a:lnTo>
                <a:lnTo>
                  <a:pt x="64692" y="21600"/>
                </a:lnTo>
                <a:lnTo>
                  <a:pt x="0" y="21600"/>
                </a:lnTo>
                <a:close/>
              </a:path>
              <a:path fill="lightenLess" w="64692" h="21600">
                <a:moveTo>
                  <a:pt x="0" y="0"/>
                </a:moveTo>
                <a:lnTo>
                  <a:pt x="64692" y="0"/>
                </a:lnTo>
                <a:lnTo>
                  <a:pt x="63292" y="1400"/>
                </a:lnTo>
                <a:lnTo>
                  <a:pt x="1400" y="1400"/>
                </a:lnTo>
                <a:close/>
              </a:path>
              <a:path fill="darken" w="64692" h="21600">
                <a:moveTo>
                  <a:pt x="64692" y="0"/>
                </a:moveTo>
                <a:lnTo>
                  <a:pt x="64692" y="21600"/>
                </a:lnTo>
                <a:lnTo>
                  <a:pt x="63292" y="20200"/>
                </a:lnTo>
                <a:lnTo>
                  <a:pt x="63292" y="1400"/>
                </a:lnTo>
                <a:close/>
              </a:path>
              <a:path fill="darkenLess" w="64692" h="21600">
                <a:moveTo>
                  <a:pt x="646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92" y="20200"/>
                </a:lnTo>
                <a:close/>
              </a:path>
              <a:path fill="lighten" w="646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ndb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655640" y="612720"/>
            <a:ext cx="648000" cy="216000"/>
          </a:xfrm>
          <a:custGeom>
            <a:avLst/>
            <a:gdLst>
              <a:gd name="textAreaLeft" fmla="*/ 13680 w 648000"/>
              <a:gd name="textAreaRight" fmla="*/ 634320 w 64800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64728" h="21600">
                <a:moveTo>
                  <a:pt x="0" y="0"/>
                </a:moveTo>
                <a:lnTo>
                  <a:pt x="64728" y="0"/>
                </a:lnTo>
                <a:lnTo>
                  <a:pt x="64728" y="21600"/>
                </a:lnTo>
                <a:lnTo>
                  <a:pt x="0" y="21600"/>
                </a:lnTo>
                <a:close/>
              </a:path>
              <a:path fill="lightenLess" w="64728" h="21600">
                <a:moveTo>
                  <a:pt x="0" y="0"/>
                </a:moveTo>
                <a:lnTo>
                  <a:pt x="64728" y="0"/>
                </a:lnTo>
                <a:lnTo>
                  <a:pt x="63328" y="1400"/>
                </a:lnTo>
                <a:lnTo>
                  <a:pt x="1400" y="1400"/>
                </a:lnTo>
                <a:close/>
              </a:path>
              <a:path fill="darken" w="64728" h="21600">
                <a:moveTo>
                  <a:pt x="64728" y="0"/>
                </a:moveTo>
                <a:lnTo>
                  <a:pt x="64728" y="21600"/>
                </a:lnTo>
                <a:lnTo>
                  <a:pt x="63328" y="20200"/>
                </a:lnTo>
                <a:lnTo>
                  <a:pt x="63328" y="1400"/>
                </a:lnTo>
                <a:close/>
              </a:path>
              <a:path fill="darkenLess" w="64728" h="21600">
                <a:moveTo>
                  <a:pt x="647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28" y="20200"/>
                </a:lnTo>
                <a:close/>
              </a:path>
              <a:path fill="lighten" w="647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égse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376360" y="612720"/>
            <a:ext cx="648000" cy="216000"/>
          </a:xfrm>
          <a:custGeom>
            <a:avLst/>
            <a:gdLst>
              <a:gd name="textAreaLeft" fmla="*/ 13680 w 648000"/>
              <a:gd name="textAreaRight" fmla="*/ 634320 w 64800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64728" h="21600">
                <a:moveTo>
                  <a:pt x="0" y="0"/>
                </a:moveTo>
                <a:lnTo>
                  <a:pt x="64728" y="0"/>
                </a:lnTo>
                <a:lnTo>
                  <a:pt x="64728" y="21600"/>
                </a:lnTo>
                <a:lnTo>
                  <a:pt x="0" y="21600"/>
                </a:lnTo>
                <a:close/>
              </a:path>
              <a:path fill="lightenLess" w="64728" h="21600">
                <a:moveTo>
                  <a:pt x="0" y="0"/>
                </a:moveTo>
                <a:lnTo>
                  <a:pt x="64728" y="0"/>
                </a:lnTo>
                <a:lnTo>
                  <a:pt x="63328" y="1400"/>
                </a:lnTo>
                <a:lnTo>
                  <a:pt x="1400" y="1400"/>
                </a:lnTo>
                <a:close/>
              </a:path>
              <a:path fill="darken" w="64728" h="21600">
                <a:moveTo>
                  <a:pt x="64728" y="0"/>
                </a:moveTo>
                <a:lnTo>
                  <a:pt x="64728" y="21600"/>
                </a:lnTo>
                <a:lnTo>
                  <a:pt x="63328" y="20200"/>
                </a:lnTo>
                <a:lnTo>
                  <a:pt x="63328" y="1400"/>
                </a:lnTo>
                <a:close/>
              </a:path>
              <a:path fill="darkenLess" w="64728" h="21600">
                <a:moveTo>
                  <a:pt x="647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28" y="20200"/>
                </a:lnTo>
                <a:close/>
              </a:path>
              <a:path fill="lighten" w="647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örlé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132000" y="611280"/>
            <a:ext cx="648000" cy="215640"/>
          </a:xfrm>
          <a:custGeom>
            <a:avLst/>
            <a:gdLst>
              <a:gd name="textAreaLeft" fmla="*/ 13680 w 648000"/>
              <a:gd name="textAreaRight" fmla="*/ 634320 w 64800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64836" h="21600">
                <a:moveTo>
                  <a:pt x="0" y="0"/>
                </a:moveTo>
                <a:lnTo>
                  <a:pt x="64836" y="0"/>
                </a:lnTo>
                <a:lnTo>
                  <a:pt x="64836" y="21600"/>
                </a:lnTo>
                <a:lnTo>
                  <a:pt x="0" y="21600"/>
                </a:lnTo>
                <a:close/>
              </a:path>
              <a:path fill="lightenLess" w="64836" h="21600">
                <a:moveTo>
                  <a:pt x="0" y="0"/>
                </a:moveTo>
                <a:lnTo>
                  <a:pt x="64836" y="0"/>
                </a:lnTo>
                <a:lnTo>
                  <a:pt x="63436" y="1400"/>
                </a:lnTo>
                <a:lnTo>
                  <a:pt x="1400" y="1400"/>
                </a:lnTo>
                <a:close/>
              </a:path>
              <a:path fill="darken" w="64836" h="21600">
                <a:moveTo>
                  <a:pt x="64836" y="0"/>
                </a:moveTo>
                <a:lnTo>
                  <a:pt x="64836" y="21600"/>
                </a:lnTo>
                <a:lnTo>
                  <a:pt x="63436" y="20200"/>
                </a:lnTo>
                <a:lnTo>
                  <a:pt x="63436" y="1400"/>
                </a:lnTo>
                <a:close/>
              </a:path>
              <a:path fill="darkenLess" w="64836" h="21600">
                <a:moveTo>
                  <a:pt x="648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436" y="20200"/>
                </a:lnTo>
                <a:close/>
              </a:path>
              <a:path fill="lighten" w="648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sat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>
            <a:hlinkClick r:id="" action="ppaction://hlinkshowjump?jump=previousslide"/>
          </p:cNvPr>
          <p:cNvSpPr/>
          <p:nvPr/>
        </p:nvSpPr>
        <p:spPr>
          <a:xfrm>
            <a:off x="7388280" y="584280"/>
            <a:ext cx="431640" cy="216000"/>
          </a:xfrm>
          <a:custGeom>
            <a:avLst/>
            <a:gdLst>
              <a:gd name="textAreaLeft" fmla="*/ 13680 w 431640"/>
              <a:gd name="textAreaRight" fmla="*/ 417960 w 43164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43128" h="21600">
                <a:moveTo>
                  <a:pt x="0" y="0"/>
                </a:moveTo>
                <a:lnTo>
                  <a:pt x="43128" y="0"/>
                </a:lnTo>
                <a:lnTo>
                  <a:pt x="43128" y="21600"/>
                </a:lnTo>
                <a:lnTo>
                  <a:pt x="0" y="21600"/>
                </a:lnTo>
                <a:close/>
              </a:path>
              <a:path fill="lightenLess" w="43128" h="21600">
                <a:moveTo>
                  <a:pt x="0" y="0"/>
                </a:moveTo>
                <a:lnTo>
                  <a:pt x="43128" y="0"/>
                </a:lnTo>
                <a:lnTo>
                  <a:pt x="41728" y="1400"/>
                </a:lnTo>
                <a:lnTo>
                  <a:pt x="1400" y="1400"/>
                </a:lnTo>
                <a:close/>
              </a:path>
              <a:path fill="darken" w="43128" h="21600">
                <a:moveTo>
                  <a:pt x="43128" y="0"/>
                </a:moveTo>
                <a:lnTo>
                  <a:pt x="43128" y="21600"/>
                </a:lnTo>
                <a:lnTo>
                  <a:pt x="41728" y="20200"/>
                </a:lnTo>
                <a:lnTo>
                  <a:pt x="41728" y="1400"/>
                </a:lnTo>
                <a:close/>
              </a:path>
              <a:path fill="darkenLess" w="43128" h="21600">
                <a:moveTo>
                  <a:pt x="431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28" y="20200"/>
                </a:lnTo>
                <a:close/>
              </a:path>
              <a:path fill="lighten" w="431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28" h="21600">
                <a:moveTo>
                  <a:pt x="14558" y="10800"/>
                </a:moveTo>
                <a:lnTo>
                  <a:pt x="28571" y="3794"/>
                </a:lnTo>
                <a:lnTo>
                  <a:pt x="2857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lőző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>
            <a:hlinkClick r:id="" action="ppaction://hlinkshowjump?jump=nextslide"/>
          </p:cNvPr>
          <p:cNvSpPr/>
          <p:nvPr/>
        </p:nvSpPr>
        <p:spPr>
          <a:xfrm>
            <a:off x="7891560" y="584280"/>
            <a:ext cx="433440" cy="216000"/>
          </a:xfrm>
          <a:custGeom>
            <a:avLst/>
            <a:gdLst>
              <a:gd name="textAreaLeft" fmla="*/ 13680 w 433440"/>
              <a:gd name="textAreaRight" fmla="*/ 419760 w 43344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43308" h="21600">
                <a:moveTo>
                  <a:pt x="0" y="0"/>
                </a:moveTo>
                <a:lnTo>
                  <a:pt x="43308" y="0"/>
                </a:lnTo>
                <a:lnTo>
                  <a:pt x="43308" y="21600"/>
                </a:lnTo>
                <a:lnTo>
                  <a:pt x="0" y="21600"/>
                </a:lnTo>
                <a:close/>
              </a:path>
              <a:path fill="lightenLess" w="43308" h="21600">
                <a:moveTo>
                  <a:pt x="0" y="0"/>
                </a:moveTo>
                <a:lnTo>
                  <a:pt x="43308" y="0"/>
                </a:lnTo>
                <a:lnTo>
                  <a:pt x="41908" y="1400"/>
                </a:lnTo>
                <a:lnTo>
                  <a:pt x="1400" y="1400"/>
                </a:lnTo>
                <a:close/>
              </a:path>
              <a:path fill="darken" w="43308" h="21600">
                <a:moveTo>
                  <a:pt x="43308" y="0"/>
                </a:moveTo>
                <a:lnTo>
                  <a:pt x="43308" y="21600"/>
                </a:lnTo>
                <a:lnTo>
                  <a:pt x="41908" y="20200"/>
                </a:lnTo>
                <a:lnTo>
                  <a:pt x="41908" y="1400"/>
                </a:lnTo>
                <a:close/>
              </a:path>
              <a:path fill="darkenLess" w="43308" h="21600">
                <a:moveTo>
                  <a:pt x="433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908" y="20200"/>
                </a:lnTo>
                <a:close/>
              </a:path>
              <a:path fill="lighten" w="433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308" h="21600">
                <a:moveTo>
                  <a:pt x="14647" y="3794"/>
                </a:moveTo>
                <a:lnTo>
                  <a:pt x="28660" y="10800"/>
                </a:lnTo>
                <a:lnTo>
                  <a:pt x="14647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övetkező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>
            <a:hlinkClick r:id="" action="ppaction://hlinkshowjump?jump=firstslide"/>
          </p:cNvPr>
          <p:cNvSpPr/>
          <p:nvPr/>
        </p:nvSpPr>
        <p:spPr>
          <a:xfrm>
            <a:off x="6883560" y="584280"/>
            <a:ext cx="431640" cy="216000"/>
          </a:xfrm>
          <a:custGeom>
            <a:avLst/>
            <a:gdLst>
              <a:gd name="textAreaLeft" fmla="*/ 13680 w 431640"/>
              <a:gd name="textAreaRight" fmla="*/ 417960 w 43164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43128" h="21600">
                <a:moveTo>
                  <a:pt x="0" y="0"/>
                </a:moveTo>
                <a:lnTo>
                  <a:pt x="43128" y="0"/>
                </a:lnTo>
                <a:lnTo>
                  <a:pt x="43128" y="21600"/>
                </a:lnTo>
                <a:lnTo>
                  <a:pt x="0" y="21600"/>
                </a:lnTo>
                <a:close/>
              </a:path>
              <a:path fill="lightenLess" w="43128" h="21600">
                <a:moveTo>
                  <a:pt x="0" y="0"/>
                </a:moveTo>
                <a:lnTo>
                  <a:pt x="43128" y="0"/>
                </a:lnTo>
                <a:lnTo>
                  <a:pt x="41728" y="1400"/>
                </a:lnTo>
                <a:lnTo>
                  <a:pt x="1400" y="1400"/>
                </a:lnTo>
                <a:close/>
              </a:path>
              <a:path fill="darken" w="43128" h="21600">
                <a:moveTo>
                  <a:pt x="43128" y="0"/>
                </a:moveTo>
                <a:lnTo>
                  <a:pt x="43128" y="21600"/>
                </a:lnTo>
                <a:lnTo>
                  <a:pt x="41728" y="20200"/>
                </a:lnTo>
                <a:lnTo>
                  <a:pt x="41728" y="1400"/>
                </a:lnTo>
                <a:close/>
              </a:path>
              <a:path fill="darkenLess" w="43128" h="21600">
                <a:moveTo>
                  <a:pt x="431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28" y="20200"/>
                </a:lnTo>
                <a:close/>
              </a:path>
              <a:path fill="lighten" w="431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28" h="21600">
                <a:moveTo>
                  <a:pt x="18065" y="10800"/>
                </a:moveTo>
                <a:lnTo>
                  <a:pt x="28571" y="3794"/>
                </a:lnTo>
                <a:lnTo>
                  <a:pt x="28571" y="17806"/>
                </a:lnTo>
                <a:close/>
              </a:path>
              <a:path fill="darken" w="43128" h="21600">
                <a:moveTo>
                  <a:pt x="14558" y="3794"/>
                </a:moveTo>
                <a:lnTo>
                  <a:pt x="16220" y="3794"/>
                </a:lnTo>
                <a:lnTo>
                  <a:pt x="16220" y="17806"/>
                </a:lnTo>
                <a:lnTo>
                  <a:pt x="1455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lső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>
            <a:hlinkClick r:id="" action="ppaction://hlinkshowjump?jump=lastslide"/>
          </p:cNvPr>
          <p:cNvSpPr/>
          <p:nvPr/>
        </p:nvSpPr>
        <p:spPr>
          <a:xfrm>
            <a:off x="8396280" y="584280"/>
            <a:ext cx="433440" cy="216000"/>
          </a:xfrm>
          <a:custGeom>
            <a:avLst/>
            <a:gdLst>
              <a:gd name="textAreaLeft" fmla="*/ 13680 w 433440"/>
              <a:gd name="textAreaRight" fmla="*/ 419760 w 43344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43308" h="21600">
                <a:moveTo>
                  <a:pt x="0" y="0"/>
                </a:moveTo>
                <a:lnTo>
                  <a:pt x="43308" y="0"/>
                </a:lnTo>
                <a:lnTo>
                  <a:pt x="43308" y="21600"/>
                </a:lnTo>
                <a:lnTo>
                  <a:pt x="0" y="21600"/>
                </a:lnTo>
                <a:close/>
              </a:path>
              <a:path fill="lightenLess" w="43308" h="21600">
                <a:moveTo>
                  <a:pt x="0" y="0"/>
                </a:moveTo>
                <a:lnTo>
                  <a:pt x="43308" y="0"/>
                </a:lnTo>
                <a:lnTo>
                  <a:pt x="41908" y="1400"/>
                </a:lnTo>
                <a:lnTo>
                  <a:pt x="1400" y="1400"/>
                </a:lnTo>
                <a:close/>
              </a:path>
              <a:path fill="darken" w="43308" h="21600">
                <a:moveTo>
                  <a:pt x="43308" y="0"/>
                </a:moveTo>
                <a:lnTo>
                  <a:pt x="43308" y="21600"/>
                </a:lnTo>
                <a:lnTo>
                  <a:pt x="41908" y="20200"/>
                </a:lnTo>
                <a:lnTo>
                  <a:pt x="41908" y="1400"/>
                </a:lnTo>
                <a:close/>
              </a:path>
              <a:path fill="darkenLess" w="43308" h="21600">
                <a:moveTo>
                  <a:pt x="433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908" y="20200"/>
                </a:lnTo>
                <a:close/>
              </a:path>
              <a:path fill="lighten" w="433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308" h="21600">
                <a:moveTo>
                  <a:pt x="25153" y="10800"/>
                </a:moveTo>
                <a:lnTo>
                  <a:pt x="14647" y="17806"/>
                </a:lnTo>
                <a:lnTo>
                  <a:pt x="14647" y="3794"/>
                </a:lnTo>
                <a:close/>
              </a:path>
              <a:path fill="darken" w="43308" h="21600">
                <a:moveTo>
                  <a:pt x="26998" y="3794"/>
                </a:moveTo>
                <a:lnTo>
                  <a:pt x="26998" y="17806"/>
                </a:lnTo>
                <a:lnTo>
                  <a:pt x="28660" y="17806"/>
                </a:lnTo>
                <a:lnTo>
                  <a:pt x="28660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tolsó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511800" y="239760"/>
            <a:ext cx="3955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Nem lakás szerződés előkészítés… (Nemlakas_szerzodes, view 518_1   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798720" y="611280"/>
            <a:ext cx="1009800" cy="215640"/>
          </a:xfrm>
          <a:custGeom>
            <a:avLst/>
            <a:gdLst>
              <a:gd name="textAreaLeft" fmla="*/ 13680 w 1009800"/>
              <a:gd name="textAreaRight" fmla="*/ 996120 w 100980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101016" h="21600">
                <a:moveTo>
                  <a:pt x="0" y="0"/>
                </a:moveTo>
                <a:lnTo>
                  <a:pt x="101016" y="0"/>
                </a:lnTo>
                <a:lnTo>
                  <a:pt x="101016" y="21600"/>
                </a:lnTo>
                <a:lnTo>
                  <a:pt x="0" y="21600"/>
                </a:lnTo>
                <a:close/>
              </a:path>
              <a:path fill="lightenLess" w="101016" h="21600">
                <a:moveTo>
                  <a:pt x="0" y="0"/>
                </a:moveTo>
                <a:lnTo>
                  <a:pt x="101016" y="0"/>
                </a:lnTo>
                <a:lnTo>
                  <a:pt x="99616" y="1400"/>
                </a:lnTo>
                <a:lnTo>
                  <a:pt x="1400" y="1400"/>
                </a:lnTo>
                <a:close/>
              </a:path>
              <a:path fill="darken" w="101016" h="21600">
                <a:moveTo>
                  <a:pt x="101016" y="0"/>
                </a:moveTo>
                <a:lnTo>
                  <a:pt x="101016" y="21600"/>
                </a:lnTo>
                <a:lnTo>
                  <a:pt x="99616" y="20200"/>
                </a:lnTo>
                <a:lnTo>
                  <a:pt x="99616" y="1400"/>
                </a:lnTo>
                <a:close/>
              </a:path>
              <a:path fill="darkenLess" w="101016" h="21600">
                <a:moveTo>
                  <a:pt x="1010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616" y="20200"/>
                </a:lnTo>
                <a:close/>
              </a:path>
              <a:path fill="lighten" w="1010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zerződés szignálá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859280" y="620640"/>
            <a:ext cx="1009800" cy="216000"/>
          </a:xfrm>
          <a:custGeom>
            <a:avLst/>
            <a:gdLst>
              <a:gd name="textAreaLeft" fmla="*/ 13680 w 1009800"/>
              <a:gd name="textAreaRight" fmla="*/ 996120 w 100980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100848" h="21600">
                <a:moveTo>
                  <a:pt x="0" y="0"/>
                </a:moveTo>
                <a:lnTo>
                  <a:pt x="100848" y="0"/>
                </a:lnTo>
                <a:lnTo>
                  <a:pt x="100848" y="21600"/>
                </a:lnTo>
                <a:lnTo>
                  <a:pt x="0" y="21600"/>
                </a:lnTo>
                <a:close/>
              </a:path>
              <a:path fill="lightenLess" w="100848" h="21600">
                <a:moveTo>
                  <a:pt x="0" y="0"/>
                </a:moveTo>
                <a:lnTo>
                  <a:pt x="100848" y="0"/>
                </a:lnTo>
                <a:lnTo>
                  <a:pt x="99448" y="1400"/>
                </a:lnTo>
                <a:lnTo>
                  <a:pt x="1400" y="1400"/>
                </a:lnTo>
                <a:close/>
              </a:path>
              <a:path fill="darken" w="100848" h="21600">
                <a:moveTo>
                  <a:pt x="100848" y="0"/>
                </a:moveTo>
                <a:lnTo>
                  <a:pt x="100848" y="21600"/>
                </a:lnTo>
                <a:lnTo>
                  <a:pt x="99448" y="20200"/>
                </a:lnTo>
                <a:lnTo>
                  <a:pt x="99448" y="1400"/>
                </a:lnTo>
                <a:close/>
              </a:path>
              <a:path fill="darkenLess" w="100848" h="21600">
                <a:moveTo>
                  <a:pt x="1008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448" y="20200"/>
                </a:lnTo>
                <a:close/>
              </a:path>
              <a:path fill="lighten" w="1008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zerződés aláírá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72320" y="981000"/>
            <a:ext cx="788760" cy="231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lap adatok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403280" y="3386160"/>
            <a:ext cx="1513080" cy="19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b_szerzodes_mozg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>
            <a:hlinkClick r:id="" action="ppaction://hlinkshowjump?jump=previousslide"/>
          </p:cNvPr>
          <p:cNvSpPr/>
          <p:nvPr/>
        </p:nvSpPr>
        <p:spPr>
          <a:xfrm rot="16200000">
            <a:off x="2952000" y="3340800"/>
            <a:ext cx="216000" cy="28728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87280"/>
              <a:gd name="textAreaBottom" fmla="*/ 273600 h 287280"/>
            </a:gdLst>
            <a:ahLst/>
            <a:rect l="textAreaLeft" t="textAreaTop" r="textAreaRight" b="textAreaBottom"/>
            <a:pathLst>
              <a:path w="21600" h="28716">
                <a:moveTo>
                  <a:pt x="0" y="0"/>
                </a:moveTo>
                <a:lnTo>
                  <a:pt x="21600" y="0"/>
                </a:lnTo>
                <a:lnTo>
                  <a:pt x="21600" y="28716"/>
                </a:lnTo>
                <a:lnTo>
                  <a:pt x="0" y="28716"/>
                </a:lnTo>
                <a:close/>
              </a:path>
              <a:path fill="lightenLess" w="21600" h="2871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16">
                <a:moveTo>
                  <a:pt x="21600" y="0"/>
                </a:moveTo>
                <a:lnTo>
                  <a:pt x="21600" y="28716"/>
                </a:lnTo>
                <a:lnTo>
                  <a:pt x="20200" y="27316"/>
                </a:lnTo>
                <a:lnTo>
                  <a:pt x="20200" y="1400"/>
                </a:lnTo>
                <a:close/>
              </a:path>
              <a:path fill="darkenLess" w="21600" h="28716">
                <a:moveTo>
                  <a:pt x="21600" y="28716"/>
                </a:moveTo>
                <a:lnTo>
                  <a:pt x="0" y="28716"/>
                </a:lnTo>
                <a:lnTo>
                  <a:pt x="1400" y="27316"/>
                </a:lnTo>
                <a:lnTo>
                  <a:pt x="20200" y="27316"/>
                </a:lnTo>
                <a:close/>
              </a:path>
              <a:path fill="lighten" w="21600" h="28716">
                <a:moveTo>
                  <a:pt x="0" y="28716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16"/>
                </a:lnTo>
                <a:close/>
              </a:path>
              <a:path fill="darken" w="21600" h="28716">
                <a:moveTo>
                  <a:pt x="3794" y="14358"/>
                </a:moveTo>
                <a:lnTo>
                  <a:pt x="17806" y="7352"/>
                </a:lnTo>
                <a:lnTo>
                  <a:pt x="17806" y="21365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403280" y="1758960"/>
            <a:ext cx="1513080" cy="19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b_szerzodes_sza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788000" y="3367080"/>
            <a:ext cx="1512720" cy="19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b_szerzodes_btip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>
            <a:hlinkClick r:id="" action="ppaction://hlinkshowjump?jump=previousslide"/>
          </p:cNvPr>
          <p:cNvSpPr/>
          <p:nvPr/>
        </p:nvSpPr>
        <p:spPr>
          <a:xfrm rot="16200000">
            <a:off x="6336360" y="3331440"/>
            <a:ext cx="216000" cy="28728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87280"/>
              <a:gd name="textAreaBottom" fmla="*/ 273600 h 287280"/>
            </a:gdLst>
            <a:ahLst/>
            <a:rect l="textAreaLeft" t="textAreaTop" r="textAreaRight" b="textAreaBottom"/>
            <a:pathLst>
              <a:path w="21600" h="28716">
                <a:moveTo>
                  <a:pt x="0" y="0"/>
                </a:moveTo>
                <a:lnTo>
                  <a:pt x="21600" y="0"/>
                </a:lnTo>
                <a:lnTo>
                  <a:pt x="21600" y="28716"/>
                </a:lnTo>
                <a:lnTo>
                  <a:pt x="0" y="28716"/>
                </a:lnTo>
                <a:close/>
              </a:path>
              <a:path fill="lightenLess" w="21600" h="2871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16">
                <a:moveTo>
                  <a:pt x="21600" y="0"/>
                </a:moveTo>
                <a:lnTo>
                  <a:pt x="21600" y="28716"/>
                </a:lnTo>
                <a:lnTo>
                  <a:pt x="20200" y="27316"/>
                </a:lnTo>
                <a:lnTo>
                  <a:pt x="20200" y="1400"/>
                </a:lnTo>
                <a:close/>
              </a:path>
              <a:path fill="darkenLess" w="21600" h="28716">
                <a:moveTo>
                  <a:pt x="21600" y="28716"/>
                </a:moveTo>
                <a:lnTo>
                  <a:pt x="0" y="28716"/>
                </a:lnTo>
                <a:lnTo>
                  <a:pt x="1400" y="27316"/>
                </a:lnTo>
                <a:lnTo>
                  <a:pt x="20200" y="27316"/>
                </a:lnTo>
                <a:close/>
              </a:path>
              <a:path fill="lighten" w="21600" h="28716">
                <a:moveTo>
                  <a:pt x="0" y="28716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16"/>
                </a:lnTo>
                <a:close/>
              </a:path>
              <a:path fill="darken" w="21600" h="28716">
                <a:moveTo>
                  <a:pt x="3794" y="14358"/>
                </a:moveTo>
                <a:lnTo>
                  <a:pt x="17806" y="7352"/>
                </a:lnTo>
                <a:lnTo>
                  <a:pt x="17806" y="21365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788000" y="1792440"/>
            <a:ext cx="1512720" cy="196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b_szerzodes_datum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403280" y="3699000"/>
            <a:ext cx="1513080" cy="196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nemlakas_id</a:t>
            </a:r>
            <a:r>
              <a:rPr b="0" lang="hu-HU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lb_torzssza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>
            <a:hlinkClick r:id="" action="ppaction://hlinkshowjump?jump=previousslide"/>
          </p:cNvPr>
          <p:cNvSpPr/>
          <p:nvPr/>
        </p:nvSpPr>
        <p:spPr>
          <a:xfrm rot="16200000">
            <a:off x="2952000" y="3662640"/>
            <a:ext cx="215640" cy="287280"/>
          </a:xfrm>
          <a:custGeom>
            <a:avLst/>
            <a:gdLst>
              <a:gd name="textAreaLeft" fmla="*/ 13680 w 215640"/>
              <a:gd name="textAreaRight" fmla="*/ 201960 w 215640"/>
              <a:gd name="textAreaTop" fmla="*/ 13680 h 287280"/>
              <a:gd name="textAreaBottom" fmla="*/ 273600 h 287280"/>
            </a:gdLst>
            <a:ahLst/>
            <a:rect l="textAreaLeft" t="textAreaTop" r="textAreaRight" b="textAreaBottom"/>
            <a:pathLst>
              <a:path w="21600" h="28764">
                <a:moveTo>
                  <a:pt x="0" y="0"/>
                </a:moveTo>
                <a:lnTo>
                  <a:pt x="21600" y="0"/>
                </a:lnTo>
                <a:lnTo>
                  <a:pt x="21600" y="28764"/>
                </a:lnTo>
                <a:lnTo>
                  <a:pt x="0" y="28764"/>
                </a:lnTo>
                <a:close/>
              </a:path>
              <a:path fill="lightenLess" w="21600" h="2876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64">
                <a:moveTo>
                  <a:pt x="21600" y="0"/>
                </a:moveTo>
                <a:lnTo>
                  <a:pt x="21600" y="28764"/>
                </a:lnTo>
                <a:lnTo>
                  <a:pt x="20200" y="27364"/>
                </a:lnTo>
                <a:lnTo>
                  <a:pt x="20200" y="1400"/>
                </a:lnTo>
                <a:close/>
              </a:path>
              <a:path fill="darkenLess" w="21600" h="28764">
                <a:moveTo>
                  <a:pt x="21600" y="28764"/>
                </a:moveTo>
                <a:lnTo>
                  <a:pt x="0" y="28764"/>
                </a:lnTo>
                <a:lnTo>
                  <a:pt x="1400" y="27364"/>
                </a:lnTo>
                <a:lnTo>
                  <a:pt x="20200" y="27364"/>
                </a:lnTo>
                <a:close/>
              </a:path>
              <a:path fill="lighten" w="21600" h="28764">
                <a:moveTo>
                  <a:pt x="0" y="28764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64"/>
                </a:lnTo>
                <a:close/>
              </a:path>
              <a:path fill="darken" w="21600" h="28764">
                <a:moveTo>
                  <a:pt x="3794" y="14382"/>
                </a:moveTo>
                <a:lnTo>
                  <a:pt x="17806" y="7376"/>
                </a:lnTo>
                <a:lnTo>
                  <a:pt x="17806" y="21388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251000" y="3943440"/>
            <a:ext cx="2644920" cy="2311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Nemlakas/lb_utca + lb_hazszam + lb_lepcsohaz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788000" y="3706920"/>
            <a:ext cx="1512720" cy="19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ugyfel_id</a:t>
            </a:r>
            <a:r>
              <a:rPr b="0" lang="hu-HU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uygfel/uygfelnev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>
            <a:hlinkClick r:id="" action="ppaction://hlinkshowjump?jump=previousslide"/>
          </p:cNvPr>
          <p:cNvSpPr/>
          <p:nvPr/>
        </p:nvSpPr>
        <p:spPr>
          <a:xfrm rot="16200000">
            <a:off x="6336360" y="3668040"/>
            <a:ext cx="216000" cy="28728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87280"/>
              <a:gd name="textAreaBottom" fmla="*/ 273600 h 287280"/>
            </a:gdLst>
            <a:ahLst/>
            <a:rect l="textAreaLeft" t="textAreaTop" r="textAreaRight" b="textAreaBottom"/>
            <a:pathLst>
              <a:path w="21600" h="28716">
                <a:moveTo>
                  <a:pt x="0" y="0"/>
                </a:moveTo>
                <a:lnTo>
                  <a:pt x="21600" y="0"/>
                </a:lnTo>
                <a:lnTo>
                  <a:pt x="21600" y="28716"/>
                </a:lnTo>
                <a:lnTo>
                  <a:pt x="0" y="28716"/>
                </a:lnTo>
                <a:close/>
              </a:path>
              <a:path fill="lightenLess" w="21600" h="2871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16">
                <a:moveTo>
                  <a:pt x="21600" y="0"/>
                </a:moveTo>
                <a:lnTo>
                  <a:pt x="21600" y="28716"/>
                </a:lnTo>
                <a:lnTo>
                  <a:pt x="20200" y="27316"/>
                </a:lnTo>
                <a:lnTo>
                  <a:pt x="20200" y="1400"/>
                </a:lnTo>
                <a:close/>
              </a:path>
              <a:path fill="darkenLess" w="21600" h="28716">
                <a:moveTo>
                  <a:pt x="21600" y="28716"/>
                </a:moveTo>
                <a:lnTo>
                  <a:pt x="0" y="28716"/>
                </a:lnTo>
                <a:lnTo>
                  <a:pt x="1400" y="27316"/>
                </a:lnTo>
                <a:lnTo>
                  <a:pt x="20200" y="27316"/>
                </a:lnTo>
                <a:close/>
              </a:path>
              <a:path fill="lighten" w="21600" h="28716">
                <a:moveTo>
                  <a:pt x="0" y="28716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16"/>
                </a:lnTo>
                <a:close/>
              </a:path>
              <a:path fill="darken" w="21600" h="28716">
                <a:moveTo>
                  <a:pt x="3794" y="14358"/>
                </a:moveTo>
                <a:lnTo>
                  <a:pt x="17806" y="7352"/>
                </a:lnTo>
                <a:lnTo>
                  <a:pt x="17806" y="21365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557960" y="3943440"/>
            <a:ext cx="3768120" cy="6426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Ugyfel/ugyfelnev + uygfelirsz +ugyfelvaros+ugyfelutca+ugyfelhazsza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ugyfelrividnev + ugyfeljelle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ugyfelcegjegyzekszam +ugyfeladoszam+ugyfelkepvisel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ugyfelvallalkozoiigsza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403280" y="2565360"/>
            <a:ext cx="1513080" cy="1969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b_szerzodes_alairas_da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788000" y="2567160"/>
            <a:ext cx="1512720" cy="196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b_szerzodes_hatalybalep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7478640" y="1792440"/>
            <a:ext cx="1513080" cy="196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b_szerzodes_lejarta_da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403280" y="2924280"/>
            <a:ext cx="1513080" cy="19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b_szerzodes_megsz_da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403280" y="2165400"/>
            <a:ext cx="2521080" cy="217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b_szerzodes_feltetel_bekovet_ko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Q484 kodmegnev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>
            <a:hlinkClick r:id="" action="ppaction://hlinkshowjump?jump=previousslide"/>
          </p:cNvPr>
          <p:cNvSpPr/>
          <p:nvPr/>
        </p:nvSpPr>
        <p:spPr>
          <a:xfrm rot="16200000">
            <a:off x="3960000" y="2129760"/>
            <a:ext cx="216000" cy="28728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87280"/>
              <a:gd name="textAreaBottom" fmla="*/ 273600 h 287280"/>
            </a:gdLst>
            <a:ahLst/>
            <a:rect l="textAreaLeft" t="textAreaTop" r="textAreaRight" b="textAreaBottom"/>
            <a:pathLst>
              <a:path w="21600" h="28716">
                <a:moveTo>
                  <a:pt x="0" y="0"/>
                </a:moveTo>
                <a:lnTo>
                  <a:pt x="21600" y="0"/>
                </a:lnTo>
                <a:lnTo>
                  <a:pt x="21600" y="28716"/>
                </a:lnTo>
                <a:lnTo>
                  <a:pt x="0" y="28716"/>
                </a:lnTo>
                <a:close/>
              </a:path>
              <a:path fill="lightenLess" w="21600" h="2871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16">
                <a:moveTo>
                  <a:pt x="21600" y="0"/>
                </a:moveTo>
                <a:lnTo>
                  <a:pt x="21600" y="28716"/>
                </a:lnTo>
                <a:lnTo>
                  <a:pt x="20200" y="27316"/>
                </a:lnTo>
                <a:lnTo>
                  <a:pt x="20200" y="1400"/>
                </a:lnTo>
                <a:close/>
              </a:path>
              <a:path fill="darkenLess" w="21600" h="28716">
                <a:moveTo>
                  <a:pt x="21600" y="28716"/>
                </a:moveTo>
                <a:lnTo>
                  <a:pt x="0" y="28716"/>
                </a:lnTo>
                <a:lnTo>
                  <a:pt x="1400" y="27316"/>
                </a:lnTo>
                <a:lnTo>
                  <a:pt x="20200" y="27316"/>
                </a:lnTo>
                <a:close/>
              </a:path>
              <a:path fill="lighten" w="21600" h="28716">
                <a:moveTo>
                  <a:pt x="0" y="28716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16"/>
                </a:lnTo>
                <a:close/>
              </a:path>
              <a:path fill="darken" w="21600" h="28716">
                <a:moveTo>
                  <a:pt x="3794" y="14358"/>
                </a:moveTo>
                <a:lnTo>
                  <a:pt x="17806" y="7352"/>
                </a:lnTo>
                <a:lnTo>
                  <a:pt x="17806" y="21365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94200" y="1758960"/>
            <a:ext cx="1031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zerződés szá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94920" y="2552760"/>
            <a:ext cx="953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láírás dátum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86400" y="1792440"/>
            <a:ext cx="1139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zerződés dátum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490200" y="2552760"/>
            <a:ext cx="13251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atálybalépés dátum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25960" y="3349800"/>
            <a:ext cx="805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Mozgásne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91240" y="3363840"/>
            <a:ext cx="898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izonylattípu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88960" y="3651120"/>
            <a:ext cx="743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örzsszá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999960" y="3670200"/>
            <a:ext cx="788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Ügyfél nev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543360" y="1792440"/>
            <a:ext cx="9471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Lejárat dátum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7280" y="2924280"/>
            <a:ext cx="1183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egszűnés dátum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880" y="2133720"/>
            <a:ext cx="1360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eltétel bekövetkezés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398600" y="1392120"/>
            <a:ext cx="1517760" cy="200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b_dimenzio</a:t>
            </a:r>
            <a:r>
              <a:rPr b="0" lang="hu-HU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Q483 kodmegnev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>
            <a:hlinkClick r:id="" action="ppaction://hlinkshowjump?jump=previousslide"/>
          </p:cNvPr>
          <p:cNvSpPr/>
          <p:nvPr/>
        </p:nvSpPr>
        <p:spPr>
          <a:xfrm rot="16200000">
            <a:off x="2952000" y="1305720"/>
            <a:ext cx="216000" cy="28728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87280"/>
              <a:gd name="textAreaBottom" fmla="*/ 273600 h 287280"/>
            </a:gdLst>
            <a:ahLst/>
            <a:rect l="textAreaLeft" t="textAreaTop" r="textAreaRight" b="textAreaBottom"/>
            <a:pathLst>
              <a:path w="21600" h="28716">
                <a:moveTo>
                  <a:pt x="0" y="0"/>
                </a:moveTo>
                <a:lnTo>
                  <a:pt x="21600" y="0"/>
                </a:lnTo>
                <a:lnTo>
                  <a:pt x="21600" y="28716"/>
                </a:lnTo>
                <a:lnTo>
                  <a:pt x="0" y="28716"/>
                </a:lnTo>
                <a:close/>
              </a:path>
              <a:path fill="lightenLess" w="21600" h="2871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16">
                <a:moveTo>
                  <a:pt x="21600" y="0"/>
                </a:moveTo>
                <a:lnTo>
                  <a:pt x="21600" y="28716"/>
                </a:lnTo>
                <a:lnTo>
                  <a:pt x="20200" y="27316"/>
                </a:lnTo>
                <a:lnTo>
                  <a:pt x="20200" y="1400"/>
                </a:lnTo>
                <a:close/>
              </a:path>
              <a:path fill="darkenLess" w="21600" h="28716">
                <a:moveTo>
                  <a:pt x="21600" y="28716"/>
                </a:moveTo>
                <a:lnTo>
                  <a:pt x="0" y="28716"/>
                </a:lnTo>
                <a:lnTo>
                  <a:pt x="1400" y="27316"/>
                </a:lnTo>
                <a:lnTo>
                  <a:pt x="20200" y="27316"/>
                </a:lnTo>
                <a:close/>
              </a:path>
              <a:path fill="lighten" w="21600" h="28716">
                <a:moveTo>
                  <a:pt x="0" y="28716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16"/>
                </a:lnTo>
                <a:close/>
              </a:path>
              <a:path fill="darken" w="21600" h="28716">
                <a:moveTo>
                  <a:pt x="3794" y="14358"/>
                </a:moveTo>
                <a:lnTo>
                  <a:pt x="17806" y="7352"/>
                </a:lnTo>
                <a:lnTo>
                  <a:pt x="17806" y="21365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72120" y="1380960"/>
            <a:ext cx="6591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imenzió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154400" y="1374840"/>
            <a:ext cx="1468440" cy="217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b_munkaszam</a:t>
            </a:r>
            <a:r>
              <a:rPr b="0" lang="hu-HU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Q492 kodmegnev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>
            <a:hlinkClick r:id="" action="ppaction://hlinkshowjump?jump=previousslide"/>
          </p:cNvPr>
          <p:cNvSpPr/>
          <p:nvPr/>
        </p:nvSpPr>
        <p:spPr>
          <a:xfrm rot="16200000">
            <a:off x="5706360" y="1339200"/>
            <a:ext cx="216000" cy="28728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87280"/>
              <a:gd name="textAreaBottom" fmla="*/ 273600 h 287280"/>
            </a:gdLst>
            <a:ahLst/>
            <a:rect l="textAreaLeft" t="textAreaTop" r="textAreaRight" b="textAreaBottom"/>
            <a:pathLst>
              <a:path w="21600" h="28716">
                <a:moveTo>
                  <a:pt x="0" y="0"/>
                </a:moveTo>
                <a:lnTo>
                  <a:pt x="21600" y="0"/>
                </a:lnTo>
                <a:lnTo>
                  <a:pt x="21600" y="28716"/>
                </a:lnTo>
                <a:lnTo>
                  <a:pt x="0" y="28716"/>
                </a:lnTo>
                <a:close/>
              </a:path>
              <a:path fill="lightenLess" w="21600" h="2871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16">
                <a:moveTo>
                  <a:pt x="21600" y="0"/>
                </a:moveTo>
                <a:lnTo>
                  <a:pt x="21600" y="28716"/>
                </a:lnTo>
                <a:lnTo>
                  <a:pt x="20200" y="27316"/>
                </a:lnTo>
                <a:lnTo>
                  <a:pt x="20200" y="1400"/>
                </a:lnTo>
                <a:close/>
              </a:path>
              <a:path fill="darkenLess" w="21600" h="28716">
                <a:moveTo>
                  <a:pt x="21600" y="28716"/>
                </a:moveTo>
                <a:lnTo>
                  <a:pt x="0" y="28716"/>
                </a:lnTo>
                <a:lnTo>
                  <a:pt x="1400" y="27316"/>
                </a:lnTo>
                <a:lnTo>
                  <a:pt x="20200" y="27316"/>
                </a:lnTo>
                <a:close/>
              </a:path>
              <a:path fill="lighten" w="21600" h="28716">
                <a:moveTo>
                  <a:pt x="0" y="28716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16"/>
                </a:lnTo>
                <a:close/>
              </a:path>
              <a:path fill="darken" w="21600" h="28716">
                <a:moveTo>
                  <a:pt x="3794" y="14358"/>
                </a:moveTo>
                <a:lnTo>
                  <a:pt x="17806" y="7352"/>
                </a:lnTo>
                <a:lnTo>
                  <a:pt x="17806" y="21365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319560" y="1374840"/>
            <a:ext cx="799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unkaszá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788000" y="2924280"/>
            <a:ext cx="417672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b_szerzodes_megsz_ok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968560" y="2895480"/>
            <a:ext cx="1812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zerződés megszűnésének ok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28600" y="4672080"/>
            <a:ext cx="1238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zerződés szignálv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1411200" y="4726080"/>
            <a:ext cx="142920" cy="144360"/>
            <a:chOff x="1411200" y="4726080"/>
            <a:chExt cx="142920" cy="144360"/>
          </a:xfrm>
        </p:grpSpPr>
        <p:sp>
          <p:nvSpPr>
            <p:cNvPr id="160" name=""/>
            <p:cNvSpPr/>
            <p:nvPr/>
          </p:nvSpPr>
          <p:spPr>
            <a:xfrm>
              <a:off x="1411200" y="4726080"/>
              <a:ext cx="142920" cy="1443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446120" y="4754520"/>
              <a:ext cx="73080" cy="7308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2" name=""/>
          <p:cNvSpPr/>
          <p:nvPr/>
        </p:nvSpPr>
        <p:spPr>
          <a:xfrm>
            <a:off x="1472040" y="4653000"/>
            <a:ext cx="1380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900" spc="-1" strike="noStrike">
                <a:solidFill>
                  <a:srgbClr val="000000"/>
                </a:solidFill>
                <a:latin typeface="Arial"/>
              </a:rPr>
              <a:t>b_szerzodes_szignalv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995640" y="4695840"/>
            <a:ext cx="1513080" cy="1969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b_szerzodes_szign_da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914920" y="4702320"/>
            <a:ext cx="1095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zignálás dátum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373320" y="3286080"/>
            <a:ext cx="942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ofil kötöttsé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1411200" y="3327480"/>
            <a:ext cx="142920" cy="144360"/>
            <a:chOff x="1411200" y="3327480"/>
            <a:chExt cx="142920" cy="144360"/>
          </a:xfrm>
        </p:grpSpPr>
        <p:sp>
          <p:nvSpPr>
            <p:cNvPr id="167" name=""/>
            <p:cNvSpPr/>
            <p:nvPr/>
          </p:nvSpPr>
          <p:spPr>
            <a:xfrm>
              <a:off x="1411200" y="3327480"/>
              <a:ext cx="142920" cy="14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446120" y="3355920"/>
              <a:ext cx="73080" cy="73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"/>
          <p:cNvSpPr/>
          <p:nvPr/>
        </p:nvSpPr>
        <p:spPr>
          <a:xfrm>
            <a:off x="1478880" y="3282840"/>
            <a:ext cx="1366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900" spc="-1" strike="noStrike">
                <a:solidFill>
                  <a:srgbClr val="000000"/>
                </a:solidFill>
                <a:latin typeface="Arial"/>
              </a:rPr>
              <a:t>b_szerzodes_profil_ko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70880" y="404640"/>
            <a:ext cx="1102680" cy="231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zerződés adatok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187880" y="890640"/>
            <a:ext cx="1512720" cy="19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b_berlemeny_tip_kod</a:t>
            </a:r>
            <a:r>
              <a:rPr b="0" lang="hu-HU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Q440 kodmegnev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>
            <a:hlinkClick r:id="" action="ppaction://hlinkshowjump?jump=previousslide"/>
          </p:cNvPr>
          <p:cNvSpPr/>
          <p:nvPr/>
        </p:nvSpPr>
        <p:spPr>
          <a:xfrm rot="16200000">
            <a:off x="5736240" y="845280"/>
            <a:ext cx="216000" cy="28728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87280"/>
              <a:gd name="textAreaBottom" fmla="*/ 273600 h 287280"/>
            </a:gdLst>
            <a:ahLst/>
            <a:rect l="textAreaLeft" t="textAreaTop" r="textAreaRight" b="textAreaBottom"/>
            <a:pathLst>
              <a:path w="21600" h="28716">
                <a:moveTo>
                  <a:pt x="0" y="0"/>
                </a:moveTo>
                <a:lnTo>
                  <a:pt x="21600" y="0"/>
                </a:lnTo>
                <a:lnTo>
                  <a:pt x="21600" y="28716"/>
                </a:lnTo>
                <a:lnTo>
                  <a:pt x="0" y="28716"/>
                </a:lnTo>
                <a:close/>
              </a:path>
              <a:path fill="lightenLess" w="21600" h="2871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16">
                <a:moveTo>
                  <a:pt x="21600" y="0"/>
                </a:moveTo>
                <a:lnTo>
                  <a:pt x="21600" y="28716"/>
                </a:lnTo>
                <a:lnTo>
                  <a:pt x="20200" y="27316"/>
                </a:lnTo>
                <a:lnTo>
                  <a:pt x="20200" y="1400"/>
                </a:lnTo>
                <a:close/>
              </a:path>
              <a:path fill="darkenLess" w="21600" h="28716">
                <a:moveTo>
                  <a:pt x="21600" y="28716"/>
                </a:moveTo>
                <a:lnTo>
                  <a:pt x="0" y="28716"/>
                </a:lnTo>
                <a:lnTo>
                  <a:pt x="1400" y="27316"/>
                </a:lnTo>
                <a:lnTo>
                  <a:pt x="20200" y="27316"/>
                </a:lnTo>
                <a:close/>
              </a:path>
              <a:path fill="lighten" w="21600" h="28716">
                <a:moveTo>
                  <a:pt x="0" y="28716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16"/>
                </a:lnTo>
                <a:close/>
              </a:path>
              <a:path fill="darken" w="21600" h="28716">
                <a:moveTo>
                  <a:pt x="3794" y="14358"/>
                </a:moveTo>
                <a:lnTo>
                  <a:pt x="17806" y="7352"/>
                </a:lnTo>
                <a:lnTo>
                  <a:pt x="17806" y="21365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236000" y="887400"/>
            <a:ext cx="1512720" cy="19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b_nemlakhn_jogcim_kod</a:t>
            </a:r>
            <a:r>
              <a:rPr b="0" lang="hu-HU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Q441 kodmegnev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>
            <a:hlinkClick r:id="" action="ppaction://hlinkshowjump?jump=previousslide"/>
          </p:cNvPr>
          <p:cNvSpPr/>
          <p:nvPr/>
        </p:nvSpPr>
        <p:spPr>
          <a:xfrm rot="16200000">
            <a:off x="8784360" y="841680"/>
            <a:ext cx="215640" cy="287280"/>
          </a:xfrm>
          <a:custGeom>
            <a:avLst/>
            <a:gdLst>
              <a:gd name="textAreaLeft" fmla="*/ 13680 w 215640"/>
              <a:gd name="textAreaRight" fmla="*/ 201960 w 215640"/>
              <a:gd name="textAreaTop" fmla="*/ 13680 h 287280"/>
              <a:gd name="textAreaBottom" fmla="*/ 273600 h 287280"/>
            </a:gdLst>
            <a:ahLst/>
            <a:rect l="textAreaLeft" t="textAreaTop" r="textAreaRight" b="textAreaBottom"/>
            <a:pathLst>
              <a:path w="21600" h="28764">
                <a:moveTo>
                  <a:pt x="0" y="0"/>
                </a:moveTo>
                <a:lnTo>
                  <a:pt x="21600" y="0"/>
                </a:lnTo>
                <a:lnTo>
                  <a:pt x="21600" y="28764"/>
                </a:lnTo>
                <a:lnTo>
                  <a:pt x="0" y="28764"/>
                </a:lnTo>
                <a:close/>
              </a:path>
              <a:path fill="lightenLess" w="21600" h="2876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64">
                <a:moveTo>
                  <a:pt x="21600" y="0"/>
                </a:moveTo>
                <a:lnTo>
                  <a:pt x="21600" y="28764"/>
                </a:lnTo>
                <a:lnTo>
                  <a:pt x="20200" y="27364"/>
                </a:lnTo>
                <a:lnTo>
                  <a:pt x="20200" y="1400"/>
                </a:lnTo>
                <a:close/>
              </a:path>
              <a:path fill="darkenLess" w="21600" h="28764">
                <a:moveTo>
                  <a:pt x="21600" y="28764"/>
                </a:moveTo>
                <a:lnTo>
                  <a:pt x="0" y="28764"/>
                </a:lnTo>
                <a:lnTo>
                  <a:pt x="1400" y="27364"/>
                </a:lnTo>
                <a:lnTo>
                  <a:pt x="20200" y="27364"/>
                </a:lnTo>
                <a:close/>
              </a:path>
              <a:path fill="lighten" w="21600" h="28764">
                <a:moveTo>
                  <a:pt x="0" y="28764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64"/>
                </a:lnTo>
                <a:close/>
              </a:path>
              <a:path fill="darken" w="21600" h="28764">
                <a:moveTo>
                  <a:pt x="3794" y="14382"/>
                </a:moveTo>
                <a:lnTo>
                  <a:pt x="17806" y="7376"/>
                </a:lnTo>
                <a:lnTo>
                  <a:pt x="17806" y="21388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03280" y="923760"/>
            <a:ext cx="1513080" cy="19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b_tipus_kod</a:t>
            </a:r>
            <a:r>
              <a:rPr b="0" lang="hu-HU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Q48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>
            <a:hlinkClick r:id="" action="ppaction://hlinkshowjump?jump=previousslide"/>
          </p:cNvPr>
          <p:cNvSpPr/>
          <p:nvPr/>
        </p:nvSpPr>
        <p:spPr>
          <a:xfrm rot="16200000">
            <a:off x="2994840" y="870840"/>
            <a:ext cx="216000" cy="28728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87280"/>
              <a:gd name="textAreaBottom" fmla="*/ 273600 h 287280"/>
            </a:gdLst>
            <a:ahLst/>
            <a:rect l="textAreaLeft" t="textAreaTop" r="textAreaRight" b="textAreaBottom"/>
            <a:pathLst>
              <a:path w="21600" h="28716">
                <a:moveTo>
                  <a:pt x="0" y="0"/>
                </a:moveTo>
                <a:lnTo>
                  <a:pt x="21600" y="0"/>
                </a:lnTo>
                <a:lnTo>
                  <a:pt x="21600" y="28716"/>
                </a:lnTo>
                <a:lnTo>
                  <a:pt x="0" y="28716"/>
                </a:lnTo>
                <a:close/>
              </a:path>
              <a:path fill="lightenLess" w="21600" h="2871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16">
                <a:moveTo>
                  <a:pt x="21600" y="0"/>
                </a:moveTo>
                <a:lnTo>
                  <a:pt x="21600" y="28716"/>
                </a:lnTo>
                <a:lnTo>
                  <a:pt x="20200" y="27316"/>
                </a:lnTo>
                <a:lnTo>
                  <a:pt x="20200" y="1400"/>
                </a:lnTo>
                <a:close/>
              </a:path>
              <a:path fill="darkenLess" w="21600" h="28716">
                <a:moveTo>
                  <a:pt x="21600" y="28716"/>
                </a:moveTo>
                <a:lnTo>
                  <a:pt x="0" y="28716"/>
                </a:lnTo>
                <a:lnTo>
                  <a:pt x="1400" y="27316"/>
                </a:lnTo>
                <a:lnTo>
                  <a:pt x="20200" y="27316"/>
                </a:lnTo>
                <a:close/>
              </a:path>
              <a:path fill="lighten" w="21600" h="28716">
                <a:moveTo>
                  <a:pt x="0" y="28716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16"/>
                </a:lnTo>
                <a:close/>
              </a:path>
              <a:path fill="darken" w="21600" h="28716">
                <a:moveTo>
                  <a:pt x="3794" y="14358"/>
                </a:moveTo>
                <a:lnTo>
                  <a:pt x="17806" y="7352"/>
                </a:lnTo>
                <a:lnTo>
                  <a:pt x="17806" y="21365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192560" y="1890720"/>
            <a:ext cx="1513080" cy="19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b_fizmod</a:t>
            </a:r>
            <a:r>
              <a:rPr b="0" lang="hu-HU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Q20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>
            <a:hlinkClick r:id="" action="ppaction://hlinkshowjump?jump=previousslide"/>
          </p:cNvPr>
          <p:cNvSpPr/>
          <p:nvPr/>
        </p:nvSpPr>
        <p:spPr>
          <a:xfrm rot="16200000">
            <a:off x="5741280" y="1855080"/>
            <a:ext cx="216000" cy="28728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87280"/>
              <a:gd name="textAreaBottom" fmla="*/ 273600 h 287280"/>
            </a:gdLst>
            <a:ahLst/>
            <a:rect l="textAreaLeft" t="textAreaTop" r="textAreaRight" b="textAreaBottom"/>
            <a:pathLst>
              <a:path w="21600" h="28716">
                <a:moveTo>
                  <a:pt x="0" y="0"/>
                </a:moveTo>
                <a:lnTo>
                  <a:pt x="21600" y="0"/>
                </a:lnTo>
                <a:lnTo>
                  <a:pt x="21600" y="28716"/>
                </a:lnTo>
                <a:lnTo>
                  <a:pt x="0" y="28716"/>
                </a:lnTo>
                <a:close/>
              </a:path>
              <a:path fill="lightenLess" w="21600" h="2871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16">
                <a:moveTo>
                  <a:pt x="21600" y="0"/>
                </a:moveTo>
                <a:lnTo>
                  <a:pt x="21600" y="28716"/>
                </a:lnTo>
                <a:lnTo>
                  <a:pt x="20200" y="27316"/>
                </a:lnTo>
                <a:lnTo>
                  <a:pt x="20200" y="1400"/>
                </a:lnTo>
                <a:close/>
              </a:path>
              <a:path fill="darkenLess" w="21600" h="28716">
                <a:moveTo>
                  <a:pt x="21600" y="28716"/>
                </a:moveTo>
                <a:lnTo>
                  <a:pt x="0" y="28716"/>
                </a:lnTo>
                <a:lnTo>
                  <a:pt x="1400" y="27316"/>
                </a:lnTo>
                <a:lnTo>
                  <a:pt x="20200" y="27316"/>
                </a:lnTo>
                <a:close/>
              </a:path>
              <a:path fill="lighten" w="21600" h="28716">
                <a:moveTo>
                  <a:pt x="0" y="28716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16"/>
                </a:lnTo>
                <a:close/>
              </a:path>
              <a:path fill="darken" w="21600" h="28716">
                <a:moveTo>
                  <a:pt x="3794" y="14358"/>
                </a:moveTo>
                <a:lnTo>
                  <a:pt x="17806" y="7352"/>
                </a:lnTo>
                <a:lnTo>
                  <a:pt x="17806" y="21365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259760" y="1889280"/>
            <a:ext cx="1512720" cy="196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b_fizgyakorisag</a:t>
            </a:r>
            <a:r>
              <a:rPr b="0" lang="hu-HU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Q48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>
            <a:hlinkClick r:id="" action="ppaction://hlinkshowjump?jump=previousslide"/>
          </p:cNvPr>
          <p:cNvSpPr/>
          <p:nvPr/>
        </p:nvSpPr>
        <p:spPr>
          <a:xfrm rot="16200000">
            <a:off x="8808120" y="1843920"/>
            <a:ext cx="216000" cy="28728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87280"/>
              <a:gd name="textAreaBottom" fmla="*/ 273600 h 287280"/>
            </a:gdLst>
            <a:ahLst/>
            <a:rect l="textAreaLeft" t="textAreaTop" r="textAreaRight" b="textAreaBottom"/>
            <a:pathLst>
              <a:path w="21600" h="28716">
                <a:moveTo>
                  <a:pt x="0" y="0"/>
                </a:moveTo>
                <a:lnTo>
                  <a:pt x="21600" y="0"/>
                </a:lnTo>
                <a:lnTo>
                  <a:pt x="21600" y="28716"/>
                </a:lnTo>
                <a:lnTo>
                  <a:pt x="0" y="28716"/>
                </a:lnTo>
                <a:close/>
              </a:path>
              <a:path fill="lightenLess" w="21600" h="2871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16">
                <a:moveTo>
                  <a:pt x="21600" y="0"/>
                </a:moveTo>
                <a:lnTo>
                  <a:pt x="21600" y="28716"/>
                </a:lnTo>
                <a:lnTo>
                  <a:pt x="20200" y="27316"/>
                </a:lnTo>
                <a:lnTo>
                  <a:pt x="20200" y="1400"/>
                </a:lnTo>
                <a:close/>
              </a:path>
              <a:path fill="darkenLess" w="21600" h="28716">
                <a:moveTo>
                  <a:pt x="21600" y="28716"/>
                </a:moveTo>
                <a:lnTo>
                  <a:pt x="0" y="28716"/>
                </a:lnTo>
                <a:lnTo>
                  <a:pt x="1400" y="27316"/>
                </a:lnTo>
                <a:lnTo>
                  <a:pt x="20200" y="27316"/>
                </a:lnTo>
                <a:close/>
              </a:path>
              <a:path fill="lighten" w="21600" h="28716">
                <a:moveTo>
                  <a:pt x="0" y="28716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16"/>
                </a:lnTo>
                <a:close/>
              </a:path>
              <a:path fill="darken" w="21600" h="28716">
                <a:moveTo>
                  <a:pt x="3794" y="14358"/>
                </a:moveTo>
                <a:lnTo>
                  <a:pt x="17806" y="7352"/>
                </a:lnTo>
                <a:lnTo>
                  <a:pt x="17806" y="21365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403280" y="2624040"/>
            <a:ext cx="1513080" cy="19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b_berfizetes_datum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211640" y="2600280"/>
            <a:ext cx="1512720" cy="19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b_szerzodes_berfizetveg_da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407960" y="1889280"/>
            <a:ext cx="1513080" cy="196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b_szerzodes_kiutalo_szerv_ko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Q482 kodmegnev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>
            <a:hlinkClick r:id="" action="ppaction://hlinkshowjump?jump=previousslide"/>
          </p:cNvPr>
          <p:cNvSpPr/>
          <p:nvPr/>
        </p:nvSpPr>
        <p:spPr>
          <a:xfrm rot="16200000">
            <a:off x="2980440" y="1818000"/>
            <a:ext cx="215640" cy="287280"/>
          </a:xfrm>
          <a:custGeom>
            <a:avLst/>
            <a:gdLst>
              <a:gd name="textAreaLeft" fmla="*/ 13680 w 215640"/>
              <a:gd name="textAreaRight" fmla="*/ 201960 w 215640"/>
              <a:gd name="textAreaTop" fmla="*/ 13680 h 287280"/>
              <a:gd name="textAreaBottom" fmla="*/ 273600 h 287280"/>
            </a:gdLst>
            <a:ahLst/>
            <a:rect l="textAreaLeft" t="textAreaTop" r="textAreaRight" b="textAreaBottom"/>
            <a:pathLst>
              <a:path w="21600" h="28764">
                <a:moveTo>
                  <a:pt x="0" y="0"/>
                </a:moveTo>
                <a:lnTo>
                  <a:pt x="21600" y="0"/>
                </a:lnTo>
                <a:lnTo>
                  <a:pt x="21600" y="28764"/>
                </a:lnTo>
                <a:lnTo>
                  <a:pt x="0" y="28764"/>
                </a:lnTo>
                <a:close/>
              </a:path>
              <a:path fill="lightenLess" w="21600" h="2876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64">
                <a:moveTo>
                  <a:pt x="21600" y="0"/>
                </a:moveTo>
                <a:lnTo>
                  <a:pt x="21600" y="28764"/>
                </a:lnTo>
                <a:lnTo>
                  <a:pt x="20200" y="27364"/>
                </a:lnTo>
                <a:lnTo>
                  <a:pt x="20200" y="1400"/>
                </a:lnTo>
                <a:close/>
              </a:path>
              <a:path fill="darkenLess" w="21600" h="28764">
                <a:moveTo>
                  <a:pt x="21600" y="28764"/>
                </a:moveTo>
                <a:lnTo>
                  <a:pt x="0" y="28764"/>
                </a:lnTo>
                <a:lnTo>
                  <a:pt x="1400" y="27364"/>
                </a:lnTo>
                <a:lnTo>
                  <a:pt x="20200" y="27364"/>
                </a:lnTo>
                <a:close/>
              </a:path>
              <a:path fill="lighten" w="21600" h="28764">
                <a:moveTo>
                  <a:pt x="0" y="28764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64"/>
                </a:lnTo>
                <a:close/>
              </a:path>
              <a:path fill="darken" w="21600" h="28764">
                <a:moveTo>
                  <a:pt x="3794" y="14382"/>
                </a:moveTo>
                <a:lnTo>
                  <a:pt x="17806" y="7376"/>
                </a:lnTo>
                <a:lnTo>
                  <a:pt x="17806" y="21388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211640" y="2239920"/>
            <a:ext cx="1512720" cy="19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b_szerzodes_hatarozat_da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432080" y="2239920"/>
            <a:ext cx="1512720" cy="19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b_szerzodes_hatarozat:_sza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403280" y="3635280"/>
            <a:ext cx="1513080" cy="19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b_szerzodes_jogvkezd_da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7308720" y="3676680"/>
            <a:ext cx="1727280" cy="182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b_szerzodes_berletidotar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832440" y="2238480"/>
            <a:ext cx="1944720" cy="206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b_szerzodes_berbeadas_jogc_ko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Q485 kodmegnev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>
            <a:hlinkClick r:id="" action="ppaction://hlinkshowjump?jump=previousslide"/>
          </p:cNvPr>
          <p:cNvSpPr/>
          <p:nvPr/>
        </p:nvSpPr>
        <p:spPr>
          <a:xfrm rot="16200000">
            <a:off x="8816040" y="2194200"/>
            <a:ext cx="215640" cy="287280"/>
          </a:xfrm>
          <a:custGeom>
            <a:avLst/>
            <a:gdLst>
              <a:gd name="textAreaLeft" fmla="*/ 13680 w 215640"/>
              <a:gd name="textAreaRight" fmla="*/ 201960 w 215640"/>
              <a:gd name="textAreaTop" fmla="*/ 13680 h 287280"/>
              <a:gd name="textAreaBottom" fmla="*/ 273600 h 287280"/>
            </a:gdLst>
            <a:ahLst/>
            <a:rect l="textAreaLeft" t="textAreaTop" r="textAreaRight" b="textAreaBottom"/>
            <a:pathLst>
              <a:path w="21600" h="28764">
                <a:moveTo>
                  <a:pt x="0" y="0"/>
                </a:moveTo>
                <a:lnTo>
                  <a:pt x="21600" y="0"/>
                </a:lnTo>
                <a:lnTo>
                  <a:pt x="21600" y="28764"/>
                </a:lnTo>
                <a:lnTo>
                  <a:pt x="0" y="28764"/>
                </a:lnTo>
                <a:close/>
              </a:path>
              <a:path fill="lightenLess" w="21600" h="2876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64">
                <a:moveTo>
                  <a:pt x="21600" y="0"/>
                </a:moveTo>
                <a:lnTo>
                  <a:pt x="21600" y="28764"/>
                </a:lnTo>
                <a:lnTo>
                  <a:pt x="20200" y="27364"/>
                </a:lnTo>
                <a:lnTo>
                  <a:pt x="20200" y="1400"/>
                </a:lnTo>
                <a:close/>
              </a:path>
              <a:path fill="darkenLess" w="21600" h="28764">
                <a:moveTo>
                  <a:pt x="21600" y="28764"/>
                </a:moveTo>
                <a:lnTo>
                  <a:pt x="0" y="28764"/>
                </a:lnTo>
                <a:lnTo>
                  <a:pt x="1400" y="27364"/>
                </a:lnTo>
                <a:lnTo>
                  <a:pt x="20200" y="27364"/>
                </a:lnTo>
                <a:close/>
              </a:path>
              <a:path fill="lighten" w="21600" h="28764">
                <a:moveTo>
                  <a:pt x="0" y="28764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64"/>
                </a:lnTo>
                <a:close/>
              </a:path>
              <a:path fill="darken" w="21600" h="28764">
                <a:moveTo>
                  <a:pt x="3794" y="14382"/>
                </a:moveTo>
                <a:lnTo>
                  <a:pt x="17806" y="7376"/>
                </a:lnTo>
                <a:lnTo>
                  <a:pt x="17806" y="21388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420920" y="1560600"/>
            <a:ext cx="1944720" cy="206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b_szerzodes_rendeltetes_ko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Q486 kodmegnev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>
            <a:hlinkClick r:id="" action="ppaction://hlinkshowjump?jump=previousslide"/>
          </p:cNvPr>
          <p:cNvSpPr/>
          <p:nvPr/>
        </p:nvSpPr>
        <p:spPr>
          <a:xfrm rot="16200000">
            <a:off x="3436200" y="1524240"/>
            <a:ext cx="215640" cy="287280"/>
          </a:xfrm>
          <a:custGeom>
            <a:avLst/>
            <a:gdLst>
              <a:gd name="textAreaLeft" fmla="*/ 13680 w 215640"/>
              <a:gd name="textAreaRight" fmla="*/ 201960 w 215640"/>
              <a:gd name="textAreaTop" fmla="*/ 13680 h 287280"/>
              <a:gd name="textAreaBottom" fmla="*/ 273600 h 287280"/>
            </a:gdLst>
            <a:ahLst/>
            <a:rect l="textAreaLeft" t="textAreaTop" r="textAreaRight" b="textAreaBottom"/>
            <a:pathLst>
              <a:path w="21600" h="28764">
                <a:moveTo>
                  <a:pt x="0" y="0"/>
                </a:moveTo>
                <a:lnTo>
                  <a:pt x="21600" y="0"/>
                </a:lnTo>
                <a:lnTo>
                  <a:pt x="21600" y="28764"/>
                </a:lnTo>
                <a:lnTo>
                  <a:pt x="0" y="28764"/>
                </a:lnTo>
                <a:close/>
              </a:path>
              <a:path fill="lightenLess" w="21600" h="2876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64">
                <a:moveTo>
                  <a:pt x="21600" y="0"/>
                </a:moveTo>
                <a:lnTo>
                  <a:pt x="21600" y="28764"/>
                </a:lnTo>
                <a:lnTo>
                  <a:pt x="20200" y="27364"/>
                </a:lnTo>
                <a:lnTo>
                  <a:pt x="20200" y="1400"/>
                </a:lnTo>
                <a:close/>
              </a:path>
              <a:path fill="darkenLess" w="21600" h="28764">
                <a:moveTo>
                  <a:pt x="21600" y="28764"/>
                </a:moveTo>
                <a:lnTo>
                  <a:pt x="0" y="28764"/>
                </a:lnTo>
                <a:lnTo>
                  <a:pt x="1400" y="27364"/>
                </a:lnTo>
                <a:lnTo>
                  <a:pt x="20200" y="27364"/>
                </a:lnTo>
                <a:close/>
              </a:path>
              <a:path fill="lighten" w="21600" h="28764">
                <a:moveTo>
                  <a:pt x="0" y="28764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64"/>
                </a:lnTo>
                <a:close/>
              </a:path>
              <a:path fill="darken" w="21600" h="28764">
                <a:moveTo>
                  <a:pt x="3794" y="14382"/>
                </a:moveTo>
                <a:lnTo>
                  <a:pt x="17806" y="7376"/>
                </a:lnTo>
                <a:lnTo>
                  <a:pt x="17806" y="21388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417680" y="1220760"/>
            <a:ext cx="280836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b_szerzodes_berljogv_kodja</a:t>
            </a:r>
            <a:r>
              <a:rPr b="0" lang="hu-HU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Q491 kodmegnev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76840" y="2995560"/>
            <a:ext cx="1034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flációval növel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1411200" y="3008160"/>
            <a:ext cx="142920" cy="144360"/>
            <a:chOff x="1411200" y="3008160"/>
            <a:chExt cx="142920" cy="144360"/>
          </a:xfrm>
        </p:grpSpPr>
        <p:sp>
          <p:nvSpPr>
            <p:cNvPr id="196" name=""/>
            <p:cNvSpPr/>
            <p:nvPr/>
          </p:nvSpPr>
          <p:spPr>
            <a:xfrm>
              <a:off x="1411200" y="3008160"/>
              <a:ext cx="142920" cy="14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446120" y="3036600"/>
              <a:ext cx="73080" cy="73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"/>
          <p:cNvSpPr/>
          <p:nvPr/>
        </p:nvSpPr>
        <p:spPr>
          <a:xfrm>
            <a:off x="1480320" y="2963880"/>
            <a:ext cx="1078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900" spc="-1" strike="noStrike">
                <a:solidFill>
                  <a:srgbClr val="000000"/>
                </a:solidFill>
                <a:latin typeface="Arial"/>
              </a:rPr>
              <a:t>b_szerzodes_ksh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211640" y="2978280"/>
            <a:ext cx="1512720" cy="196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b_szerzodes_ksh_da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7504200" y="2617920"/>
            <a:ext cx="1512720" cy="196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b_szerzodes_berletidijv_da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202920" y="868320"/>
            <a:ext cx="1011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érlemény típu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938200" y="836640"/>
            <a:ext cx="12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em lakás használat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jogcím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93840" y="912960"/>
            <a:ext cx="1006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zerződés típu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288960" y="1868400"/>
            <a:ext cx="833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izetési mó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009120" y="1879560"/>
            <a:ext cx="1168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izetési gyakorisá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70360" y="2635200"/>
            <a:ext cx="1107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érfizetés dátum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864880" y="2548080"/>
            <a:ext cx="143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érleti díj befizetésének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végső dátum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97520" y="1879560"/>
            <a:ext cx="840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iutaló szerv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23280" y="2214720"/>
            <a:ext cx="1049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atározat szám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186720" y="2227320"/>
            <a:ext cx="955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atározat kel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76040" y="3659040"/>
            <a:ext cx="1188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Jogviszony kezde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160320" y="3648240"/>
            <a:ext cx="1055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érlet időtartam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915280" y="2984400"/>
            <a:ext cx="1221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H infláció dátum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276960" y="2635200"/>
            <a:ext cx="1244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érleti díj változatla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0040" y="1208160"/>
            <a:ext cx="1360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érleti jogviszony nev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28200" y="1550880"/>
            <a:ext cx="794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ndelteté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681880" y="2220840"/>
            <a:ext cx="1171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érbeadás jogcím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716360" y="1566720"/>
            <a:ext cx="1944720" cy="206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b_szerzodes_tevekenyseg_ko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Q487 kodmegnev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>
            <a:hlinkClick r:id="" action="ppaction://hlinkshowjump?jump=previousslide"/>
          </p:cNvPr>
          <p:cNvSpPr/>
          <p:nvPr/>
        </p:nvSpPr>
        <p:spPr>
          <a:xfrm rot="16200000">
            <a:off x="6677640" y="1534320"/>
            <a:ext cx="216000" cy="28728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87280"/>
              <a:gd name="textAreaBottom" fmla="*/ 273600 h 287280"/>
            </a:gdLst>
            <a:ahLst/>
            <a:rect l="textAreaLeft" t="textAreaTop" r="textAreaRight" b="textAreaBottom"/>
            <a:pathLst>
              <a:path w="21600" h="28716">
                <a:moveTo>
                  <a:pt x="0" y="0"/>
                </a:moveTo>
                <a:lnTo>
                  <a:pt x="21600" y="0"/>
                </a:lnTo>
                <a:lnTo>
                  <a:pt x="21600" y="28716"/>
                </a:lnTo>
                <a:lnTo>
                  <a:pt x="0" y="28716"/>
                </a:lnTo>
                <a:close/>
              </a:path>
              <a:path fill="lightenLess" w="21600" h="2871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16">
                <a:moveTo>
                  <a:pt x="21600" y="0"/>
                </a:moveTo>
                <a:lnTo>
                  <a:pt x="21600" y="28716"/>
                </a:lnTo>
                <a:lnTo>
                  <a:pt x="20200" y="27316"/>
                </a:lnTo>
                <a:lnTo>
                  <a:pt x="20200" y="1400"/>
                </a:lnTo>
                <a:close/>
              </a:path>
              <a:path fill="darkenLess" w="21600" h="28716">
                <a:moveTo>
                  <a:pt x="21600" y="28716"/>
                </a:moveTo>
                <a:lnTo>
                  <a:pt x="0" y="28716"/>
                </a:lnTo>
                <a:lnTo>
                  <a:pt x="1400" y="27316"/>
                </a:lnTo>
                <a:lnTo>
                  <a:pt x="20200" y="27316"/>
                </a:lnTo>
                <a:close/>
              </a:path>
              <a:path fill="lighten" w="21600" h="28716">
                <a:moveTo>
                  <a:pt x="0" y="28716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16"/>
                </a:lnTo>
                <a:close/>
              </a:path>
              <a:path fill="darken" w="21600" h="28716">
                <a:moveTo>
                  <a:pt x="3794" y="14358"/>
                </a:moveTo>
                <a:lnTo>
                  <a:pt x="17806" y="7352"/>
                </a:lnTo>
                <a:lnTo>
                  <a:pt x="17806" y="21365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903840" y="1560600"/>
            <a:ext cx="866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evékenysé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>
            <a:hlinkClick r:id="" action="ppaction://hlinkshowjump?jump=previousslide"/>
          </p:cNvPr>
          <p:cNvSpPr/>
          <p:nvPr/>
        </p:nvSpPr>
        <p:spPr>
          <a:xfrm rot="16200000">
            <a:off x="4248720" y="1189440"/>
            <a:ext cx="216000" cy="28764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87640"/>
              <a:gd name="textAreaBottom" fmla="*/ 273960 h 287640"/>
            </a:gdLst>
            <a:ahLst/>
            <a:rect l="textAreaLeft" t="textAreaTop" r="textAreaRight" b="textAreaBottom"/>
            <a:pathLst>
              <a:path w="21600" h="28752">
                <a:moveTo>
                  <a:pt x="0" y="0"/>
                </a:moveTo>
                <a:lnTo>
                  <a:pt x="21600" y="0"/>
                </a:lnTo>
                <a:lnTo>
                  <a:pt x="21600" y="28752"/>
                </a:lnTo>
                <a:lnTo>
                  <a:pt x="0" y="28752"/>
                </a:lnTo>
                <a:close/>
              </a:path>
              <a:path fill="lightenLess" w="21600" h="287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52">
                <a:moveTo>
                  <a:pt x="21600" y="0"/>
                </a:moveTo>
                <a:lnTo>
                  <a:pt x="21600" y="28752"/>
                </a:lnTo>
                <a:lnTo>
                  <a:pt x="20200" y="27352"/>
                </a:lnTo>
                <a:lnTo>
                  <a:pt x="20200" y="1400"/>
                </a:lnTo>
                <a:close/>
              </a:path>
              <a:path fill="darkenLess" w="21600" h="28752">
                <a:moveTo>
                  <a:pt x="21600" y="28752"/>
                </a:moveTo>
                <a:lnTo>
                  <a:pt x="0" y="28752"/>
                </a:lnTo>
                <a:lnTo>
                  <a:pt x="1400" y="27352"/>
                </a:lnTo>
                <a:lnTo>
                  <a:pt x="20200" y="27352"/>
                </a:lnTo>
                <a:close/>
              </a:path>
              <a:path fill="lighten" w="21600" h="28752">
                <a:moveTo>
                  <a:pt x="0" y="28752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52"/>
                </a:lnTo>
                <a:close/>
              </a:path>
              <a:path fill="darken" w="21600" h="28752">
                <a:moveTo>
                  <a:pt x="3794" y="14376"/>
                </a:moveTo>
                <a:lnTo>
                  <a:pt x="17806" y="7370"/>
                </a:lnTo>
                <a:lnTo>
                  <a:pt x="17806" y="21383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866560" y="2978280"/>
            <a:ext cx="8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Jogfenntartó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yilatkoza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6732720" y="3049560"/>
            <a:ext cx="142920" cy="144360"/>
            <a:chOff x="6732720" y="3049560"/>
            <a:chExt cx="142920" cy="144360"/>
          </a:xfrm>
        </p:grpSpPr>
        <p:sp>
          <p:nvSpPr>
            <p:cNvPr id="224" name=""/>
            <p:cNvSpPr/>
            <p:nvPr/>
          </p:nvSpPr>
          <p:spPr>
            <a:xfrm>
              <a:off x="6732720" y="3049560"/>
              <a:ext cx="142920" cy="14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767640" y="3078000"/>
              <a:ext cx="73080" cy="73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6" name=""/>
          <p:cNvSpPr/>
          <p:nvPr/>
        </p:nvSpPr>
        <p:spPr>
          <a:xfrm>
            <a:off x="6873120" y="2978280"/>
            <a:ext cx="1322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900" spc="-1" strike="noStrike">
                <a:solidFill>
                  <a:srgbClr val="000000"/>
                </a:solidFill>
                <a:latin typeface="Arial"/>
              </a:rPr>
              <a:t>b_szerzodes_jogf_nyi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211640" y="3633840"/>
            <a:ext cx="1512720" cy="19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b_szerzodes_jogfolyt_sza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94760" y="3583080"/>
            <a:ext cx="123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Jogviszony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olytatásának szám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288800" y="5073480"/>
            <a:ext cx="762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érlőtársak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713680" y="5230800"/>
            <a:ext cx="923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érlőtárs nev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619280" y="5446800"/>
            <a:ext cx="316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763640" y="5551560"/>
            <a:ext cx="3024360" cy="182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b_szerzodes_berlotar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763640" y="5767560"/>
            <a:ext cx="3024360" cy="182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b_szerzodes_berlotars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763640" y="5983200"/>
            <a:ext cx="3024360" cy="182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b_szerzodes_berlotars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403280" y="4076640"/>
            <a:ext cx="151308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b_hasznvetel_engedel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77120" y="4046400"/>
            <a:ext cx="112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asználatbavételi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ngedély száma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211640" y="4078440"/>
            <a:ext cx="151272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b_hasznvetel_datu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985480" y="4048200"/>
            <a:ext cx="112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asználatbavételi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ngedély dátuma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403280" y="4538520"/>
            <a:ext cx="151308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b_ep_eng_sza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47680" y="450864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Építési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ngedély száma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211640" y="4540320"/>
            <a:ext cx="151272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b_ep_eng_datu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011760" y="4510080"/>
            <a:ext cx="109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Építési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ngedély dátuma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470880" y="620640"/>
            <a:ext cx="1096560" cy="231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zerződés tételek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9120" y="1125360"/>
            <a:ext cx="1000800" cy="23112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56676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Aru,szolgáltatá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476360" y="1125360"/>
            <a:ext cx="1655640" cy="36828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56676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elyiségen végzet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evékenysé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175200" y="1125360"/>
            <a:ext cx="811800" cy="23112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56676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lap ár (m2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029120" y="1125360"/>
            <a:ext cx="736920" cy="23112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56676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ennyisé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822920" y="1125360"/>
            <a:ext cx="339120" cy="23112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56676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m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417280" y="1125360"/>
            <a:ext cx="448920" cy="23112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56676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Érték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6301440" y="1125360"/>
            <a:ext cx="487080" cy="23112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56676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Áfa %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972120" y="1125360"/>
            <a:ext cx="775080" cy="23112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56676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ruttó érték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85080" y="1125360"/>
            <a:ext cx="1258920" cy="23112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56676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Érvényesség vég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08000" y="1542960"/>
            <a:ext cx="889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79280" y="1628640"/>
            <a:ext cx="1152720" cy="21564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b_cikk_megnevez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476360" y="1628640"/>
            <a:ext cx="1655640" cy="21564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b_helyisegen_vegz_tev</a:t>
            </a:r>
            <a:r>
              <a:rPr b="0" lang="hu-HU" sz="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Q48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265200" y="1628640"/>
            <a:ext cx="581400" cy="21564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b_nm_a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912480" y="1628640"/>
            <a:ext cx="787320" cy="21564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b_mennyise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777200" y="1628640"/>
            <a:ext cx="435240" cy="21564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b_m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5292720" y="1628640"/>
            <a:ext cx="792000" cy="21564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b_cikk_erte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156360" y="1628640"/>
            <a:ext cx="720720" cy="21564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b_afa_szaz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977160" y="1628640"/>
            <a:ext cx="863640" cy="21564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b_brutto_erte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7883640" y="1628640"/>
            <a:ext cx="1152360" cy="21564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b_fizetendo_veg_d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1258920" y="2924280"/>
            <a:ext cx="6553080" cy="381780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763640" y="630360"/>
            <a:ext cx="647640" cy="215640"/>
          </a:xfrm>
          <a:custGeom>
            <a:avLst/>
            <a:gdLst>
              <a:gd name="textAreaLeft" fmla="*/ 13680 w 647640"/>
              <a:gd name="textAreaRight" fmla="*/ 633960 w 64764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64800" h="21600">
                <a:moveTo>
                  <a:pt x="0" y="0"/>
                </a:moveTo>
                <a:lnTo>
                  <a:pt x="64800" y="0"/>
                </a:lnTo>
                <a:lnTo>
                  <a:pt x="64800" y="21600"/>
                </a:lnTo>
                <a:lnTo>
                  <a:pt x="0" y="21600"/>
                </a:lnTo>
                <a:close/>
              </a:path>
              <a:path fill="lightenLess" w="64800" h="21600">
                <a:moveTo>
                  <a:pt x="0" y="0"/>
                </a:moveTo>
                <a:lnTo>
                  <a:pt x="64800" y="0"/>
                </a:lnTo>
                <a:lnTo>
                  <a:pt x="63400" y="1400"/>
                </a:lnTo>
                <a:lnTo>
                  <a:pt x="1400" y="1400"/>
                </a:lnTo>
                <a:close/>
              </a:path>
              <a:path fill="darken" w="64800" h="21600">
                <a:moveTo>
                  <a:pt x="64800" y="0"/>
                </a:moveTo>
                <a:lnTo>
                  <a:pt x="64800" y="21600"/>
                </a:lnTo>
                <a:lnTo>
                  <a:pt x="63400" y="20200"/>
                </a:lnTo>
                <a:lnTo>
                  <a:pt x="63400" y="1400"/>
                </a:lnTo>
                <a:close/>
              </a:path>
              <a:path fill="darkenLess" w="64800" h="21600">
                <a:moveTo>
                  <a:pt x="64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400" y="20200"/>
                </a:lnTo>
                <a:close/>
              </a:path>
              <a:path fill="lighten" w="64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Új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521080" y="622440"/>
            <a:ext cx="647640" cy="215640"/>
          </a:xfrm>
          <a:custGeom>
            <a:avLst/>
            <a:gdLst>
              <a:gd name="textAreaLeft" fmla="*/ 13680 w 647640"/>
              <a:gd name="textAreaRight" fmla="*/ 633960 w 64764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64800" h="21600">
                <a:moveTo>
                  <a:pt x="0" y="0"/>
                </a:moveTo>
                <a:lnTo>
                  <a:pt x="64800" y="0"/>
                </a:lnTo>
                <a:lnTo>
                  <a:pt x="64800" y="21600"/>
                </a:lnTo>
                <a:lnTo>
                  <a:pt x="0" y="21600"/>
                </a:lnTo>
                <a:close/>
              </a:path>
              <a:path fill="lightenLess" w="64800" h="21600">
                <a:moveTo>
                  <a:pt x="0" y="0"/>
                </a:moveTo>
                <a:lnTo>
                  <a:pt x="64800" y="0"/>
                </a:lnTo>
                <a:lnTo>
                  <a:pt x="63400" y="1400"/>
                </a:lnTo>
                <a:lnTo>
                  <a:pt x="1400" y="1400"/>
                </a:lnTo>
                <a:close/>
              </a:path>
              <a:path fill="darken" w="64800" h="21600">
                <a:moveTo>
                  <a:pt x="64800" y="0"/>
                </a:moveTo>
                <a:lnTo>
                  <a:pt x="64800" y="21600"/>
                </a:lnTo>
                <a:lnTo>
                  <a:pt x="63400" y="20200"/>
                </a:lnTo>
                <a:lnTo>
                  <a:pt x="63400" y="1400"/>
                </a:lnTo>
                <a:close/>
              </a:path>
              <a:path fill="darkenLess" w="64800" h="21600">
                <a:moveTo>
                  <a:pt x="64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400" y="20200"/>
                </a:lnTo>
                <a:close/>
              </a:path>
              <a:path fill="lighten" w="64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ndb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240000" y="622440"/>
            <a:ext cx="647640" cy="215640"/>
          </a:xfrm>
          <a:custGeom>
            <a:avLst/>
            <a:gdLst>
              <a:gd name="textAreaLeft" fmla="*/ 13680 w 647640"/>
              <a:gd name="textAreaRight" fmla="*/ 633960 w 64764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64800" h="21600">
                <a:moveTo>
                  <a:pt x="0" y="0"/>
                </a:moveTo>
                <a:lnTo>
                  <a:pt x="64800" y="0"/>
                </a:lnTo>
                <a:lnTo>
                  <a:pt x="64800" y="21600"/>
                </a:lnTo>
                <a:lnTo>
                  <a:pt x="0" y="21600"/>
                </a:lnTo>
                <a:close/>
              </a:path>
              <a:path fill="lightenLess" w="64800" h="21600">
                <a:moveTo>
                  <a:pt x="0" y="0"/>
                </a:moveTo>
                <a:lnTo>
                  <a:pt x="64800" y="0"/>
                </a:lnTo>
                <a:lnTo>
                  <a:pt x="63400" y="1400"/>
                </a:lnTo>
                <a:lnTo>
                  <a:pt x="1400" y="1400"/>
                </a:lnTo>
                <a:close/>
              </a:path>
              <a:path fill="darken" w="64800" h="21600">
                <a:moveTo>
                  <a:pt x="64800" y="0"/>
                </a:moveTo>
                <a:lnTo>
                  <a:pt x="64800" y="21600"/>
                </a:lnTo>
                <a:lnTo>
                  <a:pt x="63400" y="20200"/>
                </a:lnTo>
                <a:lnTo>
                  <a:pt x="63400" y="1400"/>
                </a:lnTo>
                <a:close/>
              </a:path>
              <a:path fill="darkenLess" w="64800" h="21600">
                <a:moveTo>
                  <a:pt x="64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400" y="20200"/>
                </a:lnTo>
                <a:close/>
              </a:path>
              <a:path fill="lighten" w="64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égse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960720" y="622440"/>
            <a:ext cx="647640" cy="215640"/>
          </a:xfrm>
          <a:custGeom>
            <a:avLst/>
            <a:gdLst>
              <a:gd name="textAreaLeft" fmla="*/ 13680 w 647640"/>
              <a:gd name="textAreaRight" fmla="*/ 633960 w 64764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64800" h="21600">
                <a:moveTo>
                  <a:pt x="0" y="0"/>
                </a:moveTo>
                <a:lnTo>
                  <a:pt x="64800" y="0"/>
                </a:lnTo>
                <a:lnTo>
                  <a:pt x="64800" y="21600"/>
                </a:lnTo>
                <a:lnTo>
                  <a:pt x="0" y="21600"/>
                </a:lnTo>
                <a:close/>
              </a:path>
              <a:path fill="lightenLess" w="64800" h="21600">
                <a:moveTo>
                  <a:pt x="0" y="0"/>
                </a:moveTo>
                <a:lnTo>
                  <a:pt x="64800" y="0"/>
                </a:lnTo>
                <a:lnTo>
                  <a:pt x="63400" y="1400"/>
                </a:lnTo>
                <a:lnTo>
                  <a:pt x="1400" y="1400"/>
                </a:lnTo>
                <a:close/>
              </a:path>
              <a:path fill="darken" w="64800" h="21600">
                <a:moveTo>
                  <a:pt x="64800" y="0"/>
                </a:moveTo>
                <a:lnTo>
                  <a:pt x="64800" y="21600"/>
                </a:lnTo>
                <a:lnTo>
                  <a:pt x="63400" y="20200"/>
                </a:lnTo>
                <a:lnTo>
                  <a:pt x="63400" y="1400"/>
                </a:lnTo>
                <a:close/>
              </a:path>
              <a:path fill="darkenLess" w="64800" h="21600">
                <a:moveTo>
                  <a:pt x="64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400" y="20200"/>
                </a:lnTo>
                <a:close/>
              </a:path>
              <a:path fill="lighten" w="64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örlé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716360" y="620640"/>
            <a:ext cx="647640" cy="216000"/>
          </a:xfrm>
          <a:custGeom>
            <a:avLst/>
            <a:gdLst>
              <a:gd name="textAreaLeft" fmla="*/ 13680 w 647640"/>
              <a:gd name="textAreaRight" fmla="*/ 633960 w 64764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64692" h="21600">
                <a:moveTo>
                  <a:pt x="0" y="0"/>
                </a:moveTo>
                <a:lnTo>
                  <a:pt x="64692" y="0"/>
                </a:lnTo>
                <a:lnTo>
                  <a:pt x="64692" y="21600"/>
                </a:lnTo>
                <a:lnTo>
                  <a:pt x="0" y="21600"/>
                </a:lnTo>
                <a:close/>
              </a:path>
              <a:path fill="lightenLess" w="64692" h="21600">
                <a:moveTo>
                  <a:pt x="0" y="0"/>
                </a:moveTo>
                <a:lnTo>
                  <a:pt x="64692" y="0"/>
                </a:lnTo>
                <a:lnTo>
                  <a:pt x="63292" y="1400"/>
                </a:lnTo>
                <a:lnTo>
                  <a:pt x="1400" y="1400"/>
                </a:lnTo>
                <a:close/>
              </a:path>
              <a:path fill="darken" w="64692" h="21600">
                <a:moveTo>
                  <a:pt x="64692" y="0"/>
                </a:moveTo>
                <a:lnTo>
                  <a:pt x="64692" y="21600"/>
                </a:lnTo>
                <a:lnTo>
                  <a:pt x="63292" y="20200"/>
                </a:lnTo>
                <a:lnTo>
                  <a:pt x="63292" y="1400"/>
                </a:lnTo>
                <a:close/>
              </a:path>
              <a:path fill="darkenLess" w="64692" h="21600">
                <a:moveTo>
                  <a:pt x="646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92" y="20200"/>
                </a:lnTo>
                <a:close/>
              </a:path>
              <a:path fill="lighten" w="646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sat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2556000" y="2997360"/>
            <a:ext cx="2808000" cy="21564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b_szerzodes_szam, ugyfelnev,b_szerzodes_datu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212480" y="2984400"/>
            <a:ext cx="1302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zerződés hivatkozá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962760" y="320760"/>
            <a:ext cx="1727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900" spc="-1" strike="noStrike">
                <a:solidFill>
                  <a:srgbClr val="000000"/>
                </a:solidFill>
                <a:latin typeface="Arial"/>
              </a:rPr>
              <a:t>Tábla: nemlakas_szerz_tete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474560" y="3498840"/>
            <a:ext cx="1000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Aru,szolgáltatá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575080" y="3516480"/>
            <a:ext cx="1512720" cy="19656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Arak/aru_id</a:t>
            </a:r>
            <a:r>
              <a:rPr b="0" lang="hu-HU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arumegnev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>
            <a:hlinkClick r:id="" action="ppaction://hlinkshowjump?jump=previousslide"/>
          </p:cNvPr>
          <p:cNvSpPr/>
          <p:nvPr/>
        </p:nvSpPr>
        <p:spPr>
          <a:xfrm rot="16200000">
            <a:off x="3948840" y="3501360"/>
            <a:ext cx="216000" cy="28728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87280"/>
              <a:gd name="textAreaBottom" fmla="*/ 273600 h 287280"/>
            </a:gdLst>
            <a:ahLst/>
            <a:rect l="textAreaLeft" t="textAreaTop" r="textAreaRight" b="textAreaBottom"/>
            <a:pathLst>
              <a:path w="21600" h="28716">
                <a:moveTo>
                  <a:pt x="0" y="0"/>
                </a:moveTo>
                <a:lnTo>
                  <a:pt x="21600" y="0"/>
                </a:lnTo>
                <a:lnTo>
                  <a:pt x="21600" y="28716"/>
                </a:lnTo>
                <a:lnTo>
                  <a:pt x="0" y="28716"/>
                </a:lnTo>
                <a:close/>
              </a:path>
              <a:path fill="lightenLess" w="21600" h="2871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16">
                <a:moveTo>
                  <a:pt x="21600" y="0"/>
                </a:moveTo>
                <a:lnTo>
                  <a:pt x="21600" y="28716"/>
                </a:lnTo>
                <a:lnTo>
                  <a:pt x="20200" y="27316"/>
                </a:lnTo>
                <a:lnTo>
                  <a:pt x="20200" y="1400"/>
                </a:lnTo>
                <a:close/>
              </a:path>
              <a:path fill="darkenLess" w="21600" h="28716">
                <a:moveTo>
                  <a:pt x="21600" y="28716"/>
                </a:moveTo>
                <a:lnTo>
                  <a:pt x="0" y="28716"/>
                </a:lnTo>
                <a:lnTo>
                  <a:pt x="1400" y="27316"/>
                </a:lnTo>
                <a:lnTo>
                  <a:pt x="20200" y="27316"/>
                </a:lnTo>
                <a:close/>
              </a:path>
              <a:path fill="lighten" w="21600" h="28716">
                <a:moveTo>
                  <a:pt x="0" y="28716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16"/>
                </a:lnTo>
                <a:close/>
              </a:path>
              <a:path fill="darken" w="21600" h="28716">
                <a:moveTo>
                  <a:pt x="3794" y="14358"/>
                </a:moveTo>
                <a:lnTo>
                  <a:pt x="17806" y="7352"/>
                </a:lnTo>
                <a:lnTo>
                  <a:pt x="17806" y="21365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4340880" y="3495600"/>
            <a:ext cx="118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elyiségen végzett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evékenysé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5570640" y="3587760"/>
            <a:ext cx="1512720" cy="19692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b_helyisegen_vegz_tev</a:t>
            </a:r>
            <a:r>
              <a:rPr b="0" lang="hu-HU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Q488 kodmegnev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>
            <a:hlinkClick r:id="" action="ppaction://hlinkshowjump?jump=previousslide"/>
          </p:cNvPr>
          <p:cNvSpPr/>
          <p:nvPr/>
        </p:nvSpPr>
        <p:spPr>
          <a:xfrm rot="16200000">
            <a:off x="7045920" y="3533040"/>
            <a:ext cx="216000" cy="28728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87280"/>
              <a:gd name="textAreaBottom" fmla="*/ 273600 h 287280"/>
            </a:gdLst>
            <a:ahLst/>
            <a:rect l="textAreaLeft" t="textAreaTop" r="textAreaRight" b="textAreaBottom"/>
            <a:pathLst>
              <a:path w="21600" h="28716">
                <a:moveTo>
                  <a:pt x="0" y="0"/>
                </a:moveTo>
                <a:lnTo>
                  <a:pt x="21600" y="0"/>
                </a:lnTo>
                <a:lnTo>
                  <a:pt x="21600" y="28716"/>
                </a:lnTo>
                <a:lnTo>
                  <a:pt x="0" y="28716"/>
                </a:lnTo>
                <a:close/>
              </a:path>
              <a:path fill="lightenLess" w="21600" h="2871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16">
                <a:moveTo>
                  <a:pt x="21600" y="0"/>
                </a:moveTo>
                <a:lnTo>
                  <a:pt x="21600" y="28716"/>
                </a:lnTo>
                <a:lnTo>
                  <a:pt x="20200" y="27316"/>
                </a:lnTo>
                <a:lnTo>
                  <a:pt x="20200" y="1400"/>
                </a:lnTo>
                <a:close/>
              </a:path>
              <a:path fill="darkenLess" w="21600" h="28716">
                <a:moveTo>
                  <a:pt x="21600" y="28716"/>
                </a:moveTo>
                <a:lnTo>
                  <a:pt x="0" y="28716"/>
                </a:lnTo>
                <a:lnTo>
                  <a:pt x="1400" y="27316"/>
                </a:lnTo>
                <a:lnTo>
                  <a:pt x="20200" y="27316"/>
                </a:lnTo>
                <a:close/>
              </a:path>
              <a:path fill="lighten" w="21600" h="28716">
                <a:moveTo>
                  <a:pt x="0" y="28716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16"/>
                </a:lnTo>
                <a:close/>
              </a:path>
              <a:path fill="darken" w="21600" h="28716">
                <a:moveTo>
                  <a:pt x="3794" y="14358"/>
                </a:moveTo>
                <a:lnTo>
                  <a:pt x="17806" y="7352"/>
                </a:lnTo>
                <a:lnTo>
                  <a:pt x="17806" y="21365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503000" y="4362480"/>
            <a:ext cx="581400" cy="21564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b_nm_a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563200" y="4365720"/>
            <a:ext cx="787320" cy="21564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b_mennyise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3354840" y="4352760"/>
            <a:ext cx="435240" cy="21564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b_m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4290480" y="4352760"/>
            <a:ext cx="528120" cy="337320"/>
          </a:xfrm>
          <a:prstGeom prst="rect">
            <a:avLst/>
          </a:prstGeom>
          <a:solidFill>
            <a:srgbClr val="bbe0e3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b_cikk_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erte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5253120" y="4349880"/>
            <a:ext cx="491760" cy="337320"/>
          </a:xfrm>
          <a:prstGeom prst="rect">
            <a:avLst/>
          </a:prstGeom>
          <a:solidFill>
            <a:srgbClr val="bbe0e3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b_afa_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szaz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1236600" y="4363920"/>
            <a:ext cx="295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Á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051640" y="4351320"/>
            <a:ext cx="557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enny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164280" y="4352760"/>
            <a:ext cx="491760" cy="337320"/>
          </a:xfrm>
          <a:prstGeom prst="rect">
            <a:avLst/>
          </a:prstGeom>
          <a:solidFill>
            <a:srgbClr val="bbe0e3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b_afa_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er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048800" y="4343400"/>
            <a:ext cx="610560" cy="337320"/>
          </a:xfrm>
          <a:prstGeom prst="rect">
            <a:avLst/>
          </a:prstGeom>
          <a:solidFill>
            <a:srgbClr val="bbe0e3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b_brutto_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erte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5113800" y="6389640"/>
            <a:ext cx="764280" cy="33732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b_fizetendo_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veg_d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779920" y="6394320"/>
            <a:ext cx="764280" cy="33732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b_fizetendo_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kezdo_d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2780640" y="6033960"/>
            <a:ext cx="990000" cy="33732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b_megallapodott_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erte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5076720" y="6084720"/>
            <a:ext cx="2448000" cy="21564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b_megallapodott_ert_magyaraz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3818880" y="4352760"/>
            <a:ext cx="48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ettó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érték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4812480" y="4368960"/>
            <a:ext cx="487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Áfa %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750640" y="4352760"/>
            <a:ext cx="43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Áfa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érték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588720" y="4359240"/>
            <a:ext cx="51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ruttó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érték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1400400" y="6440400"/>
            <a:ext cx="1441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izetendő kezdő dátum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706200" y="6434280"/>
            <a:ext cx="131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izetendő vég dátum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1653840" y="6093000"/>
            <a:ext cx="1191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egállapodott érték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49480" y="6021360"/>
            <a:ext cx="122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egállapodott érték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gyarázat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1334160" y="4797360"/>
            <a:ext cx="1348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NGEDMÉNY, FELÁ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1555200" y="5013360"/>
            <a:ext cx="1363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ngedmény, felár típu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3186360" y="5013360"/>
            <a:ext cx="570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% érték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4642200" y="5013360"/>
            <a:ext cx="1145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ngedmény érték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5992920" y="5013360"/>
            <a:ext cx="857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zdő dátu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6948720" y="5013360"/>
            <a:ext cx="735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Vég dátu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1593720" y="5229360"/>
            <a:ext cx="1211040" cy="21564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eng_engedmeny_tipu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>
            <a:hlinkClick r:id="" action="ppaction://hlinkshowjump?jump=previousslide"/>
          </p:cNvPr>
          <p:cNvSpPr/>
          <p:nvPr/>
        </p:nvSpPr>
        <p:spPr>
          <a:xfrm rot="16200000">
            <a:off x="2844000" y="5193000"/>
            <a:ext cx="215640" cy="287280"/>
          </a:xfrm>
          <a:custGeom>
            <a:avLst/>
            <a:gdLst>
              <a:gd name="textAreaLeft" fmla="*/ 13680 w 215640"/>
              <a:gd name="textAreaRight" fmla="*/ 201960 w 215640"/>
              <a:gd name="textAreaTop" fmla="*/ 13680 h 287280"/>
              <a:gd name="textAreaBottom" fmla="*/ 273600 h 287280"/>
            </a:gdLst>
            <a:ahLst/>
            <a:rect l="textAreaLeft" t="textAreaTop" r="textAreaRight" b="textAreaBottom"/>
            <a:pathLst>
              <a:path w="21600" h="28764">
                <a:moveTo>
                  <a:pt x="0" y="0"/>
                </a:moveTo>
                <a:lnTo>
                  <a:pt x="21600" y="0"/>
                </a:lnTo>
                <a:lnTo>
                  <a:pt x="21600" y="28764"/>
                </a:lnTo>
                <a:lnTo>
                  <a:pt x="0" y="28764"/>
                </a:lnTo>
                <a:close/>
              </a:path>
              <a:path fill="lightenLess" w="21600" h="2876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64">
                <a:moveTo>
                  <a:pt x="21600" y="0"/>
                </a:moveTo>
                <a:lnTo>
                  <a:pt x="21600" y="28764"/>
                </a:lnTo>
                <a:lnTo>
                  <a:pt x="20200" y="27364"/>
                </a:lnTo>
                <a:lnTo>
                  <a:pt x="20200" y="1400"/>
                </a:lnTo>
                <a:close/>
              </a:path>
              <a:path fill="darkenLess" w="21600" h="28764">
                <a:moveTo>
                  <a:pt x="21600" y="28764"/>
                </a:moveTo>
                <a:lnTo>
                  <a:pt x="0" y="28764"/>
                </a:lnTo>
                <a:lnTo>
                  <a:pt x="1400" y="27364"/>
                </a:lnTo>
                <a:lnTo>
                  <a:pt x="20200" y="27364"/>
                </a:lnTo>
                <a:close/>
              </a:path>
              <a:path fill="lighten" w="21600" h="28764">
                <a:moveTo>
                  <a:pt x="0" y="28764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64"/>
                </a:lnTo>
                <a:close/>
              </a:path>
              <a:path fill="darken" w="21600" h="28764">
                <a:moveTo>
                  <a:pt x="3794" y="14382"/>
                </a:moveTo>
                <a:lnTo>
                  <a:pt x="17806" y="7376"/>
                </a:lnTo>
                <a:lnTo>
                  <a:pt x="17806" y="21388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3140640" y="5229360"/>
            <a:ext cx="1206360" cy="21564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eng_engedmeny_szaz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>
            <a:hlinkClick r:id="" action="ppaction://hlinkshowjump?jump=previousslide"/>
          </p:cNvPr>
          <p:cNvSpPr/>
          <p:nvPr/>
        </p:nvSpPr>
        <p:spPr>
          <a:xfrm rot="16200000">
            <a:off x="4372920" y="5193000"/>
            <a:ext cx="215640" cy="287640"/>
          </a:xfrm>
          <a:custGeom>
            <a:avLst/>
            <a:gdLst>
              <a:gd name="textAreaLeft" fmla="*/ 13680 w 215640"/>
              <a:gd name="textAreaRight" fmla="*/ 201960 w 215640"/>
              <a:gd name="textAreaTop" fmla="*/ 13680 h 287640"/>
              <a:gd name="textAreaBottom" fmla="*/ 273960 h 287640"/>
            </a:gdLst>
            <a:ahLst/>
            <a:rect l="textAreaLeft" t="textAreaTop" r="textAreaRight" b="textAreaBottom"/>
            <a:pathLst>
              <a:path w="21600" h="28800">
                <a:moveTo>
                  <a:pt x="0" y="0"/>
                </a:moveTo>
                <a:lnTo>
                  <a:pt x="21600" y="0"/>
                </a:lnTo>
                <a:lnTo>
                  <a:pt x="21600" y="28800"/>
                </a:lnTo>
                <a:lnTo>
                  <a:pt x="0" y="28800"/>
                </a:lnTo>
                <a:close/>
              </a:path>
              <a:path fill="lightenLess" w="21600" h="288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00">
                <a:moveTo>
                  <a:pt x="21600" y="0"/>
                </a:moveTo>
                <a:lnTo>
                  <a:pt x="21600" y="28800"/>
                </a:lnTo>
                <a:lnTo>
                  <a:pt x="20200" y="27400"/>
                </a:lnTo>
                <a:lnTo>
                  <a:pt x="20200" y="1400"/>
                </a:lnTo>
                <a:close/>
              </a:path>
              <a:path fill="darkenLess" w="21600" h="28800">
                <a:moveTo>
                  <a:pt x="21600" y="28800"/>
                </a:moveTo>
                <a:lnTo>
                  <a:pt x="0" y="28800"/>
                </a:lnTo>
                <a:lnTo>
                  <a:pt x="1400" y="27400"/>
                </a:lnTo>
                <a:lnTo>
                  <a:pt x="20200" y="27400"/>
                </a:lnTo>
                <a:close/>
              </a:path>
              <a:path fill="lighten" w="21600" h="28800">
                <a:moveTo>
                  <a:pt x="0" y="288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00"/>
                </a:lnTo>
                <a:close/>
              </a:path>
              <a:path fill="darken" w="21600" h="28800">
                <a:moveTo>
                  <a:pt x="3794" y="14400"/>
                </a:moveTo>
                <a:lnTo>
                  <a:pt x="17806" y="7394"/>
                </a:lnTo>
                <a:lnTo>
                  <a:pt x="17806" y="214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4708800" y="5229360"/>
            <a:ext cx="1221480" cy="21564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eng_engedmeny_erte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6021000" y="5229360"/>
            <a:ext cx="877320" cy="21564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eng_kezdo_d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6957720" y="5229360"/>
            <a:ext cx="768960" cy="21564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eng_veg_d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750400" y="4784760"/>
            <a:ext cx="1189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900" spc="-1" strike="noStrike">
                <a:solidFill>
                  <a:srgbClr val="000000"/>
                </a:solidFill>
                <a:latin typeface="Arial"/>
              </a:rPr>
              <a:t>Tábla: engedmen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1598760" y="5445000"/>
            <a:ext cx="1211040" cy="21564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eng_engedmeny_tipu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>
            <a:hlinkClick r:id="" action="ppaction://hlinkshowjump?jump=previousslide"/>
          </p:cNvPr>
          <p:cNvSpPr/>
          <p:nvPr/>
        </p:nvSpPr>
        <p:spPr>
          <a:xfrm rot="16200000">
            <a:off x="2848680" y="5409360"/>
            <a:ext cx="216000" cy="28728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87280"/>
              <a:gd name="textAreaBottom" fmla="*/ 273600 h 287280"/>
            </a:gdLst>
            <a:ahLst/>
            <a:rect l="textAreaLeft" t="textAreaTop" r="textAreaRight" b="textAreaBottom"/>
            <a:pathLst>
              <a:path w="21600" h="28716">
                <a:moveTo>
                  <a:pt x="0" y="0"/>
                </a:moveTo>
                <a:lnTo>
                  <a:pt x="21600" y="0"/>
                </a:lnTo>
                <a:lnTo>
                  <a:pt x="21600" y="28716"/>
                </a:lnTo>
                <a:lnTo>
                  <a:pt x="0" y="28716"/>
                </a:lnTo>
                <a:close/>
              </a:path>
              <a:path fill="lightenLess" w="21600" h="2871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16">
                <a:moveTo>
                  <a:pt x="21600" y="0"/>
                </a:moveTo>
                <a:lnTo>
                  <a:pt x="21600" y="28716"/>
                </a:lnTo>
                <a:lnTo>
                  <a:pt x="20200" y="27316"/>
                </a:lnTo>
                <a:lnTo>
                  <a:pt x="20200" y="1400"/>
                </a:lnTo>
                <a:close/>
              </a:path>
              <a:path fill="darkenLess" w="21600" h="28716">
                <a:moveTo>
                  <a:pt x="21600" y="28716"/>
                </a:moveTo>
                <a:lnTo>
                  <a:pt x="0" y="28716"/>
                </a:lnTo>
                <a:lnTo>
                  <a:pt x="1400" y="27316"/>
                </a:lnTo>
                <a:lnTo>
                  <a:pt x="20200" y="27316"/>
                </a:lnTo>
                <a:close/>
              </a:path>
              <a:path fill="lighten" w="21600" h="28716">
                <a:moveTo>
                  <a:pt x="0" y="28716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16"/>
                </a:lnTo>
                <a:close/>
              </a:path>
              <a:path fill="darken" w="21600" h="28716">
                <a:moveTo>
                  <a:pt x="3794" y="14358"/>
                </a:moveTo>
                <a:lnTo>
                  <a:pt x="17806" y="7352"/>
                </a:lnTo>
                <a:lnTo>
                  <a:pt x="17806" y="21365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3126600" y="5445000"/>
            <a:ext cx="1206360" cy="21564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eng_engedmeny_szaz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>
            <a:hlinkClick r:id="" action="ppaction://hlinkshowjump?jump=previousslide"/>
          </p:cNvPr>
          <p:cNvSpPr/>
          <p:nvPr/>
        </p:nvSpPr>
        <p:spPr>
          <a:xfrm rot="16200000">
            <a:off x="4377600" y="5409360"/>
            <a:ext cx="216000" cy="28728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87280"/>
              <a:gd name="textAreaBottom" fmla="*/ 273600 h 287280"/>
            </a:gdLst>
            <a:ahLst/>
            <a:rect l="textAreaLeft" t="textAreaTop" r="textAreaRight" b="textAreaBottom"/>
            <a:pathLst>
              <a:path w="21600" h="28716">
                <a:moveTo>
                  <a:pt x="0" y="0"/>
                </a:moveTo>
                <a:lnTo>
                  <a:pt x="21600" y="0"/>
                </a:lnTo>
                <a:lnTo>
                  <a:pt x="21600" y="28716"/>
                </a:lnTo>
                <a:lnTo>
                  <a:pt x="0" y="28716"/>
                </a:lnTo>
                <a:close/>
              </a:path>
              <a:path fill="lightenLess" w="21600" h="2871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16">
                <a:moveTo>
                  <a:pt x="21600" y="0"/>
                </a:moveTo>
                <a:lnTo>
                  <a:pt x="21600" y="28716"/>
                </a:lnTo>
                <a:lnTo>
                  <a:pt x="20200" y="27316"/>
                </a:lnTo>
                <a:lnTo>
                  <a:pt x="20200" y="1400"/>
                </a:lnTo>
                <a:close/>
              </a:path>
              <a:path fill="darkenLess" w="21600" h="28716">
                <a:moveTo>
                  <a:pt x="21600" y="28716"/>
                </a:moveTo>
                <a:lnTo>
                  <a:pt x="0" y="28716"/>
                </a:lnTo>
                <a:lnTo>
                  <a:pt x="1400" y="27316"/>
                </a:lnTo>
                <a:lnTo>
                  <a:pt x="20200" y="27316"/>
                </a:lnTo>
                <a:close/>
              </a:path>
              <a:path fill="lighten" w="21600" h="28716">
                <a:moveTo>
                  <a:pt x="0" y="28716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16"/>
                </a:lnTo>
                <a:close/>
              </a:path>
              <a:path fill="darken" w="21600" h="28716">
                <a:moveTo>
                  <a:pt x="3794" y="14358"/>
                </a:moveTo>
                <a:lnTo>
                  <a:pt x="17806" y="7352"/>
                </a:lnTo>
                <a:lnTo>
                  <a:pt x="17806" y="21365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4713480" y="5445000"/>
            <a:ext cx="1221480" cy="21564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eng_engedmeny_erte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6025680" y="5445000"/>
            <a:ext cx="877320" cy="21564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eng_kezdo_d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6962400" y="5445000"/>
            <a:ext cx="768960" cy="21564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eng_veg_d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1432080" y="5195880"/>
            <a:ext cx="633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403280" y="5805360"/>
            <a:ext cx="633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174600" y="1928880"/>
            <a:ext cx="1152720" cy="21564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b_cikk_megnevez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1471680" y="1928880"/>
            <a:ext cx="1655640" cy="21564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b_helyisegen_vegz_tev</a:t>
            </a:r>
            <a:r>
              <a:rPr b="0" lang="hu-HU" sz="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Q48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260520" y="1928880"/>
            <a:ext cx="581400" cy="21564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b_nm_a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3907800" y="1928880"/>
            <a:ext cx="787320" cy="21564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b_mennyise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4772520" y="1928880"/>
            <a:ext cx="435240" cy="21564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b_m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5288040" y="1928880"/>
            <a:ext cx="792000" cy="21564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b_cikk_erte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6151680" y="1928880"/>
            <a:ext cx="720720" cy="21564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b_afa_szaz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6972480" y="1928880"/>
            <a:ext cx="863280" cy="21564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b_brutto_erte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7878600" y="1928880"/>
            <a:ext cx="1152720" cy="21564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b_fizetendo_veg_d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179280" y="2230560"/>
            <a:ext cx="1152720" cy="21564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b_cikk_megnevez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1476360" y="2230560"/>
            <a:ext cx="1655640" cy="21564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b_helyisegen_vegz_tev</a:t>
            </a:r>
            <a:r>
              <a:rPr b="0" lang="hu-HU" sz="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Q48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265200" y="2230560"/>
            <a:ext cx="581400" cy="21564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b_nm_a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3912480" y="2230560"/>
            <a:ext cx="787320" cy="21564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b_mennyise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4777200" y="2230560"/>
            <a:ext cx="435240" cy="21564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b_m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292720" y="2230560"/>
            <a:ext cx="792000" cy="21564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b_cikk_erte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6156360" y="2230560"/>
            <a:ext cx="720720" cy="21564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b_afa_szaz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6977160" y="2230560"/>
            <a:ext cx="863640" cy="21564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b_brutto_erte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7883640" y="2230560"/>
            <a:ext cx="1152360" cy="21564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b_fizetendo_veg_d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468360" y="907920"/>
            <a:ext cx="813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3084480" y="455760"/>
            <a:ext cx="5954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5027760" y="457200"/>
            <a:ext cx="936360" cy="368280"/>
          </a:xfrm>
          <a:prstGeom prst="rect">
            <a:avLst/>
          </a:prstGeom>
          <a:solidFill>
            <a:srgbClr val="ff9900">
              <a:alpha val="7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em lakás szerződések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3751200" y="455760"/>
            <a:ext cx="5954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4375080" y="457200"/>
            <a:ext cx="5954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6012000" y="455760"/>
            <a:ext cx="5950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6659640" y="455760"/>
            <a:ext cx="5950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7308720" y="455760"/>
            <a:ext cx="5954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401040" y="115920"/>
            <a:ext cx="105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KV EI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363480" y="168120"/>
            <a:ext cx="3379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Szignálásra váró szerződés… (Nem_lakas_szerz, view 518_1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4259160" y="971640"/>
            <a:ext cx="647640" cy="231120"/>
          </a:xfrm>
          <a:prstGeom prst="rect">
            <a:avLst/>
          </a:prstGeom>
          <a:solidFill>
            <a:srgbClr val="c0c0c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éz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645160" y="971640"/>
            <a:ext cx="792000" cy="231120"/>
          </a:xfrm>
          <a:prstGeom prst="rect">
            <a:avLst/>
          </a:prstGeom>
          <a:solidFill>
            <a:srgbClr val="c0c0c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imutatá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935600" y="971640"/>
            <a:ext cx="647640" cy="231120"/>
          </a:xfrm>
          <a:prstGeom prst="rect">
            <a:avLst/>
          </a:prstGeom>
          <a:solidFill>
            <a:srgbClr val="c0c0c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List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6445080" y="971640"/>
            <a:ext cx="935280" cy="231120"/>
          </a:xfrm>
          <a:prstGeom prst="rect">
            <a:avLst/>
          </a:prstGeom>
          <a:solidFill>
            <a:srgbClr val="c0c0c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okumentu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108000" y="985680"/>
            <a:ext cx="647640" cy="231120"/>
          </a:xfrm>
          <a:prstGeom prst="rect">
            <a:avLst/>
          </a:prstGeom>
          <a:solidFill>
            <a:srgbClr val="c0c0c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ilépé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781200" y="981000"/>
            <a:ext cx="647640" cy="231120"/>
          </a:xfrm>
          <a:prstGeom prst="rect">
            <a:avLst/>
          </a:prstGeom>
          <a:solidFill>
            <a:srgbClr val="c0c0c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rissíté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1455840" y="982800"/>
            <a:ext cx="790560" cy="231120"/>
          </a:xfrm>
          <a:prstGeom prst="rect">
            <a:avLst/>
          </a:prstGeom>
          <a:solidFill>
            <a:srgbClr val="c0c0c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aramét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2270160" y="981000"/>
            <a:ext cx="647640" cy="231120"/>
          </a:xfrm>
          <a:prstGeom prst="rect">
            <a:avLst/>
          </a:prstGeom>
          <a:solidFill>
            <a:srgbClr val="c0c0c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Új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2944800" y="971640"/>
            <a:ext cx="647640" cy="231120"/>
          </a:xfrm>
          <a:prstGeom prst="rect">
            <a:avLst/>
          </a:prstGeom>
          <a:solidFill>
            <a:srgbClr val="c0c0c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ódosí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611520" y="971640"/>
            <a:ext cx="647640" cy="231120"/>
          </a:xfrm>
          <a:prstGeom prst="rect">
            <a:avLst/>
          </a:prstGeom>
          <a:solidFill>
            <a:srgbClr val="c0c0c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örlé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831960" y="1968480"/>
            <a:ext cx="743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örzsszá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1552680" y="1987560"/>
            <a:ext cx="143964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Ingatlan/ing_torzssza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5292720" y="1969920"/>
            <a:ext cx="1719360" cy="236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gatlan/ing_utc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4835880" y="1982880"/>
            <a:ext cx="389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í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378000" y="1528920"/>
            <a:ext cx="1171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érbeadás jogcím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1547640" y="1557360"/>
            <a:ext cx="208764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b_szerzodes_berbeadas_jogc_kod</a:t>
            </a:r>
            <a:r>
              <a:rPr b="0" lang="hu-HU" sz="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Q485,kodmegnev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>
            <a:hlinkClick r:id="" action="ppaction://hlinkshowjump?jump=previousslide"/>
          </p:cNvPr>
          <p:cNvSpPr/>
          <p:nvPr/>
        </p:nvSpPr>
        <p:spPr>
          <a:xfrm rot="16200000">
            <a:off x="3672720" y="1521720"/>
            <a:ext cx="216000" cy="28728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87280"/>
              <a:gd name="textAreaBottom" fmla="*/ 273600 h 287280"/>
            </a:gdLst>
            <a:ahLst/>
            <a:rect l="textAreaLeft" t="textAreaTop" r="textAreaRight" b="textAreaBottom"/>
            <a:pathLst>
              <a:path w="21600" h="28716">
                <a:moveTo>
                  <a:pt x="0" y="0"/>
                </a:moveTo>
                <a:lnTo>
                  <a:pt x="21600" y="0"/>
                </a:lnTo>
                <a:lnTo>
                  <a:pt x="21600" y="28716"/>
                </a:lnTo>
                <a:lnTo>
                  <a:pt x="0" y="28716"/>
                </a:lnTo>
                <a:close/>
              </a:path>
              <a:path fill="lightenLess" w="21600" h="2871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16">
                <a:moveTo>
                  <a:pt x="21600" y="0"/>
                </a:moveTo>
                <a:lnTo>
                  <a:pt x="21600" y="28716"/>
                </a:lnTo>
                <a:lnTo>
                  <a:pt x="20200" y="27316"/>
                </a:lnTo>
                <a:lnTo>
                  <a:pt x="20200" y="1400"/>
                </a:lnTo>
                <a:close/>
              </a:path>
              <a:path fill="darkenLess" w="21600" h="28716">
                <a:moveTo>
                  <a:pt x="21600" y="28716"/>
                </a:moveTo>
                <a:lnTo>
                  <a:pt x="0" y="28716"/>
                </a:lnTo>
                <a:lnTo>
                  <a:pt x="1400" y="27316"/>
                </a:lnTo>
                <a:lnTo>
                  <a:pt x="20200" y="27316"/>
                </a:lnTo>
                <a:close/>
              </a:path>
              <a:path fill="lighten" w="21600" h="28716">
                <a:moveTo>
                  <a:pt x="0" y="28716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16"/>
                </a:lnTo>
                <a:close/>
              </a:path>
              <a:path fill="darken" w="21600" h="28716">
                <a:moveTo>
                  <a:pt x="3794" y="14358"/>
                </a:moveTo>
                <a:lnTo>
                  <a:pt x="17806" y="7352"/>
                </a:lnTo>
                <a:lnTo>
                  <a:pt x="17806" y="21365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759560" y="1550880"/>
            <a:ext cx="506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Ügyfé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292720" y="1557360"/>
            <a:ext cx="266400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Ugyfel/ugyfelnev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68360" y="2484360"/>
            <a:ext cx="813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1239840" y="2637000"/>
            <a:ext cx="2017800" cy="231120"/>
          </a:xfrm>
          <a:prstGeom prst="rect">
            <a:avLst/>
          </a:prstGeom>
          <a:gradFill rotWithShape="0">
            <a:gsLst>
              <a:gs pos="0">
                <a:srgbClr val="0099ff"/>
              </a:gs>
              <a:gs pos="100000">
                <a:srgbClr val="3333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í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203040" y="2643120"/>
            <a:ext cx="935280" cy="231120"/>
          </a:xfrm>
          <a:prstGeom prst="rect">
            <a:avLst/>
          </a:prstGeom>
          <a:gradFill rotWithShape="0">
            <a:gsLst>
              <a:gs pos="0">
                <a:srgbClr val="0099ff"/>
              </a:gs>
              <a:gs pos="100000">
                <a:srgbClr val="3333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örzsszá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6281640" y="2608200"/>
            <a:ext cx="860400" cy="368280"/>
          </a:xfrm>
          <a:prstGeom prst="rect">
            <a:avLst/>
          </a:prstGeom>
          <a:gradFill rotWithShape="0">
            <a:gsLst>
              <a:gs pos="0">
                <a:srgbClr val="0099ff"/>
              </a:gs>
              <a:gs pos="100000">
                <a:srgbClr val="3333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zerződés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zám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203960" y="2603520"/>
            <a:ext cx="963720" cy="368280"/>
          </a:xfrm>
          <a:prstGeom prst="rect">
            <a:avLst/>
          </a:prstGeom>
          <a:gradFill rotWithShape="0">
            <a:gsLst>
              <a:gs pos="0">
                <a:srgbClr val="0099ff"/>
              </a:gs>
              <a:gs pos="100000">
                <a:srgbClr val="3333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zerződés kel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3287880" y="2637000"/>
            <a:ext cx="1139760" cy="368280"/>
          </a:xfrm>
          <a:prstGeom prst="rect">
            <a:avLst/>
          </a:prstGeom>
          <a:gradFill rotWithShape="0">
            <a:gsLst>
              <a:gs pos="0">
                <a:srgbClr val="0099ff"/>
              </a:gs>
              <a:gs pos="100000">
                <a:srgbClr val="3333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érbeadás jogcím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8196120" y="2612880"/>
            <a:ext cx="936720" cy="368280"/>
          </a:xfrm>
          <a:prstGeom prst="rect">
            <a:avLst/>
          </a:prstGeom>
          <a:gradFill rotWithShape="0">
            <a:gsLst>
              <a:gs pos="0">
                <a:srgbClr val="0099ff"/>
              </a:gs>
              <a:gs pos="100000">
                <a:srgbClr val="3333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zerződés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lejára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19080" y="3112920"/>
            <a:ext cx="1150920" cy="33732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nemlakas_id </a:t>
            </a:r>
            <a:r>
              <a:rPr b="0" lang="hu-HU" sz="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Lb_torzssza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1192320" y="3112920"/>
            <a:ext cx="1944720" cy="33732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nemlakas_id</a:t>
            </a:r>
            <a:r>
              <a:rPr b="0" lang="hu-HU" sz="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 lb_utca+lb_hazszam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lb_lepcsohaz+ lb_emelet+lb_aj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132000" y="3068640"/>
            <a:ext cx="1366920" cy="45900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b_szerzodes_berbeadas_jogc_kod</a:t>
            </a:r>
            <a:r>
              <a:rPr b="0" lang="hu-HU" sz="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Q485 kodmegnev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476600" y="2637000"/>
            <a:ext cx="1800360" cy="231120"/>
          </a:xfrm>
          <a:prstGeom prst="rect">
            <a:avLst/>
          </a:prstGeom>
          <a:gradFill rotWithShape="0">
            <a:gsLst>
              <a:gs pos="0">
                <a:srgbClr val="0099ff"/>
              </a:gs>
              <a:gs pos="100000">
                <a:srgbClr val="3333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Ügyfél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4540320" y="3097080"/>
            <a:ext cx="1727280" cy="21564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ugyfel_id</a:t>
            </a:r>
            <a:r>
              <a:rPr b="0" lang="hu-HU" sz="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Ugyfel/ugyfelnev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300720" y="3092400"/>
            <a:ext cx="912960" cy="33732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b_szerzod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_sza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7265880" y="3097080"/>
            <a:ext cx="936720" cy="33732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b_szerzodes_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alairas_d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8221680" y="3102120"/>
            <a:ext cx="936720" cy="33732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b_szerzodes_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lejarta_d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0" y="3573360"/>
            <a:ext cx="1150920" cy="33732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nemlakas_id </a:t>
            </a:r>
            <a:r>
              <a:rPr b="0" lang="hu-HU" sz="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Lb_torzssza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1211400" y="3573360"/>
            <a:ext cx="1944720" cy="33732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nemlakas_id</a:t>
            </a:r>
            <a:r>
              <a:rPr b="0" lang="hu-HU" sz="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 lb_utca+lb_hazszam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lb_lepcsohaz+ lb_emelet+lb_aj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4540320" y="3530520"/>
            <a:ext cx="1727280" cy="21564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ugyfel_id</a:t>
            </a:r>
            <a:r>
              <a:rPr b="0" lang="hu-HU" sz="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Ugyfel/ugyfelnev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300720" y="3525840"/>
            <a:ext cx="912960" cy="33732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b_szerzod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_sza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7265880" y="3530520"/>
            <a:ext cx="936720" cy="33732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b_szerzodes_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alairas_d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8221680" y="3535200"/>
            <a:ext cx="936720" cy="33732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b_szerzodes_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lejarta_d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0" y="4005360"/>
            <a:ext cx="1150920" cy="33732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nemlakas_id </a:t>
            </a:r>
            <a:r>
              <a:rPr b="0" lang="hu-HU" sz="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Lb_torzssza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230480" y="4005360"/>
            <a:ext cx="1944360" cy="33732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nemlakas_id</a:t>
            </a:r>
            <a:r>
              <a:rPr b="0" lang="hu-HU" sz="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 lb_utca+lb_hazszam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lb_lepcsohaz+ lb_emelet+lb_aj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4562640" y="3990960"/>
            <a:ext cx="1726920" cy="21564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ugyfel_id</a:t>
            </a:r>
            <a:r>
              <a:rPr b="0" lang="hu-HU" sz="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Ugyfel/ugyfelnev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323040" y="3986280"/>
            <a:ext cx="912960" cy="33732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b_szerzod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_sza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288200" y="3990960"/>
            <a:ext cx="936720" cy="33732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b_szerzodes_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alairas_d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8244000" y="3995640"/>
            <a:ext cx="936360" cy="33732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b_szerzodes_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lejarta_d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3160800" y="3541680"/>
            <a:ext cx="1366920" cy="45900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b_szerzodes_berbeadas_jogc_kod</a:t>
            </a:r>
            <a:r>
              <a:rPr b="0" lang="hu-HU" sz="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Q485 kodmegnev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203640" y="4005360"/>
            <a:ext cx="1366920" cy="45900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b_szerzodes_berbeadas_jogc_kod</a:t>
            </a:r>
            <a:r>
              <a:rPr b="0" lang="hu-HU" sz="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Q485 kodmegnev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66600" y="4567320"/>
            <a:ext cx="5455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Csak azok a szerződés rekordok jelennek meg, ahol a b_szerzodes_allapot= 49001 – szignálásra váró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74160" y="4927680"/>
            <a:ext cx="860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Rekord megtekintése után rendbenre kérdés: szignálható? Ha igen, akkor feljön egy kis ablak, és bekérjük a szerződés szignálás dátumát (b_szerzodes_szign_dat)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Információs sávban megjelenik a szerződés száma, törzsszám, bérlő adatok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A háttérben beállítjuk a b_szerzodes_szignalva = I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/>
          <p:nvPr/>
        </p:nvSpPr>
        <p:spPr>
          <a:xfrm>
            <a:off x="468360" y="907920"/>
            <a:ext cx="813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3084480" y="455760"/>
            <a:ext cx="5954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027760" y="457200"/>
            <a:ext cx="936360" cy="368280"/>
          </a:xfrm>
          <a:prstGeom prst="rect">
            <a:avLst/>
          </a:prstGeom>
          <a:solidFill>
            <a:srgbClr val="ff9900">
              <a:alpha val="7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em lakás szerződések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3751200" y="455760"/>
            <a:ext cx="5954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375080" y="457200"/>
            <a:ext cx="5954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6012000" y="455760"/>
            <a:ext cx="5950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6659640" y="455760"/>
            <a:ext cx="5950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7308720" y="455760"/>
            <a:ext cx="5954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401040" y="115920"/>
            <a:ext cx="105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KV EI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364560" y="168120"/>
            <a:ext cx="3237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Aláírásra váró szerződés… (Nem_lakas_szerz, view 518_1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4259160" y="971640"/>
            <a:ext cx="647640" cy="231120"/>
          </a:xfrm>
          <a:prstGeom prst="rect">
            <a:avLst/>
          </a:prstGeom>
          <a:solidFill>
            <a:srgbClr val="c0c0c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éz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5645160" y="971640"/>
            <a:ext cx="792000" cy="231120"/>
          </a:xfrm>
          <a:prstGeom prst="rect">
            <a:avLst/>
          </a:prstGeom>
          <a:solidFill>
            <a:srgbClr val="c0c0c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imutatá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4935600" y="971640"/>
            <a:ext cx="647640" cy="231120"/>
          </a:xfrm>
          <a:prstGeom prst="rect">
            <a:avLst/>
          </a:prstGeom>
          <a:solidFill>
            <a:srgbClr val="c0c0c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List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6445080" y="971640"/>
            <a:ext cx="935280" cy="231120"/>
          </a:xfrm>
          <a:prstGeom prst="rect">
            <a:avLst/>
          </a:prstGeom>
          <a:solidFill>
            <a:srgbClr val="c0c0c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okumentu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108000" y="985680"/>
            <a:ext cx="647640" cy="231120"/>
          </a:xfrm>
          <a:prstGeom prst="rect">
            <a:avLst/>
          </a:prstGeom>
          <a:solidFill>
            <a:srgbClr val="c0c0c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ilépé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781200" y="981000"/>
            <a:ext cx="647640" cy="231120"/>
          </a:xfrm>
          <a:prstGeom prst="rect">
            <a:avLst/>
          </a:prstGeom>
          <a:solidFill>
            <a:srgbClr val="c0c0c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rissíté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55840" y="982800"/>
            <a:ext cx="790560" cy="231120"/>
          </a:xfrm>
          <a:prstGeom prst="rect">
            <a:avLst/>
          </a:prstGeom>
          <a:solidFill>
            <a:srgbClr val="c0c0c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aramét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270160" y="981000"/>
            <a:ext cx="647640" cy="231120"/>
          </a:xfrm>
          <a:prstGeom prst="rect">
            <a:avLst/>
          </a:prstGeom>
          <a:solidFill>
            <a:srgbClr val="c0c0c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Új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2944800" y="971640"/>
            <a:ext cx="647640" cy="231120"/>
          </a:xfrm>
          <a:prstGeom prst="rect">
            <a:avLst/>
          </a:prstGeom>
          <a:solidFill>
            <a:srgbClr val="c0c0c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ódosí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611520" y="971640"/>
            <a:ext cx="647640" cy="231120"/>
          </a:xfrm>
          <a:prstGeom prst="rect">
            <a:avLst/>
          </a:prstGeom>
          <a:solidFill>
            <a:srgbClr val="c0c0c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örlé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831960" y="1968480"/>
            <a:ext cx="743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örzsszá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552680" y="1987560"/>
            <a:ext cx="143964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Ingatlan/ing_torzssza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292720" y="1969920"/>
            <a:ext cx="1719360" cy="236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gatlan/ing_utc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4835880" y="1982880"/>
            <a:ext cx="389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í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378000" y="1528920"/>
            <a:ext cx="1171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érbeadás jogcím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547640" y="1557360"/>
            <a:ext cx="208764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b_szerzodes_berbeadas_jogc_kod</a:t>
            </a:r>
            <a:r>
              <a:rPr b="0" lang="hu-HU" sz="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Q485,kodmegnev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>
            <a:hlinkClick r:id="" action="ppaction://hlinkshowjump?jump=previousslide"/>
          </p:cNvPr>
          <p:cNvSpPr/>
          <p:nvPr/>
        </p:nvSpPr>
        <p:spPr>
          <a:xfrm rot="16200000">
            <a:off x="3672720" y="1521720"/>
            <a:ext cx="216000" cy="28728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87280"/>
              <a:gd name="textAreaBottom" fmla="*/ 273600 h 287280"/>
            </a:gdLst>
            <a:ahLst/>
            <a:rect l="textAreaLeft" t="textAreaTop" r="textAreaRight" b="textAreaBottom"/>
            <a:pathLst>
              <a:path w="21600" h="28716">
                <a:moveTo>
                  <a:pt x="0" y="0"/>
                </a:moveTo>
                <a:lnTo>
                  <a:pt x="21600" y="0"/>
                </a:lnTo>
                <a:lnTo>
                  <a:pt x="21600" y="28716"/>
                </a:lnTo>
                <a:lnTo>
                  <a:pt x="0" y="28716"/>
                </a:lnTo>
                <a:close/>
              </a:path>
              <a:path fill="lightenLess" w="21600" h="2871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16">
                <a:moveTo>
                  <a:pt x="21600" y="0"/>
                </a:moveTo>
                <a:lnTo>
                  <a:pt x="21600" y="28716"/>
                </a:lnTo>
                <a:lnTo>
                  <a:pt x="20200" y="27316"/>
                </a:lnTo>
                <a:lnTo>
                  <a:pt x="20200" y="1400"/>
                </a:lnTo>
                <a:close/>
              </a:path>
              <a:path fill="darkenLess" w="21600" h="28716">
                <a:moveTo>
                  <a:pt x="21600" y="28716"/>
                </a:moveTo>
                <a:lnTo>
                  <a:pt x="0" y="28716"/>
                </a:lnTo>
                <a:lnTo>
                  <a:pt x="1400" y="27316"/>
                </a:lnTo>
                <a:lnTo>
                  <a:pt x="20200" y="27316"/>
                </a:lnTo>
                <a:close/>
              </a:path>
              <a:path fill="lighten" w="21600" h="28716">
                <a:moveTo>
                  <a:pt x="0" y="28716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16"/>
                </a:lnTo>
                <a:close/>
              </a:path>
              <a:path fill="darken" w="21600" h="28716">
                <a:moveTo>
                  <a:pt x="3794" y="14358"/>
                </a:moveTo>
                <a:lnTo>
                  <a:pt x="17806" y="7352"/>
                </a:lnTo>
                <a:lnTo>
                  <a:pt x="17806" y="21365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759560" y="1550880"/>
            <a:ext cx="506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Ügyfé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292720" y="1557360"/>
            <a:ext cx="266400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Ugyfel/ugyfelnev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468360" y="2484360"/>
            <a:ext cx="813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1239840" y="2637000"/>
            <a:ext cx="2017800" cy="231120"/>
          </a:xfrm>
          <a:prstGeom prst="rect">
            <a:avLst/>
          </a:prstGeom>
          <a:gradFill rotWithShape="0">
            <a:gsLst>
              <a:gs pos="0">
                <a:srgbClr val="0099ff"/>
              </a:gs>
              <a:gs pos="100000">
                <a:srgbClr val="3333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í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03040" y="2643120"/>
            <a:ext cx="935280" cy="231120"/>
          </a:xfrm>
          <a:prstGeom prst="rect">
            <a:avLst/>
          </a:prstGeom>
          <a:gradFill rotWithShape="0">
            <a:gsLst>
              <a:gs pos="0">
                <a:srgbClr val="0099ff"/>
              </a:gs>
              <a:gs pos="100000">
                <a:srgbClr val="3333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örzsszá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6281640" y="2608200"/>
            <a:ext cx="860400" cy="368280"/>
          </a:xfrm>
          <a:prstGeom prst="rect">
            <a:avLst/>
          </a:prstGeom>
          <a:gradFill rotWithShape="0">
            <a:gsLst>
              <a:gs pos="0">
                <a:srgbClr val="0099ff"/>
              </a:gs>
              <a:gs pos="100000">
                <a:srgbClr val="3333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zerződés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zám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7203960" y="2603520"/>
            <a:ext cx="963720" cy="368280"/>
          </a:xfrm>
          <a:prstGeom prst="rect">
            <a:avLst/>
          </a:prstGeom>
          <a:gradFill rotWithShape="0">
            <a:gsLst>
              <a:gs pos="0">
                <a:srgbClr val="0099ff"/>
              </a:gs>
              <a:gs pos="100000">
                <a:srgbClr val="3333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zerződés kel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287880" y="2637000"/>
            <a:ext cx="1139760" cy="368280"/>
          </a:xfrm>
          <a:prstGeom prst="rect">
            <a:avLst/>
          </a:prstGeom>
          <a:gradFill rotWithShape="0">
            <a:gsLst>
              <a:gs pos="0">
                <a:srgbClr val="0099ff"/>
              </a:gs>
              <a:gs pos="100000">
                <a:srgbClr val="3333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érbeadás jogcím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8196120" y="2612880"/>
            <a:ext cx="936720" cy="368280"/>
          </a:xfrm>
          <a:prstGeom prst="rect">
            <a:avLst/>
          </a:prstGeom>
          <a:gradFill rotWithShape="0">
            <a:gsLst>
              <a:gs pos="0">
                <a:srgbClr val="0099ff"/>
              </a:gs>
              <a:gs pos="100000">
                <a:srgbClr val="3333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zerződés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lejára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9080" y="3112920"/>
            <a:ext cx="1150920" cy="33732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nemlakas_id </a:t>
            </a:r>
            <a:r>
              <a:rPr b="0" lang="hu-HU" sz="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Lb_torzssza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1192320" y="3112920"/>
            <a:ext cx="1944720" cy="33732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nemlakas_id</a:t>
            </a:r>
            <a:r>
              <a:rPr b="0" lang="hu-HU" sz="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 lb_utca+lb_hazszam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lb_lepcsohaz+ lb_emelet+lb_aj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3132000" y="3068640"/>
            <a:ext cx="1366920" cy="45900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b_szerzodes_berbeadas_jogc_kod</a:t>
            </a:r>
            <a:r>
              <a:rPr b="0" lang="hu-HU" sz="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Q485 kodmegnev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4476600" y="2637000"/>
            <a:ext cx="1800360" cy="231120"/>
          </a:xfrm>
          <a:prstGeom prst="rect">
            <a:avLst/>
          </a:prstGeom>
          <a:gradFill rotWithShape="0">
            <a:gsLst>
              <a:gs pos="0">
                <a:srgbClr val="0099ff"/>
              </a:gs>
              <a:gs pos="100000">
                <a:srgbClr val="3333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Ügyfél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4540320" y="3097080"/>
            <a:ext cx="1727280" cy="21564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ugyfel_id</a:t>
            </a:r>
            <a:r>
              <a:rPr b="0" lang="hu-HU" sz="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Ugyfel/ugyfelnev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6300720" y="3092400"/>
            <a:ext cx="912960" cy="33732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b_szerzod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_sza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7265880" y="3097080"/>
            <a:ext cx="936720" cy="33732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b_szerzodes_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alairas_d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8221680" y="3102120"/>
            <a:ext cx="936720" cy="33732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b_szerzodes_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lejarta_d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0" y="3573360"/>
            <a:ext cx="1150920" cy="33732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nemlakas_id </a:t>
            </a:r>
            <a:r>
              <a:rPr b="0" lang="hu-HU" sz="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Lb_torzssza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211400" y="3573360"/>
            <a:ext cx="1944720" cy="33732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nemlakas_id</a:t>
            </a:r>
            <a:r>
              <a:rPr b="0" lang="hu-HU" sz="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 lb_utca+lb_hazszam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lb_lepcsohaz+ lb_emelet+lb_aj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4540320" y="3530520"/>
            <a:ext cx="1727280" cy="21564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ugyfel_id</a:t>
            </a:r>
            <a:r>
              <a:rPr b="0" lang="hu-HU" sz="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Ugyfel/ugyfelnev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6300720" y="3525840"/>
            <a:ext cx="912960" cy="33732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b_szerzod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_sza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7265880" y="3530520"/>
            <a:ext cx="936720" cy="33732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b_szerzodes_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alairas_d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8221680" y="3535200"/>
            <a:ext cx="936720" cy="33732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b_szerzodes_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lejarta_d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0" y="4005360"/>
            <a:ext cx="1150920" cy="33732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nemlakas_id </a:t>
            </a:r>
            <a:r>
              <a:rPr b="0" lang="hu-HU" sz="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Lb_torzssza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230480" y="4005360"/>
            <a:ext cx="1944360" cy="33732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nemlakas_id</a:t>
            </a:r>
            <a:r>
              <a:rPr b="0" lang="hu-HU" sz="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 lb_utca+lb_hazszam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lb_lepcsohaz+ lb_emelet+lb_aj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4562640" y="3990960"/>
            <a:ext cx="1726920" cy="21564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ugyfel_id</a:t>
            </a:r>
            <a:r>
              <a:rPr b="0" lang="hu-HU" sz="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Ugyfel/ugyfelnev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323040" y="3986280"/>
            <a:ext cx="912960" cy="33732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b_szerzod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_sza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288200" y="3990960"/>
            <a:ext cx="936720" cy="33732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b_szerzodes_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alairas_d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8244000" y="3995640"/>
            <a:ext cx="936360" cy="33732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b_szerzodes_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lejarta_d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3160800" y="3541680"/>
            <a:ext cx="1366920" cy="45900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b_szerzodes_berbeadas_jogc_kod</a:t>
            </a:r>
            <a:r>
              <a:rPr b="0" lang="hu-HU" sz="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Q485 kodmegnev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3203640" y="4005360"/>
            <a:ext cx="1366920" cy="45900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b_szerzodes_berbeadas_jogc_kod</a:t>
            </a:r>
            <a:r>
              <a:rPr b="0" lang="hu-HU" sz="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Q485 kodmegnev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320120" y="4567320"/>
            <a:ext cx="528768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Csak azok a szerződés rekordok jelennek meg, ahol a b_szerzodes_allapot= 49002 – aláírásra váró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A szerződés aláírás dátumát lehet csak beírni (b_szerzodes_alairas_dat)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646200" y="4927680"/>
            <a:ext cx="1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"/>
          <p:cNvSpPr/>
          <p:nvPr/>
        </p:nvSpPr>
        <p:spPr>
          <a:xfrm>
            <a:off x="471600" y="692280"/>
            <a:ext cx="942840" cy="231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lbérletezteté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1763640" y="716040"/>
            <a:ext cx="647640" cy="216000"/>
          </a:xfrm>
          <a:custGeom>
            <a:avLst/>
            <a:gdLst>
              <a:gd name="textAreaLeft" fmla="*/ 13680 w 647640"/>
              <a:gd name="textAreaRight" fmla="*/ 633960 w 64764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64692" h="21600">
                <a:moveTo>
                  <a:pt x="0" y="0"/>
                </a:moveTo>
                <a:lnTo>
                  <a:pt x="64692" y="0"/>
                </a:lnTo>
                <a:lnTo>
                  <a:pt x="64692" y="21600"/>
                </a:lnTo>
                <a:lnTo>
                  <a:pt x="0" y="21600"/>
                </a:lnTo>
                <a:close/>
              </a:path>
              <a:path fill="lightenLess" w="64692" h="21600">
                <a:moveTo>
                  <a:pt x="0" y="0"/>
                </a:moveTo>
                <a:lnTo>
                  <a:pt x="64692" y="0"/>
                </a:lnTo>
                <a:lnTo>
                  <a:pt x="63292" y="1400"/>
                </a:lnTo>
                <a:lnTo>
                  <a:pt x="1400" y="1400"/>
                </a:lnTo>
                <a:close/>
              </a:path>
              <a:path fill="darken" w="64692" h="21600">
                <a:moveTo>
                  <a:pt x="64692" y="0"/>
                </a:moveTo>
                <a:lnTo>
                  <a:pt x="64692" y="21600"/>
                </a:lnTo>
                <a:lnTo>
                  <a:pt x="63292" y="20200"/>
                </a:lnTo>
                <a:lnTo>
                  <a:pt x="63292" y="1400"/>
                </a:lnTo>
                <a:close/>
              </a:path>
              <a:path fill="darkenLess" w="64692" h="21600">
                <a:moveTo>
                  <a:pt x="646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92" y="20200"/>
                </a:lnTo>
                <a:close/>
              </a:path>
              <a:path fill="lighten" w="646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Új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521080" y="708120"/>
            <a:ext cx="647640" cy="215640"/>
          </a:xfrm>
          <a:custGeom>
            <a:avLst/>
            <a:gdLst>
              <a:gd name="textAreaLeft" fmla="*/ 13680 w 647640"/>
              <a:gd name="textAreaRight" fmla="*/ 633960 w 64764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64800" h="21600">
                <a:moveTo>
                  <a:pt x="0" y="0"/>
                </a:moveTo>
                <a:lnTo>
                  <a:pt x="64800" y="0"/>
                </a:lnTo>
                <a:lnTo>
                  <a:pt x="64800" y="21600"/>
                </a:lnTo>
                <a:lnTo>
                  <a:pt x="0" y="21600"/>
                </a:lnTo>
                <a:close/>
              </a:path>
              <a:path fill="lightenLess" w="64800" h="21600">
                <a:moveTo>
                  <a:pt x="0" y="0"/>
                </a:moveTo>
                <a:lnTo>
                  <a:pt x="64800" y="0"/>
                </a:lnTo>
                <a:lnTo>
                  <a:pt x="63400" y="1400"/>
                </a:lnTo>
                <a:lnTo>
                  <a:pt x="1400" y="1400"/>
                </a:lnTo>
                <a:close/>
              </a:path>
              <a:path fill="darken" w="64800" h="21600">
                <a:moveTo>
                  <a:pt x="64800" y="0"/>
                </a:moveTo>
                <a:lnTo>
                  <a:pt x="64800" y="21600"/>
                </a:lnTo>
                <a:lnTo>
                  <a:pt x="63400" y="20200"/>
                </a:lnTo>
                <a:lnTo>
                  <a:pt x="63400" y="1400"/>
                </a:lnTo>
                <a:close/>
              </a:path>
              <a:path fill="darkenLess" w="64800" h="21600">
                <a:moveTo>
                  <a:pt x="64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400" y="20200"/>
                </a:lnTo>
                <a:close/>
              </a:path>
              <a:path fill="lighten" w="64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ndb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3240000" y="708120"/>
            <a:ext cx="647640" cy="215640"/>
          </a:xfrm>
          <a:custGeom>
            <a:avLst/>
            <a:gdLst>
              <a:gd name="textAreaLeft" fmla="*/ 13680 w 647640"/>
              <a:gd name="textAreaRight" fmla="*/ 633960 w 64764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64800" h="21600">
                <a:moveTo>
                  <a:pt x="0" y="0"/>
                </a:moveTo>
                <a:lnTo>
                  <a:pt x="64800" y="0"/>
                </a:lnTo>
                <a:lnTo>
                  <a:pt x="64800" y="21600"/>
                </a:lnTo>
                <a:lnTo>
                  <a:pt x="0" y="21600"/>
                </a:lnTo>
                <a:close/>
              </a:path>
              <a:path fill="lightenLess" w="64800" h="21600">
                <a:moveTo>
                  <a:pt x="0" y="0"/>
                </a:moveTo>
                <a:lnTo>
                  <a:pt x="64800" y="0"/>
                </a:lnTo>
                <a:lnTo>
                  <a:pt x="63400" y="1400"/>
                </a:lnTo>
                <a:lnTo>
                  <a:pt x="1400" y="1400"/>
                </a:lnTo>
                <a:close/>
              </a:path>
              <a:path fill="darken" w="64800" h="21600">
                <a:moveTo>
                  <a:pt x="64800" y="0"/>
                </a:moveTo>
                <a:lnTo>
                  <a:pt x="64800" y="21600"/>
                </a:lnTo>
                <a:lnTo>
                  <a:pt x="63400" y="20200"/>
                </a:lnTo>
                <a:lnTo>
                  <a:pt x="63400" y="1400"/>
                </a:lnTo>
                <a:close/>
              </a:path>
              <a:path fill="darkenLess" w="64800" h="21600">
                <a:moveTo>
                  <a:pt x="64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400" y="20200"/>
                </a:lnTo>
                <a:close/>
              </a:path>
              <a:path fill="lighten" w="64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égse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3960720" y="708120"/>
            <a:ext cx="647640" cy="215640"/>
          </a:xfrm>
          <a:custGeom>
            <a:avLst/>
            <a:gdLst>
              <a:gd name="textAreaLeft" fmla="*/ 13680 w 647640"/>
              <a:gd name="textAreaRight" fmla="*/ 633960 w 64764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64800" h="21600">
                <a:moveTo>
                  <a:pt x="0" y="0"/>
                </a:moveTo>
                <a:lnTo>
                  <a:pt x="64800" y="0"/>
                </a:lnTo>
                <a:lnTo>
                  <a:pt x="64800" y="21600"/>
                </a:lnTo>
                <a:lnTo>
                  <a:pt x="0" y="21600"/>
                </a:lnTo>
                <a:close/>
              </a:path>
              <a:path fill="lightenLess" w="64800" h="21600">
                <a:moveTo>
                  <a:pt x="0" y="0"/>
                </a:moveTo>
                <a:lnTo>
                  <a:pt x="64800" y="0"/>
                </a:lnTo>
                <a:lnTo>
                  <a:pt x="63400" y="1400"/>
                </a:lnTo>
                <a:lnTo>
                  <a:pt x="1400" y="1400"/>
                </a:lnTo>
                <a:close/>
              </a:path>
              <a:path fill="darken" w="64800" h="21600">
                <a:moveTo>
                  <a:pt x="64800" y="0"/>
                </a:moveTo>
                <a:lnTo>
                  <a:pt x="64800" y="21600"/>
                </a:lnTo>
                <a:lnTo>
                  <a:pt x="63400" y="20200"/>
                </a:lnTo>
                <a:lnTo>
                  <a:pt x="63400" y="1400"/>
                </a:lnTo>
                <a:close/>
              </a:path>
              <a:path fill="darkenLess" w="64800" h="21600">
                <a:moveTo>
                  <a:pt x="64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400" y="20200"/>
                </a:lnTo>
                <a:close/>
              </a:path>
              <a:path fill="lighten" w="64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örlé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4716360" y="706320"/>
            <a:ext cx="647640" cy="216000"/>
          </a:xfrm>
          <a:custGeom>
            <a:avLst/>
            <a:gdLst>
              <a:gd name="textAreaLeft" fmla="*/ 13680 w 647640"/>
              <a:gd name="textAreaRight" fmla="*/ 633960 w 64764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64692" h="21600">
                <a:moveTo>
                  <a:pt x="0" y="0"/>
                </a:moveTo>
                <a:lnTo>
                  <a:pt x="64692" y="0"/>
                </a:lnTo>
                <a:lnTo>
                  <a:pt x="64692" y="21600"/>
                </a:lnTo>
                <a:lnTo>
                  <a:pt x="0" y="21600"/>
                </a:lnTo>
                <a:close/>
              </a:path>
              <a:path fill="lightenLess" w="64692" h="21600">
                <a:moveTo>
                  <a:pt x="0" y="0"/>
                </a:moveTo>
                <a:lnTo>
                  <a:pt x="64692" y="0"/>
                </a:lnTo>
                <a:lnTo>
                  <a:pt x="63292" y="1400"/>
                </a:lnTo>
                <a:lnTo>
                  <a:pt x="1400" y="1400"/>
                </a:lnTo>
                <a:close/>
              </a:path>
              <a:path fill="darken" w="64692" h="21600">
                <a:moveTo>
                  <a:pt x="64692" y="0"/>
                </a:moveTo>
                <a:lnTo>
                  <a:pt x="64692" y="21600"/>
                </a:lnTo>
                <a:lnTo>
                  <a:pt x="63292" y="20200"/>
                </a:lnTo>
                <a:lnTo>
                  <a:pt x="63292" y="1400"/>
                </a:lnTo>
                <a:close/>
              </a:path>
              <a:path fill="darkenLess" w="64692" h="21600">
                <a:moveTo>
                  <a:pt x="646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92" y="20200"/>
                </a:lnTo>
                <a:close/>
              </a:path>
              <a:path fill="lighten" w="646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sat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179280" y="1197000"/>
            <a:ext cx="1224000" cy="23112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56676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ngedély  szám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421280" y="1211400"/>
            <a:ext cx="1075320" cy="23112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56676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ngedély dátum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522520" y="1203480"/>
            <a:ext cx="792360" cy="36828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56676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Áru, szolgáltatá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3348000" y="1197000"/>
            <a:ext cx="797040" cy="23112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56676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lbérlő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5136840" y="1192320"/>
            <a:ext cx="730800" cy="36828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56676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lbérletbe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dott m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5886720" y="1197000"/>
            <a:ext cx="339120" cy="23112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56676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m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6360480" y="1201680"/>
            <a:ext cx="448920" cy="23112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56676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Érték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166320" y="1773360"/>
            <a:ext cx="1197360" cy="21564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b_szerz_egyedi_sza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71280" y="1700280"/>
            <a:ext cx="8893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1411200" y="1773360"/>
            <a:ext cx="1093680" cy="21564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b_szerz_egyedi_d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2563560" y="1773360"/>
            <a:ext cx="689760" cy="33732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b_aru_id</a:t>
            </a:r>
            <a:r>
              <a:rPr b="0" lang="hu-HU" sz="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arumegnev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3326760" y="1773360"/>
            <a:ext cx="875520" cy="21564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b_alberlo_nev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4363560" y="1773360"/>
            <a:ext cx="581400" cy="21564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b_nm_a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5058720" y="1773360"/>
            <a:ext cx="787320" cy="21564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b_mennyise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5874120" y="1774800"/>
            <a:ext cx="435240" cy="21564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b_m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6343200" y="1773360"/>
            <a:ext cx="528120" cy="33732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b_cikk_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erte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6935760" y="1773360"/>
            <a:ext cx="491760" cy="33732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b_afa_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szaz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7459920" y="1773360"/>
            <a:ext cx="610560" cy="33732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b_brutto_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erte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3356280" y="5300640"/>
            <a:ext cx="764280" cy="33732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b_fizetendo_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veg_d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6962760" y="320760"/>
            <a:ext cx="1727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900" spc="-1" strike="noStrike">
                <a:solidFill>
                  <a:srgbClr val="000000"/>
                </a:solidFill>
                <a:latin typeface="Arial"/>
              </a:rPr>
              <a:t>Tábla: nemlakas_szerz_tete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6877800" y="1198440"/>
            <a:ext cx="487080" cy="23112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56676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Áfa %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7380360" y="1197000"/>
            <a:ext cx="775080" cy="23112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56676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ruttó érték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74520" y="1192320"/>
            <a:ext cx="878760" cy="36828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56676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Érvényesség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vég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4212000" y="1212840"/>
            <a:ext cx="811800" cy="23112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56676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lap ár (m2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176040" y="2205000"/>
            <a:ext cx="1197360" cy="21564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b_szerz_egyedi_sza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420920" y="2205000"/>
            <a:ext cx="1093680" cy="21564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b_szerz_egyedi_d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3336480" y="2205000"/>
            <a:ext cx="875520" cy="21564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b_alberlo_nev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4373280" y="2205000"/>
            <a:ext cx="581400" cy="21564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b_nm_a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068080" y="2205000"/>
            <a:ext cx="787320" cy="21564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b_mennyise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5883840" y="2206800"/>
            <a:ext cx="435240" cy="21564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b_m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6352560" y="2205000"/>
            <a:ext cx="528120" cy="33732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b_cikk_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erte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6945480" y="2205000"/>
            <a:ext cx="491760" cy="33732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b_afa_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szaz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7469640" y="2205000"/>
            <a:ext cx="610560" cy="33732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b_brutto_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erte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8109360" y="2205000"/>
            <a:ext cx="764280" cy="33732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b_fizetendo_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veg_d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176040" y="2646360"/>
            <a:ext cx="1197360" cy="21564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b_szerz_egyedi_sza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1420920" y="2646360"/>
            <a:ext cx="1093680" cy="21564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b_szerz_egyedi_d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3357000" y="2637000"/>
            <a:ext cx="875520" cy="21564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b_alberlo_nev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4373280" y="2646360"/>
            <a:ext cx="581400" cy="21564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b_nm_a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5068080" y="2646360"/>
            <a:ext cx="787320" cy="21564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b_mennyise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5883840" y="2647800"/>
            <a:ext cx="435240" cy="21564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b_m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6352560" y="2646360"/>
            <a:ext cx="528120" cy="33732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b_cikk_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erte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6945480" y="2646360"/>
            <a:ext cx="491760" cy="33732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b_afa_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szaz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7469640" y="2646360"/>
            <a:ext cx="610560" cy="33732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b_brutto_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erte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8120520" y="2646360"/>
            <a:ext cx="764280" cy="33732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b_fizetendo_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veg_d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342720" y="3479760"/>
            <a:ext cx="1302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zerződés hivatkozá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1662120" y="3859200"/>
            <a:ext cx="1512720" cy="19692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b_szerz_egyedi_sza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337680" y="3840120"/>
            <a:ext cx="12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gyedi megállapodá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zám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4595760" y="3862440"/>
            <a:ext cx="1513080" cy="19692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b_szerz_egyedi_da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3274560" y="3790800"/>
            <a:ext cx="12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gyedi megállapodá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átum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588600" y="4183200"/>
            <a:ext cx="1032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Áru, szolgáltatá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1643040" y="4200480"/>
            <a:ext cx="1513080" cy="19692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b_aru_id</a:t>
            </a:r>
            <a:r>
              <a:rPr b="0" lang="hu-HU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aruk/id</a:t>
            </a:r>
            <a:r>
              <a:rPr b="0" lang="hu-HU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arumegnev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>
            <a:hlinkClick r:id="" action="ppaction://hlinkshowjump?jump=previousslide"/>
          </p:cNvPr>
          <p:cNvSpPr/>
          <p:nvPr/>
        </p:nvSpPr>
        <p:spPr>
          <a:xfrm rot="16200000">
            <a:off x="3016800" y="4185000"/>
            <a:ext cx="216000" cy="28764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87640"/>
              <a:gd name="textAreaBottom" fmla="*/ 273960 h 287640"/>
            </a:gdLst>
            <a:ahLst/>
            <a:rect l="textAreaLeft" t="textAreaTop" r="textAreaRight" b="textAreaBottom"/>
            <a:pathLst>
              <a:path w="21600" h="28752">
                <a:moveTo>
                  <a:pt x="0" y="0"/>
                </a:moveTo>
                <a:lnTo>
                  <a:pt x="21600" y="0"/>
                </a:lnTo>
                <a:lnTo>
                  <a:pt x="21600" y="28752"/>
                </a:lnTo>
                <a:lnTo>
                  <a:pt x="0" y="28752"/>
                </a:lnTo>
                <a:close/>
              </a:path>
              <a:path fill="lightenLess" w="21600" h="287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52">
                <a:moveTo>
                  <a:pt x="21600" y="0"/>
                </a:moveTo>
                <a:lnTo>
                  <a:pt x="21600" y="28752"/>
                </a:lnTo>
                <a:lnTo>
                  <a:pt x="20200" y="27352"/>
                </a:lnTo>
                <a:lnTo>
                  <a:pt x="20200" y="1400"/>
                </a:lnTo>
                <a:close/>
              </a:path>
              <a:path fill="darkenLess" w="21600" h="28752">
                <a:moveTo>
                  <a:pt x="21600" y="28752"/>
                </a:moveTo>
                <a:lnTo>
                  <a:pt x="0" y="28752"/>
                </a:lnTo>
                <a:lnTo>
                  <a:pt x="1400" y="27352"/>
                </a:lnTo>
                <a:lnTo>
                  <a:pt x="20200" y="27352"/>
                </a:lnTo>
                <a:close/>
              </a:path>
              <a:path fill="lighten" w="21600" h="28752">
                <a:moveTo>
                  <a:pt x="0" y="28752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52"/>
                </a:lnTo>
                <a:close/>
              </a:path>
              <a:path fill="darken" w="21600" h="28752">
                <a:moveTo>
                  <a:pt x="3794" y="14376"/>
                </a:moveTo>
                <a:lnTo>
                  <a:pt x="17806" y="7370"/>
                </a:lnTo>
                <a:lnTo>
                  <a:pt x="17806" y="21383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1650600" y="4581360"/>
            <a:ext cx="581400" cy="21564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b_nm_a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2851920" y="4581360"/>
            <a:ext cx="787320" cy="21564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b_mennyise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3682080" y="4587840"/>
            <a:ext cx="435240" cy="21564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b_m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4579200" y="4568760"/>
            <a:ext cx="528120" cy="337320"/>
          </a:xfrm>
          <a:prstGeom prst="rect">
            <a:avLst/>
          </a:prstGeom>
          <a:solidFill>
            <a:srgbClr val="bbe0e3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b_cikk_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erte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5541840" y="4565520"/>
            <a:ext cx="491760" cy="337320"/>
          </a:xfrm>
          <a:prstGeom prst="rect">
            <a:avLst/>
          </a:prstGeom>
          <a:solidFill>
            <a:srgbClr val="bbe0e3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b_afa_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szaz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1404720" y="4581360"/>
            <a:ext cx="295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Á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2241000" y="4532400"/>
            <a:ext cx="68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bérletb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iadott m2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6453360" y="4568760"/>
            <a:ext cx="491760" cy="337320"/>
          </a:xfrm>
          <a:prstGeom prst="rect">
            <a:avLst/>
          </a:prstGeom>
          <a:solidFill>
            <a:srgbClr val="bbe0e3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b_afa_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er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7337880" y="4559400"/>
            <a:ext cx="610560" cy="337320"/>
          </a:xfrm>
          <a:prstGeom prst="rect">
            <a:avLst/>
          </a:prstGeom>
          <a:solidFill>
            <a:srgbClr val="bbe0e3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b_brutto_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erte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4107600" y="4568760"/>
            <a:ext cx="48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ettó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érték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5101560" y="4584600"/>
            <a:ext cx="487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Áfa %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6039720" y="4568760"/>
            <a:ext cx="43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Áfa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érték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6877800" y="4575240"/>
            <a:ext cx="51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ruttó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érték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1692360" y="5013360"/>
            <a:ext cx="2374920" cy="21564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b_alberlo_nev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899280" y="5000760"/>
            <a:ext cx="820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lbérlő nev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4037040" y="4943520"/>
            <a:ext cx="120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érleti szerződése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zereplő albérleti díj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5219640" y="5013360"/>
            <a:ext cx="865080" cy="21564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b_alberleti_dij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1700640" y="5300640"/>
            <a:ext cx="764280" cy="33732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b_fizetendo_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kezdo_d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739800" y="5361120"/>
            <a:ext cx="1006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lbérlet kezde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2483640" y="5373720"/>
            <a:ext cx="852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lbérlet vég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324000" y="3213000"/>
            <a:ext cx="8351640" cy="259236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8109360" y="1778040"/>
            <a:ext cx="764280" cy="33732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b_fizetendo_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veg_d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2563560" y="2219400"/>
            <a:ext cx="689760" cy="33732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b_aru_id</a:t>
            </a:r>
            <a:r>
              <a:rPr b="0" lang="hu-HU" sz="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arumegnev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2563560" y="2651040"/>
            <a:ext cx="689760" cy="33732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b_aru_id</a:t>
            </a:r>
            <a:r>
              <a:rPr b="0" lang="hu-HU" sz="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arumegnev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1663560" y="3471840"/>
            <a:ext cx="2808360" cy="21600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b_szerzodes_szam, ugyfelnev,b_szerzodes_datu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"/>
          <p:cNvSpPr/>
          <p:nvPr/>
        </p:nvSpPr>
        <p:spPr>
          <a:xfrm>
            <a:off x="472680" y="453960"/>
            <a:ext cx="947160" cy="231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érbeszámítá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1619280" y="476280"/>
            <a:ext cx="647640" cy="216000"/>
          </a:xfrm>
          <a:custGeom>
            <a:avLst/>
            <a:gdLst>
              <a:gd name="textAreaLeft" fmla="*/ 13680 w 647640"/>
              <a:gd name="textAreaRight" fmla="*/ 633960 w 64764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64692" h="21600">
                <a:moveTo>
                  <a:pt x="0" y="0"/>
                </a:moveTo>
                <a:lnTo>
                  <a:pt x="64692" y="0"/>
                </a:lnTo>
                <a:lnTo>
                  <a:pt x="64692" y="21600"/>
                </a:lnTo>
                <a:lnTo>
                  <a:pt x="0" y="21600"/>
                </a:lnTo>
                <a:close/>
              </a:path>
              <a:path fill="lightenLess" w="64692" h="21600">
                <a:moveTo>
                  <a:pt x="0" y="0"/>
                </a:moveTo>
                <a:lnTo>
                  <a:pt x="64692" y="0"/>
                </a:lnTo>
                <a:lnTo>
                  <a:pt x="63292" y="1400"/>
                </a:lnTo>
                <a:lnTo>
                  <a:pt x="1400" y="1400"/>
                </a:lnTo>
                <a:close/>
              </a:path>
              <a:path fill="darken" w="64692" h="21600">
                <a:moveTo>
                  <a:pt x="64692" y="0"/>
                </a:moveTo>
                <a:lnTo>
                  <a:pt x="64692" y="21600"/>
                </a:lnTo>
                <a:lnTo>
                  <a:pt x="63292" y="20200"/>
                </a:lnTo>
                <a:lnTo>
                  <a:pt x="63292" y="1400"/>
                </a:lnTo>
                <a:close/>
              </a:path>
              <a:path fill="darkenLess" w="64692" h="21600">
                <a:moveTo>
                  <a:pt x="646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92" y="20200"/>
                </a:lnTo>
                <a:close/>
              </a:path>
              <a:path fill="lighten" w="646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Új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2376360" y="468360"/>
            <a:ext cx="648000" cy="216000"/>
          </a:xfrm>
          <a:custGeom>
            <a:avLst/>
            <a:gdLst>
              <a:gd name="textAreaLeft" fmla="*/ 13680 w 648000"/>
              <a:gd name="textAreaRight" fmla="*/ 634320 w 64800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64728" h="21600">
                <a:moveTo>
                  <a:pt x="0" y="0"/>
                </a:moveTo>
                <a:lnTo>
                  <a:pt x="64728" y="0"/>
                </a:lnTo>
                <a:lnTo>
                  <a:pt x="64728" y="21600"/>
                </a:lnTo>
                <a:lnTo>
                  <a:pt x="0" y="21600"/>
                </a:lnTo>
                <a:close/>
              </a:path>
              <a:path fill="lightenLess" w="64728" h="21600">
                <a:moveTo>
                  <a:pt x="0" y="0"/>
                </a:moveTo>
                <a:lnTo>
                  <a:pt x="64728" y="0"/>
                </a:lnTo>
                <a:lnTo>
                  <a:pt x="63328" y="1400"/>
                </a:lnTo>
                <a:lnTo>
                  <a:pt x="1400" y="1400"/>
                </a:lnTo>
                <a:close/>
              </a:path>
              <a:path fill="darken" w="64728" h="21600">
                <a:moveTo>
                  <a:pt x="64728" y="0"/>
                </a:moveTo>
                <a:lnTo>
                  <a:pt x="64728" y="21600"/>
                </a:lnTo>
                <a:lnTo>
                  <a:pt x="63328" y="20200"/>
                </a:lnTo>
                <a:lnTo>
                  <a:pt x="63328" y="1400"/>
                </a:lnTo>
                <a:close/>
              </a:path>
              <a:path fill="darkenLess" w="64728" h="21600">
                <a:moveTo>
                  <a:pt x="647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28" y="20200"/>
                </a:lnTo>
                <a:close/>
              </a:path>
              <a:path fill="lighten" w="647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ndb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3095640" y="468360"/>
            <a:ext cx="647640" cy="216000"/>
          </a:xfrm>
          <a:custGeom>
            <a:avLst/>
            <a:gdLst>
              <a:gd name="textAreaLeft" fmla="*/ 13680 w 647640"/>
              <a:gd name="textAreaRight" fmla="*/ 633960 w 64764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64692" h="21600">
                <a:moveTo>
                  <a:pt x="0" y="0"/>
                </a:moveTo>
                <a:lnTo>
                  <a:pt x="64692" y="0"/>
                </a:lnTo>
                <a:lnTo>
                  <a:pt x="64692" y="21600"/>
                </a:lnTo>
                <a:lnTo>
                  <a:pt x="0" y="21600"/>
                </a:lnTo>
                <a:close/>
              </a:path>
              <a:path fill="lightenLess" w="64692" h="21600">
                <a:moveTo>
                  <a:pt x="0" y="0"/>
                </a:moveTo>
                <a:lnTo>
                  <a:pt x="64692" y="0"/>
                </a:lnTo>
                <a:lnTo>
                  <a:pt x="63292" y="1400"/>
                </a:lnTo>
                <a:lnTo>
                  <a:pt x="1400" y="1400"/>
                </a:lnTo>
                <a:close/>
              </a:path>
              <a:path fill="darken" w="64692" h="21600">
                <a:moveTo>
                  <a:pt x="64692" y="0"/>
                </a:moveTo>
                <a:lnTo>
                  <a:pt x="64692" y="21600"/>
                </a:lnTo>
                <a:lnTo>
                  <a:pt x="63292" y="20200"/>
                </a:lnTo>
                <a:lnTo>
                  <a:pt x="63292" y="1400"/>
                </a:lnTo>
                <a:close/>
              </a:path>
              <a:path fill="darkenLess" w="64692" h="21600">
                <a:moveTo>
                  <a:pt x="646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92" y="20200"/>
                </a:lnTo>
                <a:close/>
              </a:path>
              <a:path fill="lighten" w="646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égse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816360" y="468360"/>
            <a:ext cx="647640" cy="216000"/>
          </a:xfrm>
          <a:custGeom>
            <a:avLst/>
            <a:gdLst>
              <a:gd name="textAreaLeft" fmla="*/ 13680 w 647640"/>
              <a:gd name="textAreaRight" fmla="*/ 633960 w 64764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64692" h="21600">
                <a:moveTo>
                  <a:pt x="0" y="0"/>
                </a:moveTo>
                <a:lnTo>
                  <a:pt x="64692" y="0"/>
                </a:lnTo>
                <a:lnTo>
                  <a:pt x="64692" y="21600"/>
                </a:lnTo>
                <a:lnTo>
                  <a:pt x="0" y="21600"/>
                </a:lnTo>
                <a:close/>
              </a:path>
              <a:path fill="lightenLess" w="64692" h="21600">
                <a:moveTo>
                  <a:pt x="0" y="0"/>
                </a:moveTo>
                <a:lnTo>
                  <a:pt x="64692" y="0"/>
                </a:lnTo>
                <a:lnTo>
                  <a:pt x="63292" y="1400"/>
                </a:lnTo>
                <a:lnTo>
                  <a:pt x="1400" y="1400"/>
                </a:lnTo>
                <a:close/>
              </a:path>
              <a:path fill="darken" w="64692" h="21600">
                <a:moveTo>
                  <a:pt x="64692" y="0"/>
                </a:moveTo>
                <a:lnTo>
                  <a:pt x="64692" y="21600"/>
                </a:lnTo>
                <a:lnTo>
                  <a:pt x="63292" y="20200"/>
                </a:lnTo>
                <a:lnTo>
                  <a:pt x="63292" y="1400"/>
                </a:lnTo>
                <a:close/>
              </a:path>
              <a:path fill="darkenLess" w="64692" h="21600">
                <a:moveTo>
                  <a:pt x="646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92" y="20200"/>
                </a:lnTo>
                <a:close/>
              </a:path>
              <a:path fill="lighten" w="646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örlé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4572000" y="466560"/>
            <a:ext cx="647640" cy="216000"/>
          </a:xfrm>
          <a:custGeom>
            <a:avLst/>
            <a:gdLst>
              <a:gd name="textAreaLeft" fmla="*/ 13680 w 647640"/>
              <a:gd name="textAreaRight" fmla="*/ 633960 w 64764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64692" h="21600">
                <a:moveTo>
                  <a:pt x="0" y="0"/>
                </a:moveTo>
                <a:lnTo>
                  <a:pt x="64692" y="0"/>
                </a:lnTo>
                <a:lnTo>
                  <a:pt x="64692" y="21600"/>
                </a:lnTo>
                <a:lnTo>
                  <a:pt x="0" y="21600"/>
                </a:lnTo>
                <a:close/>
              </a:path>
              <a:path fill="lightenLess" w="64692" h="21600">
                <a:moveTo>
                  <a:pt x="0" y="0"/>
                </a:moveTo>
                <a:lnTo>
                  <a:pt x="64692" y="0"/>
                </a:lnTo>
                <a:lnTo>
                  <a:pt x="63292" y="1400"/>
                </a:lnTo>
                <a:lnTo>
                  <a:pt x="1400" y="1400"/>
                </a:lnTo>
                <a:close/>
              </a:path>
              <a:path fill="darken" w="64692" h="21600">
                <a:moveTo>
                  <a:pt x="64692" y="0"/>
                </a:moveTo>
                <a:lnTo>
                  <a:pt x="64692" y="21600"/>
                </a:lnTo>
                <a:lnTo>
                  <a:pt x="63292" y="20200"/>
                </a:lnTo>
                <a:lnTo>
                  <a:pt x="63292" y="1400"/>
                </a:lnTo>
                <a:close/>
              </a:path>
              <a:path fill="darkenLess" w="64692" h="21600">
                <a:moveTo>
                  <a:pt x="646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92" y="20200"/>
                </a:lnTo>
                <a:close/>
              </a:path>
              <a:path fill="lighten" w="646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sat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25560" y="1225440"/>
            <a:ext cx="1223640" cy="23112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56676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ngedély  szám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1257840" y="1230480"/>
            <a:ext cx="1075320" cy="23112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56676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ngedély dátum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2340000" y="1241280"/>
            <a:ext cx="1440000" cy="23112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56676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érbeszámítás kezde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3790800" y="1236600"/>
            <a:ext cx="1295640" cy="23112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56676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érbeszámítás vég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5987160" y="1216080"/>
            <a:ext cx="1081440" cy="23112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56676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érbeszámítás %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7094880" y="1206360"/>
            <a:ext cx="872640" cy="23112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56676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avi összeg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0120" y="1773360"/>
            <a:ext cx="1197360" cy="21564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b_szerz_egyedi_sza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71280" y="1700280"/>
            <a:ext cx="8893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1287360" y="1773360"/>
            <a:ext cx="1093680" cy="21564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b_szerz_egyedi_d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2411280" y="1773360"/>
            <a:ext cx="1368720" cy="21564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b_fizetendo_kezdo_d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5063040" y="1773360"/>
            <a:ext cx="1014480" cy="33732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b_berbeszamitas_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osszes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6125400" y="1773360"/>
            <a:ext cx="1014480" cy="33732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b_berbeszamitas_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szaz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7164360" y="1773360"/>
            <a:ext cx="827280" cy="21564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b_nm_a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7970040" y="1198440"/>
            <a:ext cx="1005120" cy="23112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56676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radványérték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5094000" y="1225440"/>
            <a:ext cx="886320" cy="23112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56676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eljes össze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8065080" y="1782720"/>
            <a:ext cx="1014480" cy="33732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b_berbeszamitas_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maradvan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3851280" y="1773360"/>
            <a:ext cx="1127160" cy="21564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b_fizetendo_veg_d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41040" y="2224080"/>
            <a:ext cx="1197360" cy="21564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b_szerz_egyedi_sza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1268280" y="2224080"/>
            <a:ext cx="1093680" cy="21564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b_szerz_egyedi_d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2392200" y="2224080"/>
            <a:ext cx="1368720" cy="21564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b_fizetendo_kezdo_d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5044320" y="2224080"/>
            <a:ext cx="1014480" cy="33732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b_berbeszamitas_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osszes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6106320" y="2224080"/>
            <a:ext cx="1014480" cy="33732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b_berbeszamitas_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szaz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8046000" y="2233440"/>
            <a:ext cx="1014480" cy="33732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b_berbeszamitas_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maradvan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3832200" y="2224080"/>
            <a:ext cx="1127160" cy="21564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b_fizetendo_veg_d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34560" y="2631960"/>
            <a:ext cx="1197360" cy="21564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b_szerz_egyedi_sza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1262160" y="2631960"/>
            <a:ext cx="1093680" cy="21564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b_szerz_egyedi_d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2386080" y="2631960"/>
            <a:ext cx="1368360" cy="21564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b_fizetendo_kezdo_d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5037840" y="2631960"/>
            <a:ext cx="1014480" cy="33732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b_berbeszamitas_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osszes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6099840" y="2631960"/>
            <a:ext cx="1014480" cy="33732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b_berbeszamitas_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szaz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8039880" y="2641680"/>
            <a:ext cx="1014480" cy="33732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b_berbeszamitas_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maradvan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3825720" y="2631960"/>
            <a:ext cx="1127160" cy="21564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b_fizetendo_veg_d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4283280" y="4869000"/>
            <a:ext cx="764280" cy="33732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b_fizetendo_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veg_d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342720" y="3479760"/>
            <a:ext cx="1302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zerződés hivatkozá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1662120" y="3859200"/>
            <a:ext cx="1512720" cy="19692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b_szerz_egyedi_sza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337680" y="3840120"/>
            <a:ext cx="12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gyedi megállapodá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zám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4282920" y="3860640"/>
            <a:ext cx="1513080" cy="19692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b_szerz_egyedi_da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3260160" y="3765600"/>
            <a:ext cx="897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gyedi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egállapodá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átum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1181880" y="4183200"/>
            <a:ext cx="404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ikk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1643040" y="4200480"/>
            <a:ext cx="1513080" cy="19692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b_aru_id</a:t>
            </a:r>
            <a:r>
              <a:rPr b="0" lang="hu-HU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aruk/id</a:t>
            </a:r>
            <a:r>
              <a:rPr b="0" lang="hu-HU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cikkmegnev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>
            <a:hlinkClick r:id="" action="ppaction://hlinkshowjump?jump=previousslide"/>
          </p:cNvPr>
          <p:cNvSpPr/>
          <p:nvPr/>
        </p:nvSpPr>
        <p:spPr>
          <a:xfrm rot="16200000">
            <a:off x="3016800" y="4185000"/>
            <a:ext cx="216000" cy="28764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87640"/>
              <a:gd name="textAreaBottom" fmla="*/ 273960 h 287640"/>
            </a:gdLst>
            <a:ahLst/>
            <a:rect l="textAreaLeft" t="textAreaTop" r="textAreaRight" b="textAreaBottom"/>
            <a:pathLst>
              <a:path w="21600" h="28752">
                <a:moveTo>
                  <a:pt x="0" y="0"/>
                </a:moveTo>
                <a:lnTo>
                  <a:pt x="21600" y="0"/>
                </a:lnTo>
                <a:lnTo>
                  <a:pt x="21600" y="28752"/>
                </a:lnTo>
                <a:lnTo>
                  <a:pt x="0" y="28752"/>
                </a:lnTo>
                <a:close/>
              </a:path>
              <a:path fill="lightenLess" w="21600" h="287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52">
                <a:moveTo>
                  <a:pt x="21600" y="0"/>
                </a:moveTo>
                <a:lnTo>
                  <a:pt x="21600" y="28752"/>
                </a:lnTo>
                <a:lnTo>
                  <a:pt x="20200" y="27352"/>
                </a:lnTo>
                <a:lnTo>
                  <a:pt x="20200" y="1400"/>
                </a:lnTo>
                <a:close/>
              </a:path>
              <a:path fill="darkenLess" w="21600" h="28752">
                <a:moveTo>
                  <a:pt x="21600" y="28752"/>
                </a:moveTo>
                <a:lnTo>
                  <a:pt x="0" y="28752"/>
                </a:lnTo>
                <a:lnTo>
                  <a:pt x="1400" y="27352"/>
                </a:lnTo>
                <a:lnTo>
                  <a:pt x="20200" y="27352"/>
                </a:lnTo>
                <a:close/>
              </a:path>
              <a:path fill="lighten" w="21600" h="28752">
                <a:moveTo>
                  <a:pt x="0" y="28752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52"/>
                </a:lnTo>
                <a:close/>
              </a:path>
              <a:path fill="darken" w="21600" h="28752">
                <a:moveTo>
                  <a:pt x="3794" y="14376"/>
                </a:moveTo>
                <a:lnTo>
                  <a:pt x="17806" y="7370"/>
                </a:lnTo>
                <a:lnTo>
                  <a:pt x="17806" y="21383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6403680" y="4594320"/>
            <a:ext cx="581400" cy="21564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b_nm_a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4279680" y="4594320"/>
            <a:ext cx="1226160" cy="21564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b_berbeszamitas_szaz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8014320" y="4592520"/>
            <a:ext cx="1014480" cy="33732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b_berbeszamitas_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maradvan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5507640" y="4591080"/>
            <a:ext cx="808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avi össze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6998400" y="4605480"/>
            <a:ext cx="10371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radványérték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3202560" y="4581360"/>
            <a:ext cx="1081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érbeszámítás %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1692360" y="4594320"/>
            <a:ext cx="1584360" cy="21564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b_berbeszamitas_osszes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302040" y="4581360"/>
            <a:ext cx="140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érbeszámítás összeg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1700640" y="4881600"/>
            <a:ext cx="764280" cy="33732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b_fizetendo_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kezdo_d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329400" y="4941720"/>
            <a:ext cx="138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érbeszámítás kezde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3008160" y="4956120"/>
            <a:ext cx="1229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érbeszámítás vég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395280" y="3213000"/>
            <a:ext cx="8640720" cy="259236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7155000" y="2249640"/>
            <a:ext cx="826920" cy="21564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b_nm_a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7164360" y="2662200"/>
            <a:ext cx="827280" cy="21564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b_nm_a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1692360" y="3429000"/>
            <a:ext cx="2808360" cy="21600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b_szerzodes_szam, ugyfelnev,b_szerzodes_datu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5T05:59:13Z</dcterms:created>
  <dc:creator>Mariann</dc:creator>
  <dc:description/>
  <dc:language>en-US</dc:language>
  <cp:lastModifiedBy>Mariann</cp:lastModifiedBy>
  <dcterms:modified xsi:type="dcterms:W3CDTF">2013-08-30T05:29:36Z</dcterms:modified>
  <cp:revision>38</cp:revision>
  <dc:subject/>
  <dc:title>1. dia</dc:title>
</cp:coreProperties>
</file>